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24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00.jpg"/>
          <p:cNvPicPr/>
          <p:nvPr/>
        </p:nvPicPr>
        <p:blipFill>
          <a:blip r:embed="rId2"/>
          <a:stretch/>
        </p:blipFill>
        <p:spPr>
          <a:xfrm>
            <a:off x="203040" y="231840"/>
            <a:ext cx="8737920" cy="468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组合 3"/>
          <p:cNvGrpSpPr/>
          <p:nvPr/>
        </p:nvGrpSpPr>
        <p:grpSpPr>
          <a:xfrm>
            <a:off x="76320" y="3822840"/>
            <a:ext cx="8977320" cy="1114200"/>
            <a:chOff x="76320" y="3822840"/>
            <a:chExt cx="8977320" cy="1114200"/>
          </a:xfrm>
        </p:grpSpPr>
        <p:sp>
          <p:nvSpPr>
            <p:cNvPr id="38" name="任意多边形 4"/>
            <p:cNvSpPr/>
            <p:nvPr/>
          </p:nvSpPr>
          <p:spPr>
            <a:xfrm>
              <a:off x="6651000" y="3951720"/>
              <a:ext cx="2402640" cy="985320"/>
            </a:xfrm>
            <a:custGeom>
              <a:avLst/>
              <a:gdLst>
                <a:gd name="textAreaLeft" fmla="*/ 0 w 2402640"/>
                <a:gd name="textAreaRight" fmla="*/ 2403000 w 24026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5"/>
            <p:cNvSpPr/>
            <p:nvPr/>
          </p:nvSpPr>
          <p:spPr>
            <a:xfrm>
              <a:off x="6894360" y="4244760"/>
              <a:ext cx="604440" cy="35856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6"/>
            <p:cNvSpPr/>
            <p:nvPr/>
          </p:nvSpPr>
          <p:spPr>
            <a:xfrm>
              <a:off x="4954320" y="3885840"/>
              <a:ext cx="1694160" cy="94968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7"/>
            <p:cNvSpPr/>
            <p:nvPr/>
          </p:nvSpPr>
          <p:spPr>
            <a:xfrm>
              <a:off x="4651920" y="3893040"/>
              <a:ext cx="1152720" cy="8866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8"/>
            <p:cNvSpPr/>
            <p:nvPr/>
          </p:nvSpPr>
          <p:spPr>
            <a:xfrm>
              <a:off x="76320" y="4019760"/>
              <a:ext cx="4624920" cy="844560"/>
            </a:xfrm>
            <a:custGeom>
              <a:avLst/>
              <a:gdLst>
                <a:gd name="textAreaLeft" fmla="*/ 0 w 4624920"/>
                <a:gd name="textAreaRight" fmla="*/ 4625280 w 46249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4177700" h="762222">
                  <a:moveTo>
                    <a:pt x="4177700" y="82550"/>
                  </a:moveTo>
                  <a:lnTo>
                    <a:pt x="3726850" y="285750"/>
                  </a:lnTo>
                  <a:lnTo>
                    <a:pt x="3784000" y="349250"/>
                  </a:lnTo>
                  <a:lnTo>
                    <a:pt x="3784000" y="558800"/>
                  </a:lnTo>
                  <a:lnTo>
                    <a:pt x="3453800" y="558800"/>
                  </a:lnTo>
                  <a:lnTo>
                    <a:pt x="3453800" y="349250"/>
                  </a:lnTo>
                  <a:lnTo>
                    <a:pt x="3530000" y="292100"/>
                  </a:lnTo>
                  <a:lnTo>
                    <a:pt x="3015650" y="63500"/>
                  </a:lnTo>
                  <a:lnTo>
                    <a:pt x="2971200" y="95250"/>
                  </a:lnTo>
                  <a:lnTo>
                    <a:pt x="2844200" y="38100"/>
                  </a:lnTo>
                  <a:lnTo>
                    <a:pt x="2844200" y="406400"/>
                  </a:lnTo>
                  <a:lnTo>
                    <a:pt x="2469550" y="406400"/>
                  </a:lnTo>
                  <a:lnTo>
                    <a:pt x="2469550" y="177800"/>
                  </a:lnTo>
                  <a:lnTo>
                    <a:pt x="2539400" y="133350"/>
                  </a:lnTo>
                  <a:lnTo>
                    <a:pt x="2164750" y="0"/>
                  </a:lnTo>
                  <a:lnTo>
                    <a:pt x="1393611" y="225011"/>
                  </a:lnTo>
                  <a:lnTo>
                    <a:pt x="1479807" y="301066"/>
                  </a:lnTo>
                  <a:cubicBezTo>
                    <a:pt x="1480652" y="360220"/>
                    <a:pt x="1481498" y="419373"/>
                    <a:pt x="1482343" y="478527"/>
                  </a:cubicBezTo>
                  <a:lnTo>
                    <a:pt x="0" y="762222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9"/>
            <p:cNvSpPr/>
            <p:nvPr/>
          </p:nvSpPr>
          <p:spPr>
            <a:xfrm>
              <a:off x="2754000" y="3822840"/>
              <a:ext cx="716760" cy="30240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Box 11"/>
          <p:cNvSpPr/>
          <p:nvPr/>
        </p:nvSpPr>
        <p:spPr>
          <a:xfrm>
            <a:off x="27003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5877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44766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3640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2790720" y="189072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适用于各大高校毕业答辩演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1763640" y="2158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请在这里输入论文的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3946680" y="2782800"/>
            <a:ext cx="1250640" cy="398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8"/>
          <p:cNvSpPr/>
          <p:nvPr/>
        </p:nvSpPr>
        <p:spPr>
          <a:xfrm>
            <a:off x="2790720" y="318600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答辩人：代用名      导师：代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9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98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06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5"/>
          <p:cNvGrpSpPr/>
          <p:nvPr/>
        </p:nvGrpSpPr>
        <p:grpSpPr>
          <a:xfrm>
            <a:off x="1234080" y="1906920"/>
            <a:ext cx="2012760" cy="2012400"/>
            <a:chOff x="1234080" y="1906920"/>
            <a:chExt cx="2012760" cy="2012400"/>
          </a:xfrm>
        </p:grpSpPr>
        <p:sp>
          <p:nvSpPr>
            <p:cNvPr id="310" name="圆角矩形 6"/>
            <p:cNvSpPr/>
            <p:nvPr/>
          </p:nvSpPr>
          <p:spPr>
            <a:xfrm rot="2700000">
              <a:off x="1529280" y="2201040"/>
              <a:ext cx="1422360" cy="1423800"/>
            </a:xfrm>
            <a:custGeom>
              <a:avLst/>
              <a:gdLst>
                <a:gd name="textAreaLeft" fmla="*/ 69120 w 1422360"/>
                <a:gd name="textAreaRight" fmla="*/ 1353240 w 1422360"/>
                <a:gd name="textAreaTop" fmla="*/ 69120 h 1423800"/>
                <a:gd name="textAreaBottom" fmla="*/ 1354680 h 1423800"/>
              </a:gdLst>
              <a:ahLst/>
              <a:rect l="textAreaLeft" t="textAreaTop" r="textAreaRight" b="textAreaBottom"/>
              <a:pathLst>
                <a:path w="21600" h="21622">
                  <a:moveTo>
                    <a:pt x="3600" y="0"/>
                  </a:moveTo>
                  <a:arcTo wR="3600" hR="3600" stAng="16200000" swAng="-5400000"/>
                  <a:lnTo>
                    <a:pt x="0" y="18022"/>
                  </a:lnTo>
                  <a:arcTo wR="3600" hR="3600" stAng="10800000" swAng="-5400000"/>
                  <a:lnTo>
                    <a:pt x="18000" y="21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图文框 35"/>
            <p:cNvSpPr/>
            <p:nvPr/>
          </p:nvSpPr>
          <p:spPr>
            <a:xfrm>
              <a:off x="1933200" y="2620440"/>
              <a:ext cx="649080" cy="60156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8"/>
          <p:cNvGrpSpPr/>
          <p:nvPr/>
        </p:nvGrpSpPr>
        <p:grpSpPr>
          <a:xfrm>
            <a:off x="2833560" y="1894680"/>
            <a:ext cx="935280" cy="934920"/>
            <a:chOff x="2833560" y="1894680"/>
            <a:chExt cx="935280" cy="934920"/>
          </a:xfrm>
        </p:grpSpPr>
        <p:sp>
          <p:nvSpPr>
            <p:cNvPr id="313" name="圆角矩形 9"/>
            <p:cNvSpPr/>
            <p:nvPr/>
          </p:nvSpPr>
          <p:spPr>
            <a:xfrm rot="2700000">
              <a:off x="2970720" y="2031120"/>
              <a:ext cx="660600" cy="661680"/>
            </a:xfrm>
            <a:custGeom>
              <a:avLst/>
              <a:gdLst>
                <a:gd name="textAreaLeft" fmla="*/ 32040 w 660600"/>
                <a:gd name="textAreaRight" fmla="*/ 628560 w 660600"/>
                <a:gd name="textAreaTop" fmla="*/ 32040 h 661680"/>
                <a:gd name="textAreaBottom" fmla="*/ 629640 h 66168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16"/>
            <p:cNvSpPr/>
            <p:nvPr/>
          </p:nvSpPr>
          <p:spPr>
            <a:xfrm rot="16200000">
              <a:off x="3103560" y="2163960"/>
              <a:ext cx="394920" cy="3956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3350520" y="2251440"/>
            <a:ext cx="1323360" cy="1323360"/>
            <a:chOff x="3350520" y="2251440"/>
            <a:chExt cx="1323360" cy="1323360"/>
          </a:xfrm>
        </p:grpSpPr>
        <p:sp>
          <p:nvSpPr>
            <p:cNvPr id="316" name="圆角矩形 12"/>
            <p:cNvSpPr/>
            <p:nvPr/>
          </p:nvSpPr>
          <p:spPr>
            <a:xfrm rot="2700000">
              <a:off x="3543480" y="2445480"/>
              <a:ext cx="936720" cy="93492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30"/>
            <p:cNvSpPr/>
            <p:nvPr/>
          </p:nvSpPr>
          <p:spPr>
            <a:xfrm>
              <a:off x="3736080" y="2636280"/>
              <a:ext cx="552240" cy="5533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944830" h="944830">
                  <a:moveTo>
                    <a:pt x="472415" y="0"/>
                  </a:moveTo>
                  <a:lnTo>
                    <a:pt x="646674" y="174258"/>
                  </a:lnTo>
                  <a:cubicBezTo>
                    <a:pt x="660469" y="126985"/>
                    <a:pt x="704464" y="93179"/>
                    <a:pt x="756355" y="93179"/>
                  </a:cubicBezTo>
                  <a:cubicBezTo>
                    <a:pt x="820926" y="93179"/>
                    <a:pt x="873272" y="145525"/>
                    <a:pt x="873272" y="210096"/>
                  </a:cubicBezTo>
                  <a:cubicBezTo>
                    <a:pt x="873272" y="261987"/>
                    <a:pt x="839466" y="305983"/>
                    <a:pt x="792193" y="319778"/>
                  </a:cubicBezTo>
                  <a:lnTo>
                    <a:pt x="944830" y="472415"/>
                  </a:lnTo>
                  <a:lnTo>
                    <a:pt x="787583" y="629662"/>
                  </a:lnTo>
                  <a:cubicBezTo>
                    <a:pt x="768788" y="595026"/>
                    <a:pt x="731782" y="572630"/>
                    <a:pt x="689546" y="572630"/>
                  </a:cubicBezTo>
                  <a:cubicBezTo>
                    <a:pt x="624975" y="572630"/>
                    <a:pt x="572629" y="624976"/>
                    <a:pt x="572629" y="689547"/>
                  </a:cubicBezTo>
                  <a:cubicBezTo>
                    <a:pt x="572629" y="731783"/>
                    <a:pt x="595025" y="768788"/>
                    <a:pt x="629662" y="787584"/>
                  </a:cubicBezTo>
                  <a:lnTo>
                    <a:pt x="472415" y="944830"/>
                  </a:lnTo>
                  <a:lnTo>
                    <a:pt x="315169" y="787584"/>
                  </a:lnTo>
                  <a:cubicBezTo>
                    <a:pt x="349805" y="768788"/>
                    <a:pt x="372201" y="731783"/>
                    <a:pt x="372201" y="689547"/>
                  </a:cubicBezTo>
                  <a:cubicBezTo>
                    <a:pt x="372201" y="624976"/>
                    <a:pt x="319855" y="572630"/>
                    <a:pt x="255284" y="572630"/>
                  </a:cubicBezTo>
                  <a:cubicBezTo>
                    <a:pt x="213048" y="572630"/>
                    <a:pt x="176043" y="595026"/>
                    <a:pt x="157247" y="629662"/>
                  </a:cubicBezTo>
                  <a:lnTo>
                    <a:pt x="0" y="472415"/>
                  </a:lnTo>
                  <a:lnTo>
                    <a:pt x="152637" y="319778"/>
                  </a:lnTo>
                  <a:cubicBezTo>
                    <a:pt x="105363" y="305983"/>
                    <a:pt x="71557" y="261987"/>
                    <a:pt x="71557" y="210096"/>
                  </a:cubicBezTo>
                  <a:cubicBezTo>
                    <a:pt x="71557" y="145525"/>
                    <a:pt x="123903" y="93179"/>
                    <a:pt x="188474" y="93179"/>
                  </a:cubicBezTo>
                  <a:cubicBezTo>
                    <a:pt x="240365" y="93179"/>
                    <a:pt x="284362" y="126985"/>
                    <a:pt x="298156" y="174259"/>
                  </a:cubicBezTo>
                  <a:lnTo>
                    <a:pt x="4724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4"/>
          <p:cNvSpPr/>
          <p:nvPr/>
        </p:nvSpPr>
        <p:spPr>
          <a:xfrm>
            <a:off x="5029200" y="177480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2"/>
          <p:cNvSpPr/>
          <p:nvPr/>
        </p:nvSpPr>
        <p:spPr>
          <a:xfrm>
            <a:off x="4809960" y="1819440"/>
            <a:ext cx="19080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5029200" y="272088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2"/>
          <p:cNvSpPr/>
          <p:nvPr/>
        </p:nvSpPr>
        <p:spPr>
          <a:xfrm>
            <a:off x="4809960" y="2765520"/>
            <a:ext cx="19080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5029200" y="363852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4809960" y="3683160"/>
            <a:ext cx="19080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20"/>
          <p:cNvGrpSpPr/>
          <p:nvPr/>
        </p:nvGrpSpPr>
        <p:grpSpPr>
          <a:xfrm>
            <a:off x="2833200" y="2982240"/>
            <a:ext cx="936000" cy="936000"/>
            <a:chOff x="2833200" y="2982240"/>
            <a:chExt cx="936000" cy="936000"/>
          </a:xfrm>
        </p:grpSpPr>
        <p:sp>
          <p:nvSpPr>
            <p:cNvPr id="325" name="圆角矩形 21"/>
            <p:cNvSpPr/>
            <p:nvPr/>
          </p:nvSpPr>
          <p:spPr>
            <a:xfrm rot="2700000">
              <a:off x="2970000" y="3119400"/>
              <a:ext cx="662040" cy="661680"/>
            </a:xfrm>
            <a:prstGeom prst="roundRect">
              <a:avLst>
                <a:gd name="adj" fmla="val 16667"/>
              </a:avLst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68"/>
            <p:cNvSpPr/>
            <p:nvPr/>
          </p:nvSpPr>
          <p:spPr>
            <a:xfrm>
              <a:off x="3110400" y="3327480"/>
              <a:ext cx="381240" cy="2458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29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36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37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与框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5"/>
          <p:cNvGrpSpPr/>
          <p:nvPr/>
        </p:nvGrpSpPr>
        <p:grpSpPr>
          <a:xfrm>
            <a:off x="1382760" y="1708200"/>
            <a:ext cx="1439640" cy="2519280"/>
            <a:chOff x="1382760" y="1708200"/>
            <a:chExt cx="1439640" cy="2519280"/>
          </a:xfrm>
        </p:grpSpPr>
        <p:sp>
          <p:nvSpPr>
            <p:cNvPr id="341" name="矩形 6"/>
            <p:cNvSpPr/>
            <p:nvPr/>
          </p:nvSpPr>
          <p:spPr>
            <a:xfrm>
              <a:off x="1382760" y="1708200"/>
              <a:ext cx="1439640" cy="2519280"/>
            </a:xfrm>
            <a:prstGeom prst="rect">
              <a:avLst/>
            </a:prstGeom>
            <a:noFill/>
            <a:ln w="12600">
              <a:solidFill>
                <a:srgbClr val="4890a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7"/>
            <p:cNvSpPr/>
            <p:nvPr/>
          </p:nvSpPr>
          <p:spPr>
            <a:xfrm>
              <a:off x="1382760" y="2931840"/>
              <a:ext cx="14396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890a8"/>
                  </a:solidFill>
                  <a:latin typeface="微软雅黑"/>
                  <a:ea typeface="微软雅黑"/>
                </a:rPr>
                <a:t>理论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8"/>
            <p:cNvSpPr/>
            <p:nvPr/>
          </p:nvSpPr>
          <p:spPr>
            <a:xfrm>
              <a:off x="1742400" y="2067840"/>
              <a:ext cx="719640" cy="719640"/>
            </a:xfrm>
            <a:prstGeom prst="ellipse">
              <a:avLst/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68" descr=""/>
            <p:cNvPicPr/>
            <p:nvPr/>
          </p:nvPicPr>
          <p:blipFill>
            <a:blip r:embed="rId2"/>
            <a:stretch/>
          </p:blipFill>
          <p:spPr>
            <a:xfrm>
              <a:off x="1850760" y="2216880"/>
              <a:ext cx="447120" cy="45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组合 10"/>
          <p:cNvGrpSpPr/>
          <p:nvPr/>
        </p:nvGrpSpPr>
        <p:grpSpPr>
          <a:xfrm>
            <a:off x="3043080" y="1708200"/>
            <a:ext cx="1440000" cy="2519280"/>
            <a:chOff x="3043080" y="1708200"/>
            <a:chExt cx="1440000" cy="2519280"/>
          </a:xfrm>
        </p:grpSpPr>
        <p:sp>
          <p:nvSpPr>
            <p:cNvPr id="346" name="矩形 11"/>
            <p:cNvSpPr/>
            <p:nvPr/>
          </p:nvSpPr>
          <p:spPr>
            <a:xfrm>
              <a:off x="3043080" y="1708200"/>
              <a:ext cx="1440000" cy="2519280"/>
            </a:xfrm>
            <a:prstGeom prst="rect">
              <a:avLst/>
            </a:prstGeom>
            <a:noFill/>
            <a:ln w="12600">
              <a:solidFill>
                <a:srgbClr val="18486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2"/>
            <p:cNvSpPr/>
            <p:nvPr/>
          </p:nvSpPr>
          <p:spPr>
            <a:xfrm>
              <a:off x="3043080" y="2931840"/>
              <a:ext cx="144000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4860"/>
                  </a:solidFill>
                  <a:latin typeface="微软雅黑"/>
                  <a:ea typeface="微软雅黑"/>
                </a:rPr>
                <a:t>理论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13"/>
            <p:cNvSpPr/>
            <p:nvPr/>
          </p:nvSpPr>
          <p:spPr>
            <a:xfrm>
              <a:off x="3403080" y="2067840"/>
              <a:ext cx="720000" cy="71964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Picture 73" descr=""/>
            <p:cNvPicPr/>
            <p:nvPr/>
          </p:nvPicPr>
          <p:blipFill>
            <a:blip r:embed="rId3"/>
            <a:stretch/>
          </p:blipFill>
          <p:spPr>
            <a:xfrm>
              <a:off x="3516840" y="2218680"/>
              <a:ext cx="492120" cy="4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15"/>
          <p:cNvGrpSpPr/>
          <p:nvPr/>
        </p:nvGrpSpPr>
        <p:grpSpPr>
          <a:xfrm>
            <a:off x="4703760" y="1708200"/>
            <a:ext cx="1440000" cy="2519280"/>
            <a:chOff x="4703760" y="1708200"/>
            <a:chExt cx="1440000" cy="2519280"/>
          </a:xfrm>
        </p:grpSpPr>
        <p:grpSp>
          <p:nvGrpSpPr>
            <p:cNvPr id="351" name="组合 16"/>
            <p:cNvGrpSpPr/>
            <p:nvPr/>
          </p:nvGrpSpPr>
          <p:grpSpPr>
            <a:xfrm>
              <a:off x="4703760" y="1708200"/>
              <a:ext cx="1440000" cy="2519280"/>
              <a:chOff x="4703760" y="1708200"/>
              <a:chExt cx="1440000" cy="2519280"/>
            </a:xfrm>
          </p:grpSpPr>
          <p:sp>
            <p:nvSpPr>
              <p:cNvPr id="352" name="矩形 18"/>
              <p:cNvSpPr/>
              <p:nvPr/>
            </p:nvSpPr>
            <p:spPr>
              <a:xfrm>
                <a:off x="4703760" y="1708200"/>
                <a:ext cx="1440000" cy="2519280"/>
              </a:xfrm>
              <a:prstGeom prst="rect">
                <a:avLst/>
              </a:prstGeom>
              <a:noFill/>
              <a:ln w="12600">
                <a:solidFill>
                  <a:srgbClr val="85ad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19"/>
              <p:cNvSpPr/>
              <p:nvPr/>
            </p:nvSpPr>
            <p:spPr>
              <a:xfrm>
                <a:off x="4703760" y="2931840"/>
                <a:ext cx="144000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85adbc"/>
                    </a:solidFill>
                    <a:latin typeface="微软雅黑"/>
                    <a:ea typeface="微软雅黑"/>
                  </a:rPr>
                  <a:t>理论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在此处添加详细描述文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本，尽量与标题文本语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言风格相符合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语言描述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尽量简洁生动，尽可能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概括出段落内容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20"/>
              <p:cNvSpPr/>
              <p:nvPr/>
            </p:nvSpPr>
            <p:spPr>
              <a:xfrm>
                <a:off x="5063760" y="2067840"/>
                <a:ext cx="720000" cy="719640"/>
              </a:xfrm>
              <a:prstGeom prst="ellipse">
                <a:avLst/>
              </a:prstGeom>
              <a:solidFill>
                <a:srgbClr val="85a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5" name="图片 17" descr=""/>
            <p:cNvPicPr/>
            <p:nvPr/>
          </p:nvPicPr>
          <p:blipFill>
            <a:blip r:embed="rId4"/>
            <a:stretch/>
          </p:blipFill>
          <p:spPr>
            <a:xfrm>
              <a:off x="5240880" y="2244240"/>
              <a:ext cx="365400" cy="36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组合 21"/>
          <p:cNvGrpSpPr/>
          <p:nvPr/>
        </p:nvGrpSpPr>
        <p:grpSpPr>
          <a:xfrm>
            <a:off x="6364440" y="1708200"/>
            <a:ext cx="1439640" cy="2519280"/>
            <a:chOff x="6364440" y="1708200"/>
            <a:chExt cx="1439640" cy="2519280"/>
          </a:xfrm>
        </p:grpSpPr>
        <p:sp>
          <p:nvSpPr>
            <p:cNvPr id="357" name="矩形 22"/>
            <p:cNvSpPr/>
            <p:nvPr/>
          </p:nvSpPr>
          <p:spPr>
            <a:xfrm>
              <a:off x="6364440" y="1708200"/>
              <a:ext cx="1439640" cy="2519280"/>
            </a:xfrm>
            <a:prstGeom prst="rect">
              <a:avLst/>
            </a:prstGeom>
            <a:noFill/>
            <a:ln w="1260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23"/>
            <p:cNvSpPr/>
            <p:nvPr/>
          </p:nvSpPr>
          <p:spPr>
            <a:xfrm>
              <a:off x="6364440" y="2931840"/>
              <a:ext cx="14396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4860"/>
                  </a:solidFill>
                  <a:latin typeface="微软雅黑"/>
                  <a:ea typeface="微软雅黑"/>
                </a:rPr>
                <a:t>理论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24"/>
            <p:cNvSpPr/>
            <p:nvPr/>
          </p:nvSpPr>
          <p:spPr>
            <a:xfrm>
              <a:off x="6724080" y="2067840"/>
              <a:ext cx="719640" cy="71964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44" descr=""/>
            <p:cNvPicPr/>
            <p:nvPr/>
          </p:nvPicPr>
          <p:blipFill>
            <a:blip r:embed="rId5"/>
            <a:stretch/>
          </p:blipFill>
          <p:spPr>
            <a:xfrm>
              <a:off x="6869520" y="2277360"/>
              <a:ext cx="429120" cy="30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63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70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71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进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5"/>
          <p:cNvSpPr/>
          <p:nvPr/>
        </p:nvSpPr>
        <p:spPr>
          <a:xfrm>
            <a:off x="4890960" y="2043000"/>
            <a:ext cx="1800" cy="452520"/>
          </a:xfrm>
          <a:prstGeom prst="line">
            <a:avLst/>
          </a:prstGeom>
          <a:ln w="9360">
            <a:solidFill>
              <a:srgbClr val="0b2430"/>
            </a:solidFill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9"/>
          <p:cNvSpPr/>
          <p:nvPr/>
        </p:nvSpPr>
        <p:spPr>
          <a:xfrm>
            <a:off x="4890960" y="3132000"/>
            <a:ext cx="1800" cy="452520"/>
          </a:xfrm>
          <a:prstGeom prst="line">
            <a:avLst/>
          </a:prstGeom>
          <a:ln w="9360">
            <a:solidFill>
              <a:srgbClr val="0b2430"/>
            </a:solidFill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11280" y="1876320"/>
            <a:ext cx="305136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624120" y="156996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2"/>
          <p:cNvSpPr/>
          <p:nvPr/>
        </p:nvSpPr>
        <p:spPr>
          <a:xfrm>
            <a:off x="3448080" y="1601640"/>
            <a:ext cx="190440" cy="1922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1511280" y="3513240"/>
            <a:ext cx="305136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3624120" y="320688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3448080" y="3238560"/>
            <a:ext cx="190440" cy="1904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5264280" y="2647800"/>
            <a:ext cx="305100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4"/>
          <p:cNvSpPr/>
          <p:nvPr/>
        </p:nvSpPr>
        <p:spPr>
          <a:xfrm>
            <a:off x="5423040" y="234324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2"/>
          <p:cNvSpPr/>
          <p:nvPr/>
        </p:nvSpPr>
        <p:spPr>
          <a:xfrm>
            <a:off x="5248440" y="2374920"/>
            <a:ext cx="190440" cy="1904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8" descr=""/>
          <p:cNvPicPr/>
          <p:nvPr/>
        </p:nvPicPr>
        <p:blipFill>
          <a:blip r:embed="rId2"/>
          <a:stretch/>
        </p:blipFill>
        <p:spPr>
          <a:xfrm>
            <a:off x="4667400" y="1440000"/>
            <a:ext cx="447480" cy="458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3" descr=""/>
          <p:cNvPicPr/>
          <p:nvPr/>
        </p:nvPicPr>
        <p:blipFill>
          <a:blip r:embed="rId3"/>
          <a:stretch/>
        </p:blipFill>
        <p:spPr>
          <a:xfrm>
            <a:off x="4622760" y="3768840"/>
            <a:ext cx="492120" cy="4190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8" descr=""/>
          <p:cNvPicPr/>
          <p:nvPr/>
        </p:nvPicPr>
        <p:blipFill>
          <a:blip r:embed="rId4"/>
          <a:stretch/>
        </p:blipFill>
        <p:spPr>
          <a:xfrm>
            <a:off x="4708440" y="2651040"/>
            <a:ext cx="3650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9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9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方法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"/>
          <p:cNvSpPr/>
          <p:nvPr/>
        </p:nvSpPr>
        <p:spPr>
          <a:xfrm>
            <a:off x="855720" y="1508040"/>
            <a:ext cx="1395360" cy="139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690480" y="31291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99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2868480" y="1508040"/>
            <a:ext cx="1395720" cy="1397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85ad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2701800" y="3129120"/>
            <a:ext cx="172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3"/>
          <p:cNvSpPr/>
          <p:nvPr/>
        </p:nvSpPr>
        <p:spPr>
          <a:xfrm>
            <a:off x="4879800" y="1508040"/>
            <a:ext cx="1395720" cy="1397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1848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4713120" y="3129120"/>
            <a:ext cx="172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891480" y="1508040"/>
            <a:ext cx="1395360" cy="1397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2"/>
          <p:cNvSpPr/>
          <p:nvPr/>
        </p:nvSpPr>
        <p:spPr>
          <a:xfrm>
            <a:off x="6726240" y="31291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3"/>
          <p:cNvSpPr/>
          <p:nvPr/>
        </p:nvSpPr>
        <p:spPr>
          <a:xfrm>
            <a:off x="1155600" y="4195800"/>
            <a:ext cx="793800" cy="249120"/>
          </a:xfrm>
          <a:prstGeom prst="rect">
            <a:avLst/>
          </a:prstGeom>
          <a:noFill/>
          <a:ln w="9360">
            <a:solidFill>
              <a:srgbClr val="00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99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4"/>
          <p:cNvSpPr/>
          <p:nvPr/>
        </p:nvSpPr>
        <p:spPr>
          <a:xfrm>
            <a:off x="3168720" y="4195800"/>
            <a:ext cx="795240" cy="249120"/>
          </a:xfrm>
          <a:prstGeom prst="rect">
            <a:avLst/>
          </a:prstGeom>
          <a:noFill/>
          <a:ln w="9360">
            <a:solidFill>
              <a:srgbClr val="85ad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5adbc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5"/>
          <p:cNvSpPr/>
          <p:nvPr/>
        </p:nvSpPr>
        <p:spPr>
          <a:xfrm>
            <a:off x="5181480" y="4195800"/>
            <a:ext cx="793800" cy="249120"/>
          </a:xfrm>
          <a:prstGeom prst="rect">
            <a:avLst/>
          </a:prstGeom>
          <a:noFill/>
          <a:ln w="9360">
            <a:solidFill>
              <a:srgbClr val="1848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84860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6"/>
          <p:cNvSpPr/>
          <p:nvPr/>
        </p:nvSpPr>
        <p:spPr>
          <a:xfrm>
            <a:off x="7192800" y="4195800"/>
            <a:ext cx="793800" cy="24912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15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22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23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5"/>
          <p:cNvSpPr/>
          <p:nvPr/>
        </p:nvSpPr>
        <p:spPr>
          <a:xfrm>
            <a:off x="900000" y="2657520"/>
            <a:ext cx="2938680" cy="576360"/>
          </a:xfrm>
          <a:prstGeom prst="rect">
            <a:avLst/>
          </a:prstGeom>
          <a:solidFill>
            <a:srgbClr val="85a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6"/>
          <p:cNvSpPr/>
          <p:nvPr/>
        </p:nvSpPr>
        <p:spPr>
          <a:xfrm>
            <a:off x="3838680" y="2657520"/>
            <a:ext cx="2006640" cy="57636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7"/>
          <p:cNvSpPr/>
          <p:nvPr/>
        </p:nvSpPr>
        <p:spPr>
          <a:xfrm>
            <a:off x="5845320" y="2657520"/>
            <a:ext cx="2398680" cy="57636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8"/>
          <p:cNvSpPr/>
          <p:nvPr/>
        </p:nvSpPr>
        <p:spPr>
          <a:xfrm>
            <a:off x="795240" y="1995480"/>
            <a:ext cx="3560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5adbc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3733920" y="3298680"/>
            <a:ext cx="4006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4754520" y="1995480"/>
            <a:ext cx="356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84860"/>
                </a:solidFill>
                <a:latin typeface="微软雅黑"/>
                <a:ea typeface="微软雅黑"/>
              </a:rPr>
              <a:t>在此处添加详细描述文本，尽量与标题文本语言风格相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84860"/>
                </a:solidFill>
                <a:latin typeface="微软雅黑"/>
                <a:ea typeface="微软雅黑"/>
              </a:rPr>
              <a:t>合，语言描述尽量简洁生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8"/>
          <p:cNvSpPr/>
          <p:nvPr/>
        </p:nvSpPr>
        <p:spPr>
          <a:xfrm>
            <a:off x="1117440" y="2814480"/>
            <a:ext cx="285840" cy="262080"/>
          </a:xfrm>
          <a:custGeom>
            <a:avLst/>
            <a:gdLst>
              <a:gd name="textAreaLeft" fmla="*/ 0 w 285840"/>
              <a:gd name="textAreaRight" fmla="*/ 286200 w 2858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782488" h="720038">
                <a:moveTo>
                  <a:pt x="415255" y="516020"/>
                </a:moveTo>
                <a:lnTo>
                  <a:pt x="782488" y="516020"/>
                </a:lnTo>
                <a:lnTo>
                  <a:pt x="782488" y="720038"/>
                </a:lnTo>
                <a:lnTo>
                  <a:pt x="415255" y="720038"/>
                </a:lnTo>
                <a:lnTo>
                  <a:pt x="415255" y="516020"/>
                </a:lnTo>
                <a:close/>
                <a:moveTo>
                  <a:pt x="0" y="516020"/>
                </a:moveTo>
                <a:lnTo>
                  <a:pt x="367233" y="516020"/>
                </a:lnTo>
                <a:lnTo>
                  <a:pt x="367233" y="720038"/>
                </a:lnTo>
                <a:lnTo>
                  <a:pt x="0" y="720038"/>
                </a:lnTo>
                <a:lnTo>
                  <a:pt x="0" y="516020"/>
                </a:lnTo>
                <a:close/>
                <a:moveTo>
                  <a:pt x="415255" y="258010"/>
                </a:moveTo>
                <a:lnTo>
                  <a:pt x="782488" y="258010"/>
                </a:lnTo>
                <a:lnTo>
                  <a:pt x="782488" y="462028"/>
                </a:lnTo>
                <a:lnTo>
                  <a:pt x="415255" y="462028"/>
                </a:lnTo>
                <a:lnTo>
                  <a:pt x="415255" y="258010"/>
                </a:lnTo>
                <a:close/>
                <a:moveTo>
                  <a:pt x="0" y="258010"/>
                </a:moveTo>
                <a:lnTo>
                  <a:pt x="367233" y="258010"/>
                </a:lnTo>
                <a:lnTo>
                  <a:pt x="367233" y="462028"/>
                </a:lnTo>
                <a:lnTo>
                  <a:pt x="0" y="462028"/>
                </a:lnTo>
                <a:lnTo>
                  <a:pt x="0" y="258010"/>
                </a:lnTo>
                <a:close/>
                <a:moveTo>
                  <a:pt x="479139" y="63884"/>
                </a:moveTo>
                <a:lnTo>
                  <a:pt x="479139" y="140134"/>
                </a:lnTo>
                <a:lnTo>
                  <a:pt x="718604" y="140134"/>
                </a:lnTo>
                <a:lnTo>
                  <a:pt x="718604" y="63884"/>
                </a:lnTo>
                <a:lnTo>
                  <a:pt x="479139" y="63884"/>
                </a:lnTo>
                <a:close/>
                <a:moveTo>
                  <a:pt x="63884" y="63884"/>
                </a:moveTo>
                <a:lnTo>
                  <a:pt x="63884" y="140134"/>
                </a:lnTo>
                <a:lnTo>
                  <a:pt x="303349" y="140134"/>
                </a:lnTo>
                <a:lnTo>
                  <a:pt x="303349" y="63884"/>
                </a:lnTo>
                <a:lnTo>
                  <a:pt x="63884" y="63884"/>
                </a:lnTo>
                <a:close/>
                <a:moveTo>
                  <a:pt x="415255" y="0"/>
                </a:moveTo>
                <a:lnTo>
                  <a:pt x="782488" y="0"/>
                </a:lnTo>
                <a:lnTo>
                  <a:pt x="782488" y="204018"/>
                </a:lnTo>
                <a:lnTo>
                  <a:pt x="415255" y="204018"/>
                </a:lnTo>
                <a:lnTo>
                  <a:pt x="415255" y="0"/>
                </a:lnTo>
                <a:close/>
                <a:moveTo>
                  <a:pt x="0" y="0"/>
                </a:moveTo>
                <a:lnTo>
                  <a:pt x="367233" y="0"/>
                </a:lnTo>
                <a:lnTo>
                  <a:pt x="367233" y="204018"/>
                </a:lnTo>
                <a:lnTo>
                  <a:pt x="0" y="2040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68"/>
          <p:cNvSpPr/>
          <p:nvPr/>
        </p:nvSpPr>
        <p:spPr>
          <a:xfrm>
            <a:off x="4037040" y="2814480"/>
            <a:ext cx="407880" cy="262080"/>
          </a:xfrm>
          <a:custGeom>
            <a:avLst/>
            <a:gdLst>
              <a:gd name="textAreaLeft" fmla="*/ 0 w 407880"/>
              <a:gd name="textAreaRight" fmla="*/ 408240 w 4078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0"/>
          <p:cNvSpPr/>
          <p:nvPr/>
        </p:nvSpPr>
        <p:spPr>
          <a:xfrm>
            <a:off x="6138720" y="276372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1908000" y="27288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611600" y="27288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6948360" y="27288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4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4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4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8"/>
          <p:cNvSpPr/>
          <p:nvPr/>
        </p:nvSpPr>
        <p:spPr>
          <a:xfrm>
            <a:off x="961920" y="3297240"/>
            <a:ext cx="3772080" cy="0"/>
          </a:xfrm>
          <a:prstGeom prst="line">
            <a:avLst/>
          </a:prstGeom>
          <a:ln w="12600">
            <a:solidFill>
              <a:srgbClr val="595959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6"/>
          <p:cNvGrpSpPr/>
          <p:nvPr/>
        </p:nvGrpSpPr>
        <p:grpSpPr>
          <a:xfrm>
            <a:off x="2247840" y="3335400"/>
            <a:ext cx="2057400" cy="1076400"/>
            <a:chOff x="2247840" y="3335400"/>
            <a:chExt cx="2057400" cy="1076400"/>
          </a:xfrm>
        </p:grpSpPr>
        <p:sp>
          <p:nvSpPr>
            <p:cNvPr id="453" name="Rectangle 14"/>
            <p:cNvSpPr/>
            <p:nvPr/>
          </p:nvSpPr>
          <p:spPr>
            <a:xfrm>
              <a:off x="2247840" y="3339000"/>
              <a:ext cx="214200" cy="10728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2547720" y="3339000"/>
              <a:ext cx="214200" cy="4291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3790800" y="3335400"/>
              <a:ext cx="214200" cy="1753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0"/>
            <p:cNvSpPr/>
            <p:nvPr/>
          </p:nvSpPr>
          <p:spPr>
            <a:xfrm>
              <a:off x="4091040" y="3335400"/>
              <a:ext cx="214200" cy="896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1"/>
          <p:cNvGrpSpPr/>
          <p:nvPr/>
        </p:nvGrpSpPr>
        <p:grpSpPr>
          <a:xfrm>
            <a:off x="1047600" y="1582560"/>
            <a:ext cx="3581640" cy="1694160"/>
            <a:chOff x="1047600" y="1582560"/>
            <a:chExt cx="3581640" cy="1694160"/>
          </a:xfrm>
        </p:grpSpPr>
        <p:sp>
          <p:nvSpPr>
            <p:cNvPr id="458" name="Rectangle 9"/>
            <p:cNvSpPr/>
            <p:nvPr/>
          </p:nvSpPr>
          <p:spPr>
            <a:xfrm>
              <a:off x="1047600" y="1582560"/>
              <a:ext cx="214200" cy="16941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1347480" y="2354040"/>
              <a:ext cx="214200" cy="918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2"/>
            <p:cNvSpPr/>
            <p:nvPr/>
          </p:nvSpPr>
          <p:spPr>
            <a:xfrm>
              <a:off x="1647720" y="1925280"/>
              <a:ext cx="214200" cy="13471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3"/>
            <p:cNvSpPr/>
            <p:nvPr/>
          </p:nvSpPr>
          <p:spPr>
            <a:xfrm>
              <a:off x="1947600" y="2139840"/>
              <a:ext cx="214200" cy="11325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2884680" y="3039840"/>
              <a:ext cx="214200" cy="2221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3184560" y="2782800"/>
              <a:ext cx="214200" cy="4852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8"/>
            <p:cNvSpPr/>
            <p:nvPr/>
          </p:nvSpPr>
          <p:spPr>
            <a:xfrm>
              <a:off x="3484800" y="2439720"/>
              <a:ext cx="214200" cy="8280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4415040" y="2739960"/>
              <a:ext cx="214200" cy="522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20"/>
          <p:cNvSpPr/>
          <p:nvPr/>
        </p:nvSpPr>
        <p:spPr>
          <a:xfrm>
            <a:off x="996120" y="133668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1"/>
          <p:cNvSpPr/>
          <p:nvPr/>
        </p:nvSpPr>
        <p:spPr>
          <a:xfrm>
            <a:off x="1295280" y="212724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2"/>
          <p:cNvSpPr/>
          <p:nvPr/>
        </p:nvSpPr>
        <p:spPr>
          <a:xfrm>
            <a:off x="1596240" y="16765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3"/>
          <p:cNvSpPr/>
          <p:nvPr/>
        </p:nvSpPr>
        <p:spPr>
          <a:xfrm>
            <a:off x="1896480" y="19033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4"/>
          <p:cNvSpPr/>
          <p:nvPr/>
        </p:nvSpPr>
        <p:spPr>
          <a:xfrm>
            <a:off x="2832840" y="280368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133800" y="25369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3432960" y="21877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363200" y="250020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8"/>
          <p:cNvSpPr/>
          <p:nvPr/>
        </p:nvSpPr>
        <p:spPr>
          <a:xfrm>
            <a:off x="2185920" y="446724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4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9"/>
          <p:cNvSpPr/>
          <p:nvPr/>
        </p:nvSpPr>
        <p:spPr>
          <a:xfrm>
            <a:off x="2486160" y="381168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2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0"/>
          <p:cNvSpPr/>
          <p:nvPr/>
        </p:nvSpPr>
        <p:spPr>
          <a:xfrm>
            <a:off x="3728880" y="354960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1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1"/>
          <p:cNvSpPr/>
          <p:nvPr/>
        </p:nvSpPr>
        <p:spPr>
          <a:xfrm>
            <a:off x="4029120" y="346068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0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2"/>
          <p:cNvSpPr/>
          <p:nvPr/>
        </p:nvSpPr>
        <p:spPr>
          <a:xfrm>
            <a:off x="5118120" y="1625760"/>
            <a:ext cx="19044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0"/>
          <p:cNvSpPr/>
          <p:nvPr/>
        </p:nvSpPr>
        <p:spPr>
          <a:xfrm>
            <a:off x="5118120" y="2585880"/>
            <a:ext cx="190440" cy="1908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8"/>
          <p:cNvSpPr/>
          <p:nvPr/>
        </p:nvSpPr>
        <p:spPr>
          <a:xfrm>
            <a:off x="5118120" y="3529080"/>
            <a:ext cx="190440" cy="19188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5367240" y="158760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367240" y="256212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5367240" y="352260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18486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37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37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9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9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86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94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5"/>
          <p:cNvSpPr/>
          <p:nvPr/>
        </p:nvSpPr>
        <p:spPr>
          <a:xfrm>
            <a:off x="681120" y="1492200"/>
            <a:ext cx="2566800" cy="25671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18486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6"/>
          <p:cNvSpPr/>
          <p:nvPr/>
        </p:nvSpPr>
        <p:spPr>
          <a:xfrm>
            <a:off x="852480" y="1662120"/>
            <a:ext cx="2225520" cy="222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7"/>
          <p:cNvSpPr/>
          <p:nvPr/>
        </p:nvSpPr>
        <p:spPr>
          <a:xfrm>
            <a:off x="2664000" y="1911240"/>
            <a:ext cx="504720" cy="505080"/>
          </a:xfrm>
          <a:prstGeom prst="ellipse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8"/>
          <p:cNvSpPr/>
          <p:nvPr/>
        </p:nvSpPr>
        <p:spPr>
          <a:xfrm>
            <a:off x="2822400" y="1351080"/>
            <a:ext cx="374760" cy="374400"/>
          </a:xfrm>
          <a:prstGeom prst="ellipse">
            <a:avLst/>
          </a:prstGeom>
          <a:noFill/>
          <a:ln w="1908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9"/>
          <p:cNvSpPr/>
          <p:nvPr/>
        </p:nvSpPr>
        <p:spPr>
          <a:xfrm>
            <a:off x="3025800" y="1911240"/>
            <a:ext cx="635040" cy="635040"/>
          </a:xfrm>
          <a:prstGeom prst="ellipse">
            <a:avLst/>
          </a:prstGeom>
          <a:noFill/>
          <a:ln w="1908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10"/>
          <p:cNvSpPr/>
          <p:nvPr/>
        </p:nvSpPr>
        <p:spPr>
          <a:xfrm>
            <a:off x="3156120" y="2722680"/>
            <a:ext cx="252360" cy="252360"/>
          </a:xfrm>
          <a:prstGeom prst="ellipse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1"/>
          <p:cNvSpPr/>
          <p:nvPr/>
        </p:nvSpPr>
        <p:spPr>
          <a:xfrm>
            <a:off x="3983040" y="1279440"/>
            <a:ext cx="2376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标题或详细内容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6392880" y="1768320"/>
            <a:ext cx="237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3995640" y="3438360"/>
            <a:ext cx="4118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标题或详细内容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14"/>
          <p:cNvGrpSpPr/>
          <p:nvPr/>
        </p:nvGrpSpPr>
        <p:grpSpPr>
          <a:xfrm>
            <a:off x="3201840" y="3575160"/>
            <a:ext cx="722520" cy="722160"/>
            <a:chOff x="3201840" y="3575160"/>
            <a:chExt cx="722520" cy="722160"/>
          </a:xfrm>
        </p:grpSpPr>
        <p:sp>
          <p:nvSpPr>
            <p:cNvPr id="507" name="椭圆 15"/>
            <p:cNvSpPr/>
            <p:nvPr/>
          </p:nvSpPr>
          <p:spPr>
            <a:xfrm>
              <a:off x="3201840" y="3575160"/>
              <a:ext cx="722520" cy="72216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44" descr=""/>
            <p:cNvPicPr/>
            <p:nvPr/>
          </p:nvPicPr>
          <p:blipFill>
            <a:blip r:embed="rId3"/>
            <a:stretch/>
          </p:blipFill>
          <p:spPr>
            <a:xfrm>
              <a:off x="3348000" y="3781440"/>
              <a:ext cx="429840" cy="30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51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51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51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1239840" y="16081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1157400" y="22366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43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1233360" y="269892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1403280" y="3618000"/>
            <a:ext cx="633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"/>
          <p:cNvGrpSpPr/>
          <p:nvPr/>
        </p:nvGrpSpPr>
        <p:grpSpPr>
          <a:xfrm>
            <a:off x="2556000" y="1601640"/>
            <a:ext cx="1785960" cy="1785960"/>
            <a:chOff x="2556000" y="1601640"/>
            <a:chExt cx="1785960" cy="1785960"/>
          </a:xfrm>
        </p:grpSpPr>
        <p:sp>
          <p:nvSpPr>
            <p:cNvPr id="527" name="矩形 10"/>
            <p:cNvSpPr/>
            <p:nvPr/>
          </p:nvSpPr>
          <p:spPr>
            <a:xfrm>
              <a:off x="3404160" y="16016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1"/>
            <p:cNvSpPr/>
            <p:nvPr/>
          </p:nvSpPr>
          <p:spPr>
            <a:xfrm>
              <a:off x="3404160" y="29412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2"/>
            <p:cNvSpPr/>
            <p:nvPr/>
          </p:nvSpPr>
          <p:spPr>
            <a:xfrm rot="16200000">
              <a:off x="2734560" y="22712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3"/>
            <p:cNvSpPr/>
            <p:nvPr/>
          </p:nvSpPr>
          <p:spPr>
            <a:xfrm rot="16200000">
              <a:off x="4074120" y="2271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4"/>
            <p:cNvSpPr/>
            <p:nvPr/>
          </p:nvSpPr>
          <p:spPr>
            <a:xfrm rot="2700000">
              <a:off x="3877920" y="17978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5"/>
            <p:cNvSpPr/>
            <p:nvPr/>
          </p:nvSpPr>
          <p:spPr>
            <a:xfrm rot="2700000">
              <a:off x="2930760" y="274500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6"/>
            <p:cNvSpPr/>
            <p:nvPr/>
          </p:nvSpPr>
          <p:spPr>
            <a:xfrm flipV="1" rot="18900000">
              <a:off x="3877920" y="2744640"/>
              <a:ext cx="8892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17"/>
            <p:cNvSpPr/>
            <p:nvPr/>
          </p:nvSpPr>
          <p:spPr>
            <a:xfrm flipV="1" rot="18900000">
              <a:off x="2930760" y="1797480"/>
              <a:ext cx="8892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18"/>
            <p:cNvSpPr/>
            <p:nvPr/>
          </p:nvSpPr>
          <p:spPr>
            <a:xfrm rot="1320000">
              <a:off x="3654720" y="1650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19"/>
            <p:cNvSpPr/>
            <p:nvPr/>
          </p:nvSpPr>
          <p:spPr>
            <a:xfrm rot="1320000">
              <a:off x="3152880" y="28926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0"/>
            <p:cNvSpPr/>
            <p:nvPr/>
          </p:nvSpPr>
          <p:spPr>
            <a:xfrm flipH="1" rot="20280000">
              <a:off x="3152160" y="16502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21"/>
            <p:cNvSpPr/>
            <p:nvPr/>
          </p:nvSpPr>
          <p:spPr>
            <a:xfrm flipH="1" rot="20280000">
              <a:off x="3654000" y="28926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22"/>
            <p:cNvSpPr/>
            <p:nvPr/>
          </p:nvSpPr>
          <p:spPr>
            <a:xfrm flipV="1" rot="4020000">
              <a:off x="2787120" y="2532600"/>
              <a:ext cx="89280" cy="44604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23"/>
            <p:cNvSpPr/>
            <p:nvPr/>
          </p:nvSpPr>
          <p:spPr>
            <a:xfrm flipV="1" rot="4020000">
              <a:off x="4020480" y="20088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24"/>
            <p:cNvSpPr/>
            <p:nvPr/>
          </p:nvSpPr>
          <p:spPr>
            <a:xfrm flipH="1" flipV="1" rot="17580000">
              <a:off x="4020480" y="25326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25"/>
            <p:cNvSpPr/>
            <p:nvPr/>
          </p:nvSpPr>
          <p:spPr>
            <a:xfrm flipH="1" flipV="1" rot="17580000">
              <a:off x="2787120" y="2008800"/>
              <a:ext cx="89280" cy="44604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26"/>
          <p:cNvSpPr/>
          <p:nvPr/>
        </p:nvSpPr>
        <p:spPr>
          <a:xfrm>
            <a:off x="5208480" y="16081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7"/>
          <p:cNvSpPr/>
          <p:nvPr/>
        </p:nvSpPr>
        <p:spPr>
          <a:xfrm>
            <a:off x="5126040" y="22366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86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5202360" y="26989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9"/>
          <p:cNvGrpSpPr/>
          <p:nvPr/>
        </p:nvGrpSpPr>
        <p:grpSpPr>
          <a:xfrm>
            <a:off x="6524640" y="1601640"/>
            <a:ext cx="1785960" cy="1785960"/>
            <a:chOff x="6524640" y="1601640"/>
            <a:chExt cx="1785960" cy="1785960"/>
          </a:xfrm>
        </p:grpSpPr>
        <p:sp>
          <p:nvSpPr>
            <p:cNvPr id="547" name="矩形 30"/>
            <p:cNvSpPr/>
            <p:nvPr/>
          </p:nvSpPr>
          <p:spPr>
            <a:xfrm>
              <a:off x="7372800" y="16016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31"/>
            <p:cNvSpPr/>
            <p:nvPr/>
          </p:nvSpPr>
          <p:spPr>
            <a:xfrm>
              <a:off x="7372800" y="29412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 rot="16200000">
              <a:off x="6703200" y="22712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33"/>
            <p:cNvSpPr/>
            <p:nvPr/>
          </p:nvSpPr>
          <p:spPr>
            <a:xfrm rot="16200000">
              <a:off x="8042760" y="2271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4"/>
            <p:cNvSpPr/>
            <p:nvPr/>
          </p:nvSpPr>
          <p:spPr>
            <a:xfrm rot="2700000">
              <a:off x="7846560" y="17978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35"/>
            <p:cNvSpPr/>
            <p:nvPr/>
          </p:nvSpPr>
          <p:spPr>
            <a:xfrm rot="2700000">
              <a:off x="6899400" y="27450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36"/>
            <p:cNvSpPr/>
            <p:nvPr/>
          </p:nvSpPr>
          <p:spPr>
            <a:xfrm flipV="1" rot="18900000">
              <a:off x="7846560" y="2744640"/>
              <a:ext cx="8892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7"/>
            <p:cNvSpPr/>
            <p:nvPr/>
          </p:nvSpPr>
          <p:spPr>
            <a:xfrm flipV="1" rot="18900000">
              <a:off x="6899400" y="1797480"/>
              <a:ext cx="8892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38"/>
            <p:cNvSpPr/>
            <p:nvPr/>
          </p:nvSpPr>
          <p:spPr>
            <a:xfrm rot="1320000">
              <a:off x="7623360" y="1650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39"/>
            <p:cNvSpPr/>
            <p:nvPr/>
          </p:nvSpPr>
          <p:spPr>
            <a:xfrm rot="1320000">
              <a:off x="7121520" y="28926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40"/>
            <p:cNvSpPr/>
            <p:nvPr/>
          </p:nvSpPr>
          <p:spPr>
            <a:xfrm flipH="1" rot="20280000">
              <a:off x="7120800" y="16502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41"/>
            <p:cNvSpPr/>
            <p:nvPr/>
          </p:nvSpPr>
          <p:spPr>
            <a:xfrm flipH="1" rot="20280000">
              <a:off x="7622640" y="28926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42"/>
            <p:cNvSpPr/>
            <p:nvPr/>
          </p:nvSpPr>
          <p:spPr>
            <a:xfrm flipV="1" rot="4020000">
              <a:off x="6755760" y="2532600"/>
              <a:ext cx="89280" cy="4460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43"/>
            <p:cNvSpPr/>
            <p:nvPr/>
          </p:nvSpPr>
          <p:spPr>
            <a:xfrm flipV="1" rot="4020000">
              <a:off x="7989120" y="20088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44"/>
            <p:cNvSpPr/>
            <p:nvPr/>
          </p:nvSpPr>
          <p:spPr>
            <a:xfrm flipH="1" flipV="1" rot="17580000">
              <a:off x="7989120" y="25326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45"/>
            <p:cNvSpPr/>
            <p:nvPr/>
          </p:nvSpPr>
          <p:spPr>
            <a:xfrm flipH="1" flipV="1" rot="17580000">
              <a:off x="6755760" y="2008800"/>
              <a:ext cx="89280" cy="4460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椭圆 46"/>
          <p:cNvSpPr/>
          <p:nvPr/>
        </p:nvSpPr>
        <p:spPr>
          <a:xfrm>
            <a:off x="2832120" y="1879560"/>
            <a:ext cx="1233360" cy="123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47"/>
          <p:cNvSpPr/>
          <p:nvPr/>
        </p:nvSpPr>
        <p:spPr>
          <a:xfrm>
            <a:off x="6800760" y="1879560"/>
            <a:ext cx="1233720" cy="123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68"/>
          <p:cNvSpPr/>
          <p:nvPr/>
        </p:nvSpPr>
        <p:spPr>
          <a:xfrm>
            <a:off x="3014640" y="2181240"/>
            <a:ext cx="838080" cy="539640"/>
          </a:xfrm>
          <a:custGeom>
            <a:avLst/>
            <a:gdLst>
              <a:gd name="textAreaLeft" fmla="*/ 0 w 838080"/>
              <a:gd name="textAreaRight" fmla="*/ 838440 w 838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弦形 72"/>
          <p:cNvSpPr/>
          <p:nvPr/>
        </p:nvSpPr>
        <p:spPr>
          <a:xfrm rot="5400000">
            <a:off x="7149600" y="2050920"/>
            <a:ext cx="560160" cy="725400"/>
          </a:xfrm>
          <a:custGeom>
            <a:avLst/>
            <a:gdLst>
              <a:gd name="textAreaLeft" fmla="*/ 0 w 560160"/>
              <a:gd name="textAreaRight" fmla="*/ 560520 w 560160"/>
              <a:gd name="textAreaTop" fmla="*/ 0 h 725400"/>
              <a:gd name="textAreaBottom" fmla="*/ 725400 h 72540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0"/>
          <p:cNvSpPr/>
          <p:nvPr/>
        </p:nvSpPr>
        <p:spPr>
          <a:xfrm>
            <a:off x="944640" y="1619280"/>
            <a:ext cx="288720" cy="257040"/>
          </a:xfrm>
          <a:custGeom>
            <a:avLst/>
            <a:gdLst>
              <a:gd name="textAreaLeft" fmla="*/ 0 w 288720"/>
              <a:gd name="textAreaRight" fmla="*/ 289080 w 2887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8"/>
          <p:cNvSpPr/>
          <p:nvPr/>
        </p:nvSpPr>
        <p:spPr>
          <a:xfrm>
            <a:off x="4910040" y="1616040"/>
            <a:ext cx="292320" cy="270000"/>
          </a:xfrm>
          <a:custGeom>
            <a:avLst/>
            <a:gdLst>
              <a:gd name="textAreaLeft" fmla="*/ 0 w 292320"/>
              <a:gd name="textAreaRight" fmla="*/ 292680 w 2923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782488" h="720038">
                <a:moveTo>
                  <a:pt x="415255" y="516020"/>
                </a:moveTo>
                <a:lnTo>
                  <a:pt x="782488" y="516020"/>
                </a:lnTo>
                <a:lnTo>
                  <a:pt x="782488" y="720038"/>
                </a:lnTo>
                <a:lnTo>
                  <a:pt x="415255" y="720038"/>
                </a:lnTo>
                <a:lnTo>
                  <a:pt x="415255" y="516020"/>
                </a:lnTo>
                <a:close/>
                <a:moveTo>
                  <a:pt x="0" y="516020"/>
                </a:moveTo>
                <a:lnTo>
                  <a:pt x="367233" y="516020"/>
                </a:lnTo>
                <a:lnTo>
                  <a:pt x="367233" y="720038"/>
                </a:lnTo>
                <a:lnTo>
                  <a:pt x="0" y="720038"/>
                </a:lnTo>
                <a:lnTo>
                  <a:pt x="0" y="516020"/>
                </a:lnTo>
                <a:close/>
                <a:moveTo>
                  <a:pt x="415255" y="258010"/>
                </a:moveTo>
                <a:lnTo>
                  <a:pt x="782488" y="258010"/>
                </a:lnTo>
                <a:lnTo>
                  <a:pt x="782488" y="462028"/>
                </a:lnTo>
                <a:lnTo>
                  <a:pt x="415255" y="462028"/>
                </a:lnTo>
                <a:lnTo>
                  <a:pt x="415255" y="258010"/>
                </a:lnTo>
                <a:close/>
                <a:moveTo>
                  <a:pt x="0" y="258010"/>
                </a:moveTo>
                <a:lnTo>
                  <a:pt x="367233" y="258010"/>
                </a:lnTo>
                <a:lnTo>
                  <a:pt x="367233" y="462028"/>
                </a:lnTo>
                <a:lnTo>
                  <a:pt x="0" y="462028"/>
                </a:lnTo>
                <a:lnTo>
                  <a:pt x="0" y="258010"/>
                </a:lnTo>
                <a:close/>
                <a:moveTo>
                  <a:pt x="479139" y="63884"/>
                </a:moveTo>
                <a:lnTo>
                  <a:pt x="479139" y="140134"/>
                </a:lnTo>
                <a:lnTo>
                  <a:pt x="718604" y="140134"/>
                </a:lnTo>
                <a:lnTo>
                  <a:pt x="718604" y="63884"/>
                </a:lnTo>
                <a:lnTo>
                  <a:pt x="479139" y="63884"/>
                </a:lnTo>
                <a:close/>
                <a:moveTo>
                  <a:pt x="63884" y="63884"/>
                </a:moveTo>
                <a:lnTo>
                  <a:pt x="63884" y="140134"/>
                </a:lnTo>
                <a:lnTo>
                  <a:pt x="303349" y="140134"/>
                </a:lnTo>
                <a:lnTo>
                  <a:pt x="303349" y="63884"/>
                </a:lnTo>
                <a:lnTo>
                  <a:pt x="63884" y="63884"/>
                </a:lnTo>
                <a:close/>
                <a:moveTo>
                  <a:pt x="415255" y="0"/>
                </a:moveTo>
                <a:lnTo>
                  <a:pt x="782488" y="0"/>
                </a:lnTo>
                <a:lnTo>
                  <a:pt x="782488" y="204018"/>
                </a:lnTo>
                <a:lnTo>
                  <a:pt x="415255" y="204018"/>
                </a:lnTo>
                <a:lnTo>
                  <a:pt x="415255" y="0"/>
                </a:lnTo>
                <a:close/>
                <a:moveTo>
                  <a:pt x="0" y="0"/>
                </a:moveTo>
                <a:lnTo>
                  <a:pt x="367233" y="0"/>
                </a:lnTo>
                <a:lnTo>
                  <a:pt x="367233" y="204018"/>
                </a:lnTo>
                <a:lnTo>
                  <a:pt x="0" y="204018"/>
                </a:lnTo>
                <a:lnTo>
                  <a:pt x="0" y="0"/>
                </a:lnTo>
                <a:close/>
              </a:path>
            </a:pathLst>
          </a:cu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57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57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2340000" y="1395360"/>
            <a:ext cx="446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6"/>
          <p:cNvSpPr/>
          <p:nvPr/>
        </p:nvSpPr>
        <p:spPr>
          <a:xfrm>
            <a:off x="280044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1619280" y="2798640"/>
            <a:ext cx="144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8"/>
          <p:cNvSpPr/>
          <p:nvPr/>
        </p:nvSpPr>
        <p:spPr>
          <a:xfrm>
            <a:off x="398160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9"/>
          <p:cNvSpPr/>
          <p:nvPr/>
        </p:nvSpPr>
        <p:spPr>
          <a:xfrm>
            <a:off x="516240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0"/>
          <p:cNvSpPr/>
          <p:nvPr/>
        </p:nvSpPr>
        <p:spPr>
          <a:xfrm>
            <a:off x="634356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1"/>
          <p:cNvSpPr/>
          <p:nvPr/>
        </p:nvSpPr>
        <p:spPr>
          <a:xfrm>
            <a:off x="752472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1660680" y="32479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2844720" y="3247920"/>
            <a:ext cx="11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"/>
          <p:cNvSpPr/>
          <p:nvPr/>
        </p:nvSpPr>
        <p:spPr>
          <a:xfrm>
            <a:off x="4022640" y="32479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5"/>
          <p:cNvSpPr/>
          <p:nvPr/>
        </p:nvSpPr>
        <p:spPr>
          <a:xfrm>
            <a:off x="5222880" y="32479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6"/>
          <p:cNvSpPr/>
          <p:nvPr/>
        </p:nvSpPr>
        <p:spPr>
          <a:xfrm>
            <a:off x="6394320" y="3247920"/>
            <a:ext cx="11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900000" y="3821040"/>
            <a:ext cx="73454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18"/>
          <p:cNvGrpSpPr/>
          <p:nvPr/>
        </p:nvGrpSpPr>
        <p:grpSpPr>
          <a:xfrm>
            <a:off x="5311800" y="2235240"/>
            <a:ext cx="906480" cy="906480"/>
            <a:chOff x="5311800" y="2235240"/>
            <a:chExt cx="906480" cy="906480"/>
          </a:xfrm>
        </p:grpSpPr>
        <p:sp>
          <p:nvSpPr>
            <p:cNvPr id="596" name="圆角矩形 19"/>
            <p:cNvSpPr/>
            <p:nvPr/>
          </p:nvSpPr>
          <p:spPr>
            <a:xfrm>
              <a:off x="5311800" y="2235240"/>
              <a:ext cx="906480" cy="906480"/>
            </a:xfrm>
            <a:prstGeom prst="roundRect">
              <a:avLst>
                <a:gd name="adj" fmla="val 16667"/>
              </a:avLst>
            </a:prstGeom>
            <a:solidFill>
              <a:srgbClr val="85a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3"/>
            <p:cNvSpPr/>
            <p:nvPr/>
          </p:nvSpPr>
          <p:spPr>
            <a:xfrm>
              <a:off x="5419800" y="2491920"/>
              <a:ext cx="798480" cy="64980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2790034" h="2270816">
                  <a:moveTo>
                    <a:pt x="552889" y="538812"/>
                  </a:moveTo>
                  <a:cubicBezTo>
                    <a:pt x="553996" y="475286"/>
                    <a:pt x="555102" y="411761"/>
                    <a:pt x="556209" y="348235"/>
                  </a:cubicBezTo>
                  <a:lnTo>
                    <a:pt x="818835" y="203127"/>
                  </a:lnTo>
                  <a:lnTo>
                    <a:pt x="1042890" y="251970"/>
                  </a:lnTo>
                  <a:lnTo>
                    <a:pt x="1288903" y="54087"/>
                  </a:lnTo>
                  <a:lnTo>
                    <a:pt x="1642081" y="20043"/>
                  </a:lnTo>
                  <a:lnTo>
                    <a:pt x="1935958" y="0"/>
                  </a:lnTo>
                  <a:lnTo>
                    <a:pt x="2785167" y="639890"/>
                  </a:lnTo>
                  <a:cubicBezTo>
                    <a:pt x="2786789" y="1000378"/>
                    <a:pt x="2788412" y="1382259"/>
                    <a:pt x="2790034" y="1742747"/>
                  </a:cubicBezTo>
                  <a:cubicBezTo>
                    <a:pt x="2790034" y="2034391"/>
                    <a:pt x="2553609" y="2270816"/>
                    <a:pt x="2261965" y="2270816"/>
                  </a:cubicBezTo>
                  <a:lnTo>
                    <a:pt x="1276508" y="2270816"/>
                  </a:lnTo>
                  <a:lnTo>
                    <a:pt x="513127" y="1775373"/>
                  </a:lnTo>
                  <a:lnTo>
                    <a:pt x="502430" y="1705848"/>
                  </a:lnTo>
                  <a:lnTo>
                    <a:pt x="299202" y="1593538"/>
                  </a:lnTo>
                  <a:lnTo>
                    <a:pt x="341987" y="1556098"/>
                  </a:lnTo>
                  <a:lnTo>
                    <a:pt x="181204" y="1453355"/>
                  </a:lnTo>
                  <a:lnTo>
                    <a:pt x="0" y="1246725"/>
                  </a:lnTo>
                  <a:lnTo>
                    <a:pt x="41229" y="977129"/>
                  </a:lnTo>
                  <a:lnTo>
                    <a:pt x="188618" y="845614"/>
                  </a:lnTo>
                  <a:lnTo>
                    <a:pt x="258144" y="626338"/>
                  </a:lnTo>
                  <a:lnTo>
                    <a:pt x="557639" y="647733"/>
                  </a:lnTo>
                  <a:lnTo>
                    <a:pt x="632514" y="594250"/>
                  </a:lnTo>
                  <a:lnTo>
                    <a:pt x="552889" y="53881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57"/>
            <p:cNvSpPr/>
            <p:nvPr/>
          </p:nvSpPr>
          <p:spPr>
            <a:xfrm rot="1783800">
              <a:off x="5425560" y="2575080"/>
              <a:ext cx="458280" cy="44172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018406" h="981469">
                  <a:moveTo>
                    <a:pt x="539344" y="408473"/>
                  </a:moveTo>
                  <a:cubicBezTo>
                    <a:pt x="546254" y="405551"/>
                    <a:pt x="553850" y="403935"/>
                    <a:pt x="561824" y="403935"/>
                  </a:cubicBezTo>
                  <a:cubicBezTo>
                    <a:pt x="593721" y="403935"/>
                    <a:pt x="619579" y="429792"/>
                    <a:pt x="619578" y="461689"/>
                  </a:cubicBezTo>
                  <a:lnTo>
                    <a:pt x="619578" y="660011"/>
                  </a:lnTo>
                  <a:lnTo>
                    <a:pt x="668498" y="632069"/>
                  </a:lnTo>
                  <a:lnTo>
                    <a:pt x="668498" y="692084"/>
                  </a:lnTo>
                  <a:lnTo>
                    <a:pt x="619578" y="720026"/>
                  </a:lnTo>
                  <a:cubicBezTo>
                    <a:pt x="619577" y="787922"/>
                    <a:pt x="619577" y="855819"/>
                    <a:pt x="619577" y="923715"/>
                  </a:cubicBezTo>
                  <a:cubicBezTo>
                    <a:pt x="619577" y="955612"/>
                    <a:pt x="593721" y="981469"/>
                    <a:pt x="561824" y="981469"/>
                  </a:cubicBezTo>
                  <a:lnTo>
                    <a:pt x="561824" y="981468"/>
                  </a:lnTo>
                  <a:cubicBezTo>
                    <a:pt x="529927" y="981468"/>
                    <a:pt x="504070" y="955611"/>
                    <a:pt x="504071" y="923714"/>
                  </a:cubicBezTo>
                  <a:lnTo>
                    <a:pt x="504070" y="461689"/>
                  </a:lnTo>
                  <a:cubicBezTo>
                    <a:pt x="504070" y="437766"/>
                    <a:pt x="518615" y="417241"/>
                    <a:pt x="539344" y="408473"/>
                  </a:cubicBezTo>
                  <a:close/>
                  <a:moveTo>
                    <a:pt x="347586" y="501503"/>
                  </a:moveTo>
                  <a:cubicBezTo>
                    <a:pt x="354496" y="498580"/>
                    <a:pt x="362093" y="496964"/>
                    <a:pt x="370067" y="496964"/>
                  </a:cubicBezTo>
                  <a:cubicBezTo>
                    <a:pt x="401964" y="496964"/>
                    <a:pt x="427821" y="522821"/>
                    <a:pt x="427821" y="554718"/>
                  </a:cubicBezTo>
                  <a:lnTo>
                    <a:pt x="427820" y="769539"/>
                  </a:lnTo>
                  <a:lnTo>
                    <a:pt x="481679" y="738777"/>
                  </a:lnTo>
                  <a:lnTo>
                    <a:pt x="481679" y="798792"/>
                  </a:lnTo>
                  <a:lnTo>
                    <a:pt x="427820" y="829554"/>
                  </a:lnTo>
                  <a:cubicBezTo>
                    <a:pt x="427820" y="850023"/>
                    <a:pt x="427820" y="870491"/>
                    <a:pt x="427820" y="890960"/>
                  </a:cubicBezTo>
                  <a:cubicBezTo>
                    <a:pt x="427820" y="922857"/>
                    <a:pt x="401963" y="948714"/>
                    <a:pt x="370066" y="948714"/>
                  </a:cubicBezTo>
                  <a:lnTo>
                    <a:pt x="370067" y="948713"/>
                  </a:lnTo>
                  <a:cubicBezTo>
                    <a:pt x="338170" y="948713"/>
                    <a:pt x="312313" y="922856"/>
                    <a:pt x="312313" y="890959"/>
                  </a:cubicBezTo>
                  <a:lnTo>
                    <a:pt x="312313" y="554718"/>
                  </a:lnTo>
                  <a:cubicBezTo>
                    <a:pt x="312313" y="530795"/>
                    <a:pt x="326858" y="510270"/>
                    <a:pt x="347586" y="501503"/>
                  </a:cubicBezTo>
                  <a:close/>
                  <a:moveTo>
                    <a:pt x="371802" y="39332"/>
                  </a:moveTo>
                  <a:cubicBezTo>
                    <a:pt x="514881" y="-42392"/>
                    <a:pt x="697121" y="7347"/>
                    <a:pt x="778845" y="150425"/>
                  </a:cubicBezTo>
                  <a:cubicBezTo>
                    <a:pt x="780041" y="152520"/>
                    <a:pt x="781210" y="154623"/>
                    <a:pt x="781787" y="157040"/>
                  </a:cubicBezTo>
                  <a:cubicBezTo>
                    <a:pt x="863618" y="147642"/>
                    <a:pt x="946858" y="186773"/>
                    <a:pt x="990312" y="262850"/>
                  </a:cubicBezTo>
                  <a:cubicBezTo>
                    <a:pt x="1048686" y="365049"/>
                    <a:pt x="1013158" y="495220"/>
                    <a:pt x="910960" y="553594"/>
                  </a:cubicBezTo>
                  <a:lnTo>
                    <a:pt x="806399" y="613317"/>
                  </a:lnTo>
                  <a:cubicBezTo>
                    <a:pt x="806398" y="668508"/>
                    <a:pt x="806398" y="723698"/>
                    <a:pt x="806398" y="778888"/>
                  </a:cubicBezTo>
                  <a:cubicBezTo>
                    <a:pt x="806398" y="810785"/>
                    <a:pt x="780541" y="836642"/>
                    <a:pt x="748644" y="836642"/>
                  </a:cubicBezTo>
                  <a:lnTo>
                    <a:pt x="748645" y="836641"/>
                  </a:lnTo>
                  <a:cubicBezTo>
                    <a:pt x="716748" y="836641"/>
                    <a:pt x="690891" y="810784"/>
                    <a:pt x="690891" y="778887"/>
                  </a:cubicBezTo>
                  <a:lnTo>
                    <a:pt x="690891" y="526128"/>
                  </a:lnTo>
                  <a:cubicBezTo>
                    <a:pt x="690891" y="502205"/>
                    <a:pt x="705435" y="481680"/>
                    <a:pt x="726164" y="472913"/>
                  </a:cubicBezTo>
                  <a:cubicBezTo>
                    <a:pt x="733074" y="469990"/>
                    <a:pt x="740671" y="468374"/>
                    <a:pt x="748645" y="468374"/>
                  </a:cubicBezTo>
                  <a:cubicBezTo>
                    <a:pt x="780542" y="468374"/>
                    <a:pt x="806399" y="494231"/>
                    <a:pt x="806399" y="526128"/>
                  </a:cubicBezTo>
                  <a:lnTo>
                    <a:pt x="806399" y="549112"/>
                  </a:lnTo>
                  <a:cubicBezTo>
                    <a:pt x="877800" y="500884"/>
                    <a:pt x="899772" y="404862"/>
                    <a:pt x="856096" y="328398"/>
                  </a:cubicBezTo>
                  <a:cubicBezTo>
                    <a:pt x="821300" y="267478"/>
                    <a:pt x="754647" y="236145"/>
                    <a:pt x="689121" y="243670"/>
                  </a:cubicBezTo>
                  <a:cubicBezTo>
                    <a:pt x="688660" y="241736"/>
                    <a:pt x="687724" y="240051"/>
                    <a:pt x="686766" y="238374"/>
                  </a:cubicBezTo>
                  <a:cubicBezTo>
                    <a:pt x="621326" y="123804"/>
                    <a:pt x="475397" y="83977"/>
                    <a:pt x="360828" y="149417"/>
                  </a:cubicBezTo>
                  <a:cubicBezTo>
                    <a:pt x="280358" y="195380"/>
                    <a:pt x="236760" y="281049"/>
                    <a:pt x="241665" y="367508"/>
                  </a:cubicBezTo>
                  <a:cubicBezTo>
                    <a:pt x="209878" y="359290"/>
                    <a:pt x="175188" y="363587"/>
                    <a:pt x="144450" y="381144"/>
                  </a:cubicBezTo>
                  <a:cubicBezTo>
                    <a:pt x="78981" y="418539"/>
                    <a:pt x="56223" y="501924"/>
                    <a:pt x="93617" y="567393"/>
                  </a:cubicBezTo>
                  <a:lnTo>
                    <a:pt x="101597" y="576526"/>
                  </a:lnTo>
                  <a:cubicBezTo>
                    <a:pt x="58159" y="629349"/>
                    <a:pt x="49624" y="705553"/>
                    <a:pt x="85580" y="768503"/>
                  </a:cubicBezTo>
                  <a:cubicBezTo>
                    <a:pt x="127248" y="841454"/>
                    <a:pt x="214604" y="871981"/>
                    <a:pt x="289920" y="841470"/>
                  </a:cubicBezTo>
                  <a:lnTo>
                    <a:pt x="289920" y="904668"/>
                  </a:lnTo>
                  <a:cubicBezTo>
                    <a:pt x="193469" y="943164"/>
                    <a:pt x="81115" y="905351"/>
                    <a:pt x="28062" y="812470"/>
                  </a:cubicBezTo>
                  <a:cubicBezTo>
                    <a:pt x="-16840" y="733856"/>
                    <a:pt x="-6181" y="638689"/>
                    <a:pt x="48064" y="572723"/>
                  </a:cubicBezTo>
                  <a:lnTo>
                    <a:pt x="38099" y="561317"/>
                  </a:lnTo>
                  <a:cubicBezTo>
                    <a:pt x="-8600" y="479558"/>
                    <a:pt x="19821" y="375421"/>
                    <a:pt x="101580" y="328721"/>
                  </a:cubicBezTo>
                  <a:cubicBezTo>
                    <a:pt x="139967" y="306795"/>
                    <a:pt x="183290" y="301429"/>
                    <a:pt x="222985" y="311694"/>
                  </a:cubicBezTo>
                  <a:cubicBezTo>
                    <a:pt x="216862" y="203719"/>
                    <a:pt x="271309" y="96732"/>
                    <a:pt x="371802" y="39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圆角矩形 68"/>
            <p:cNvSpPr/>
            <p:nvPr/>
          </p:nvSpPr>
          <p:spPr>
            <a:xfrm flipH="1">
              <a:off x="5545800" y="2458080"/>
              <a:ext cx="574200" cy="420480"/>
            </a:xfrm>
            <a:custGeom>
              <a:avLst/>
              <a:gdLst>
                <a:gd name="textAreaLeft" fmla="*/ -360 w 574200"/>
                <a:gd name="textAreaRight" fmla="*/ 574200 w 5742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004545" h="1468058"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23"/>
          <p:cNvGrpSpPr/>
          <p:nvPr/>
        </p:nvGrpSpPr>
        <p:grpSpPr>
          <a:xfrm>
            <a:off x="4133880" y="2235240"/>
            <a:ext cx="904680" cy="904680"/>
            <a:chOff x="4133880" y="2235240"/>
            <a:chExt cx="904680" cy="904680"/>
          </a:xfrm>
        </p:grpSpPr>
        <p:sp>
          <p:nvSpPr>
            <p:cNvPr id="601" name="圆角矩形 24"/>
            <p:cNvSpPr/>
            <p:nvPr/>
          </p:nvSpPr>
          <p:spPr>
            <a:xfrm>
              <a:off x="4133880" y="2235240"/>
              <a:ext cx="904680" cy="904680"/>
            </a:xfrm>
            <a:prstGeom prst="roundRect">
              <a:avLst>
                <a:gd name="adj" fmla="val 16667"/>
              </a:avLst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圆角矩形 12"/>
            <p:cNvSpPr/>
            <p:nvPr/>
          </p:nvSpPr>
          <p:spPr>
            <a:xfrm>
              <a:off x="4341600" y="2448360"/>
              <a:ext cx="696960" cy="69156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622695" h="617749">
                  <a:moveTo>
                    <a:pt x="429846" y="90159"/>
                  </a:moveTo>
                  <a:lnTo>
                    <a:pt x="432911" y="55146"/>
                  </a:lnTo>
                  <a:lnTo>
                    <a:pt x="452508" y="0"/>
                  </a:lnTo>
                  <a:lnTo>
                    <a:pt x="622050" y="138277"/>
                  </a:lnTo>
                  <a:cubicBezTo>
                    <a:pt x="621631" y="247116"/>
                    <a:pt x="623036" y="374184"/>
                    <a:pt x="622617" y="483023"/>
                  </a:cubicBezTo>
                  <a:cubicBezTo>
                    <a:pt x="622617" y="557430"/>
                    <a:pt x="562298" y="617749"/>
                    <a:pt x="487891" y="617749"/>
                  </a:cubicBezTo>
                  <a:lnTo>
                    <a:pt x="298080" y="617290"/>
                  </a:lnTo>
                  <a:lnTo>
                    <a:pt x="9441" y="327313"/>
                  </a:lnTo>
                  <a:lnTo>
                    <a:pt x="48037" y="252091"/>
                  </a:lnTo>
                  <a:lnTo>
                    <a:pt x="2426" y="169143"/>
                  </a:lnTo>
                  <a:cubicBezTo>
                    <a:pt x="-12350" y="124880"/>
                    <a:pt x="44184" y="75437"/>
                    <a:pt x="69672" y="58519"/>
                  </a:cubicBezTo>
                  <a:cubicBezTo>
                    <a:pt x="95160" y="41601"/>
                    <a:pt x="130743" y="72875"/>
                    <a:pt x="155354" y="67634"/>
                  </a:cubicBezTo>
                  <a:lnTo>
                    <a:pt x="215514" y="48948"/>
                  </a:lnTo>
                  <a:lnTo>
                    <a:pt x="227114" y="41576"/>
                  </a:lnTo>
                  <a:lnTo>
                    <a:pt x="429846" y="90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30"/>
            <p:cNvSpPr/>
            <p:nvPr/>
          </p:nvSpPr>
          <p:spPr>
            <a:xfrm>
              <a:off x="4240080" y="2360160"/>
              <a:ext cx="691560" cy="691560"/>
            </a:xfrm>
            <a:custGeom>
              <a:avLst/>
              <a:gdLst/>
              <a:ahLst/>
              <a:rect l="l" t="t" r="r" b="b"/>
              <a:pathLst>
                <a:path w="944830" h="944830">
                  <a:moveTo>
                    <a:pt x="472415" y="0"/>
                  </a:moveTo>
                  <a:lnTo>
                    <a:pt x="646674" y="174258"/>
                  </a:lnTo>
                  <a:cubicBezTo>
                    <a:pt x="660469" y="126985"/>
                    <a:pt x="704464" y="93179"/>
                    <a:pt x="756355" y="93179"/>
                  </a:cubicBezTo>
                  <a:cubicBezTo>
                    <a:pt x="820926" y="93179"/>
                    <a:pt x="873272" y="145525"/>
                    <a:pt x="873272" y="210096"/>
                  </a:cubicBezTo>
                  <a:cubicBezTo>
                    <a:pt x="873272" y="261987"/>
                    <a:pt x="839466" y="305983"/>
                    <a:pt x="792193" y="319778"/>
                  </a:cubicBezTo>
                  <a:lnTo>
                    <a:pt x="944830" y="472415"/>
                  </a:lnTo>
                  <a:lnTo>
                    <a:pt x="787583" y="629662"/>
                  </a:lnTo>
                  <a:cubicBezTo>
                    <a:pt x="768788" y="595026"/>
                    <a:pt x="731782" y="572630"/>
                    <a:pt x="689546" y="572630"/>
                  </a:cubicBezTo>
                  <a:cubicBezTo>
                    <a:pt x="624975" y="572630"/>
                    <a:pt x="572629" y="624976"/>
                    <a:pt x="572629" y="689547"/>
                  </a:cubicBezTo>
                  <a:cubicBezTo>
                    <a:pt x="572629" y="731783"/>
                    <a:pt x="595025" y="768788"/>
                    <a:pt x="629662" y="787584"/>
                  </a:cubicBezTo>
                  <a:lnTo>
                    <a:pt x="472415" y="944830"/>
                  </a:lnTo>
                  <a:lnTo>
                    <a:pt x="315169" y="787584"/>
                  </a:lnTo>
                  <a:cubicBezTo>
                    <a:pt x="349805" y="768788"/>
                    <a:pt x="372201" y="731783"/>
                    <a:pt x="372201" y="689547"/>
                  </a:cubicBezTo>
                  <a:cubicBezTo>
                    <a:pt x="372201" y="624976"/>
                    <a:pt x="319855" y="572630"/>
                    <a:pt x="255284" y="572630"/>
                  </a:cubicBezTo>
                  <a:cubicBezTo>
                    <a:pt x="213048" y="572630"/>
                    <a:pt x="176043" y="595026"/>
                    <a:pt x="157247" y="629662"/>
                  </a:cubicBezTo>
                  <a:lnTo>
                    <a:pt x="0" y="472415"/>
                  </a:lnTo>
                  <a:lnTo>
                    <a:pt x="152637" y="319778"/>
                  </a:lnTo>
                  <a:cubicBezTo>
                    <a:pt x="105363" y="305983"/>
                    <a:pt x="71557" y="261987"/>
                    <a:pt x="71557" y="210096"/>
                  </a:cubicBezTo>
                  <a:cubicBezTo>
                    <a:pt x="71557" y="145525"/>
                    <a:pt x="123903" y="93179"/>
                    <a:pt x="188474" y="93179"/>
                  </a:cubicBezTo>
                  <a:cubicBezTo>
                    <a:pt x="240365" y="93179"/>
                    <a:pt x="284362" y="126985"/>
                    <a:pt x="298156" y="174259"/>
                  </a:cubicBezTo>
                  <a:lnTo>
                    <a:pt x="4724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27"/>
          <p:cNvGrpSpPr/>
          <p:nvPr/>
        </p:nvGrpSpPr>
        <p:grpSpPr>
          <a:xfrm>
            <a:off x="2954160" y="2232000"/>
            <a:ext cx="906480" cy="907920"/>
            <a:chOff x="2954160" y="2232000"/>
            <a:chExt cx="906480" cy="90792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954160" y="2232000"/>
              <a:ext cx="906480" cy="907920"/>
              <a:chOff x="2954160" y="2232000"/>
              <a:chExt cx="906480" cy="907920"/>
            </a:xfrm>
          </p:grpSpPr>
          <p:sp>
            <p:nvSpPr>
              <p:cNvPr id="606" name="圆角矩形 34"/>
              <p:cNvSpPr/>
              <p:nvPr/>
            </p:nvSpPr>
            <p:spPr>
              <a:xfrm>
                <a:off x="2954160" y="2232000"/>
                <a:ext cx="906480" cy="907920"/>
              </a:xfrm>
              <a:custGeom>
                <a:avLst/>
                <a:gdLst>
                  <a:gd name="textAreaLeft" fmla="*/ 43920 w 906480"/>
                  <a:gd name="textAreaRight" fmla="*/ 862560 w 906480"/>
                  <a:gd name="textAreaTop" fmla="*/ 43920 h 907920"/>
                  <a:gd name="textAreaBottom" fmla="*/ 864000 h 90792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a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圆角矩形 3"/>
              <p:cNvSpPr/>
              <p:nvPr/>
            </p:nvSpPr>
            <p:spPr>
              <a:xfrm>
                <a:off x="3135960" y="2426040"/>
                <a:ext cx="724680" cy="713880"/>
              </a:xfrm>
              <a:custGeom>
                <a:avLst/>
                <a:gdLst>
                  <a:gd name="textAreaLeft" fmla="*/ 0 w 724680"/>
                  <a:gd name="textAreaRight" fmla="*/ 725040 w 724680"/>
                  <a:gd name="textAreaTop" fmla="*/ 0 h 713880"/>
                  <a:gd name="textAreaBottom" fmla="*/ 714240 h 713880"/>
                </a:gdLst>
                <a:ahLst/>
                <a:rect l="textAreaLeft" t="textAreaTop" r="textAreaRight" b="textAreaBottom"/>
                <a:pathLst>
                  <a:path w="2532980" h="2491439">
                    <a:moveTo>
                      <a:pt x="343970" y="171138"/>
                    </a:moveTo>
                    <a:cubicBezTo>
                      <a:pt x="470055" y="139465"/>
                      <a:pt x="606836" y="54312"/>
                      <a:pt x="732921" y="22639"/>
                    </a:cubicBezTo>
                    <a:lnTo>
                      <a:pt x="1112274" y="0"/>
                    </a:lnTo>
                    <a:lnTo>
                      <a:pt x="1513111" y="65527"/>
                    </a:lnTo>
                    <a:lnTo>
                      <a:pt x="2528113" y="881906"/>
                    </a:lnTo>
                    <a:cubicBezTo>
                      <a:pt x="2529735" y="1242394"/>
                      <a:pt x="2531358" y="1602882"/>
                      <a:pt x="2532980" y="1963370"/>
                    </a:cubicBezTo>
                    <a:cubicBezTo>
                      <a:pt x="2532980" y="2255014"/>
                      <a:pt x="2296555" y="2491439"/>
                      <a:pt x="2004911" y="2491439"/>
                    </a:cubicBezTo>
                    <a:lnTo>
                      <a:pt x="1404520" y="2491439"/>
                    </a:lnTo>
                    <a:lnTo>
                      <a:pt x="250384" y="1679326"/>
                    </a:lnTo>
                    <a:lnTo>
                      <a:pt x="325895" y="1665228"/>
                    </a:lnTo>
                    <a:lnTo>
                      <a:pt x="121105" y="1491900"/>
                    </a:lnTo>
                    <a:lnTo>
                      <a:pt x="1" y="667946"/>
                    </a:lnTo>
                    <a:lnTo>
                      <a:pt x="343970" y="171138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3117960" y="2396160"/>
              <a:ext cx="578520" cy="579240"/>
              <a:chOff x="3117960" y="2396160"/>
              <a:chExt cx="578520" cy="579240"/>
            </a:xfrm>
          </p:grpSpPr>
          <p:sp>
            <p:nvSpPr>
              <p:cNvPr id="609" name="Freeform 5"/>
              <p:cNvSpPr/>
              <p:nvPr/>
            </p:nvSpPr>
            <p:spPr>
              <a:xfrm>
                <a:off x="3117960" y="2396160"/>
                <a:ext cx="578520" cy="579240"/>
              </a:xfrm>
              <a:custGeom>
                <a:avLst/>
                <a:gdLst>
                  <a:gd name="textAreaLeft" fmla="*/ 0 w 578520"/>
                  <a:gd name="textAreaRight" fmla="*/ 578880 w 57852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3528392" h="3528392">
                    <a:moveTo>
                      <a:pt x="1764197" y="3168152"/>
                    </a:moveTo>
                    <a:cubicBezTo>
                      <a:pt x="1863675" y="3168152"/>
                      <a:pt x="1944317" y="3248794"/>
                      <a:pt x="1944317" y="3348272"/>
                    </a:cubicBezTo>
                    <a:cubicBezTo>
                      <a:pt x="1944317" y="3447750"/>
                      <a:pt x="1863675" y="3528392"/>
                      <a:pt x="1764197" y="3528392"/>
                    </a:cubicBezTo>
                    <a:cubicBezTo>
                      <a:pt x="1664719" y="3528392"/>
                      <a:pt x="1584077" y="3447750"/>
                      <a:pt x="1584077" y="3348272"/>
                    </a:cubicBezTo>
                    <a:cubicBezTo>
                      <a:pt x="1584077" y="3248794"/>
                      <a:pt x="1664719" y="3168152"/>
                      <a:pt x="1764197" y="3168152"/>
                    </a:cubicBezTo>
                    <a:close/>
                    <a:moveTo>
                      <a:pt x="2306111" y="3088523"/>
                    </a:moveTo>
                    <a:cubicBezTo>
                      <a:pt x="2405589" y="3088523"/>
                      <a:pt x="2486231" y="3169165"/>
                      <a:pt x="2486231" y="3268643"/>
                    </a:cubicBezTo>
                    <a:cubicBezTo>
                      <a:pt x="2486231" y="3368121"/>
                      <a:pt x="2405589" y="3448763"/>
                      <a:pt x="2306111" y="3448763"/>
                    </a:cubicBezTo>
                    <a:cubicBezTo>
                      <a:pt x="2206633" y="3448763"/>
                      <a:pt x="2125991" y="3368121"/>
                      <a:pt x="2125991" y="3268643"/>
                    </a:cubicBezTo>
                    <a:cubicBezTo>
                      <a:pt x="2125991" y="3169165"/>
                      <a:pt x="2206633" y="3088523"/>
                      <a:pt x="2306111" y="3088523"/>
                    </a:cubicBezTo>
                    <a:close/>
                    <a:moveTo>
                      <a:pt x="1222281" y="3088523"/>
                    </a:moveTo>
                    <a:cubicBezTo>
                      <a:pt x="1321759" y="3088523"/>
                      <a:pt x="1402401" y="3169165"/>
                      <a:pt x="1402401" y="3268643"/>
                    </a:cubicBezTo>
                    <a:cubicBezTo>
                      <a:pt x="1402401" y="3368121"/>
                      <a:pt x="1321759" y="3448763"/>
                      <a:pt x="1222281" y="3448763"/>
                    </a:cubicBezTo>
                    <a:cubicBezTo>
                      <a:pt x="1122803" y="3448763"/>
                      <a:pt x="1042161" y="3368121"/>
                      <a:pt x="1042161" y="3268643"/>
                    </a:cubicBezTo>
                    <a:cubicBezTo>
                      <a:pt x="1042161" y="3169165"/>
                      <a:pt x="1122803" y="3088523"/>
                      <a:pt x="1222281" y="3088523"/>
                    </a:cubicBezTo>
                    <a:close/>
                    <a:moveTo>
                      <a:pt x="2848027" y="2808310"/>
                    </a:moveTo>
                    <a:cubicBezTo>
                      <a:pt x="2947505" y="2808310"/>
                      <a:pt x="3028147" y="2888952"/>
                      <a:pt x="3028147" y="2988430"/>
                    </a:cubicBezTo>
                    <a:cubicBezTo>
                      <a:pt x="3028147" y="3087908"/>
                      <a:pt x="2947505" y="3168550"/>
                      <a:pt x="2848027" y="3168550"/>
                    </a:cubicBezTo>
                    <a:cubicBezTo>
                      <a:pt x="2748549" y="3168550"/>
                      <a:pt x="2667907" y="3087908"/>
                      <a:pt x="2667907" y="2988430"/>
                    </a:cubicBezTo>
                    <a:cubicBezTo>
                      <a:pt x="2667907" y="2888952"/>
                      <a:pt x="2748549" y="2808310"/>
                      <a:pt x="2848027" y="2808310"/>
                    </a:cubicBezTo>
                    <a:close/>
                    <a:moveTo>
                      <a:pt x="680366" y="2808310"/>
                    </a:moveTo>
                    <a:cubicBezTo>
                      <a:pt x="779844" y="2808310"/>
                      <a:pt x="860486" y="2888952"/>
                      <a:pt x="860486" y="2988430"/>
                    </a:cubicBezTo>
                    <a:cubicBezTo>
                      <a:pt x="860486" y="3087908"/>
                      <a:pt x="779844" y="3168550"/>
                      <a:pt x="680366" y="3168550"/>
                    </a:cubicBezTo>
                    <a:cubicBezTo>
                      <a:pt x="580888" y="3168550"/>
                      <a:pt x="500246" y="3087908"/>
                      <a:pt x="500246" y="2988430"/>
                    </a:cubicBezTo>
                    <a:cubicBezTo>
                      <a:pt x="500246" y="2888952"/>
                      <a:pt x="580888" y="2808310"/>
                      <a:pt x="680366" y="2808310"/>
                    </a:cubicBezTo>
                    <a:close/>
                    <a:moveTo>
                      <a:pt x="1933280" y="1530863"/>
                    </a:moveTo>
                    <a:cubicBezTo>
                      <a:pt x="1933283" y="1530934"/>
                      <a:pt x="1934674" y="1568342"/>
                      <a:pt x="2041765" y="1607037"/>
                    </a:cubicBezTo>
                    <a:cubicBezTo>
                      <a:pt x="2041824" y="1607056"/>
                      <a:pt x="2079385" y="1618930"/>
                      <a:pt x="2124584" y="1638478"/>
                    </a:cubicBezTo>
                    <a:cubicBezTo>
                      <a:pt x="2123612" y="1668724"/>
                      <a:pt x="2123924" y="1682833"/>
                      <a:pt x="2152189" y="1730974"/>
                    </a:cubicBezTo>
                    <a:cubicBezTo>
                      <a:pt x="2160358" y="1788157"/>
                      <a:pt x="2168527" y="1816563"/>
                      <a:pt x="2219792" y="1889423"/>
                    </a:cubicBezTo>
                    <a:cubicBezTo>
                      <a:pt x="2216989" y="1899436"/>
                      <a:pt x="2200563" y="1930473"/>
                      <a:pt x="2112241" y="1962387"/>
                    </a:cubicBezTo>
                    <a:cubicBezTo>
                      <a:pt x="2112160" y="1962413"/>
                      <a:pt x="1912054" y="2025664"/>
                      <a:pt x="1878482" y="2097950"/>
                    </a:cubicBezTo>
                    <a:cubicBezTo>
                      <a:pt x="1878446" y="2098031"/>
                      <a:pt x="1828865" y="2210606"/>
                      <a:pt x="1804925" y="2351957"/>
                    </a:cubicBezTo>
                    <a:cubicBezTo>
                      <a:pt x="1777821" y="2353788"/>
                      <a:pt x="1749966" y="2353916"/>
                      <a:pt x="1721477" y="2353281"/>
                    </a:cubicBezTo>
                    <a:cubicBezTo>
                      <a:pt x="1721446" y="2353280"/>
                      <a:pt x="1715416" y="2352980"/>
                      <a:pt x="1704479" y="2352222"/>
                    </a:cubicBezTo>
                    <a:cubicBezTo>
                      <a:pt x="1681823" y="2202694"/>
                      <a:pt x="1628042" y="2080618"/>
                      <a:pt x="1628042" y="2080618"/>
                    </a:cubicBezTo>
                    <a:cubicBezTo>
                      <a:pt x="1594464" y="2008318"/>
                      <a:pt x="1394283" y="1945055"/>
                      <a:pt x="1394283" y="1945055"/>
                    </a:cubicBezTo>
                    <a:cubicBezTo>
                      <a:pt x="1327470" y="1920913"/>
                      <a:pt x="1301800" y="1897273"/>
                      <a:pt x="1291951" y="1882881"/>
                    </a:cubicBezTo>
                    <a:cubicBezTo>
                      <a:pt x="1339421" y="1814842"/>
                      <a:pt x="1347347" y="1786451"/>
                      <a:pt x="1355271" y="1730974"/>
                    </a:cubicBezTo>
                    <a:cubicBezTo>
                      <a:pt x="1384239" y="1681636"/>
                      <a:pt x="1383846" y="1668045"/>
                      <a:pt x="1382833" y="1636192"/>
                    </a:cubicBezTo>
                    <a:cubicBezTo>
                      <a:pt x="1447978" y="1613075"/>
                      <a:pt x="1552891" y="1570191"/>
                      <a:pt x="1562624" y="1532154"/>
                    </a:cubicBezTo>
                    <a:cubicBezTo>
                      <a:pt x="1562680" y="1532297"/>
                      <a:pt x="1722805" y="1946519"/>
                      <a:pt x="1933280" y="1530863"/>
                    </a:cubicBezTo>
                    <a:close/>
                    <a:moveTo>
                      <a:pt x="1764196" y="0"/>
                    </a:moveTo>
                    <a:cubicBezTo>
                      <a:pt x="2738535" y="0"/>
                      <a:pt x="3528392" y="789857"/>
                      <a:pt x="3528392" y="1764196"/>
                    </a:cubicBezTo>
                    <a:cubicBezTo>
                      <a:pt x="3528392" y="2147647"/>
                      <a:pt x="3406058" y="2502524"/>
                      <a:pt x="3196911" y="2790940"/>
                    </a:cubicBezTo>
                    <a:cubicBezTo>
                      <a:pt x="3105238" y="2711167"/>
                      <a:pt x="2985186" y="2664296"/>
                      <a:pt x="2854187" y="2664296"/>
                    </a:cubicBezTo>
                    <a:lnTo>
                      <a:pt x="1928833" y="2664296"/>
                    </a:lnTo>
                    <a:cubicBezTo>
                      <a:pt x="1911688" y="2659265"/>
                      <a:pt x="1895407" y="2652750"/>
                      <a:pt x="1879764" y="2645821"/>
                    </a:cubicBezTo>
                    <a:cubicBezTo>
                      <a:pt x="1879731" y="2645813"/>
                      <a:pt x="1850060" y="2638034"/>
                      <a:pt x="1848768" y="2567065"/>
                    </a:cubicBezTo>
                    <a:cubicBezTo>
                      <a:pt x="1848775" y="2566880"/>
                      <a:pt x="1859129" y="2258454"/>
                      <a:pt x="1953379" y="2119060"/>
                    </a:cubicBezTo>
                    <a:cubicBezTo>
                      <a:pt x="1953426" y="2118995"/>
                      <a:pt x="1979266" y="2082887"/>
                      <a:pt x="2042491" y="2058379"/>
                    </a:cubicBezTo>
                    <a:cubicBezTo>
                      <a:pt x="2042574" y="2058355"/>
                      <a:pt x="2259465" y="1992523"/>
                      <a:pt x="2273667" y="1937017"/>
                    </a:cubicBezTo>
                    <a:cubicBezTo>
                      <a:pt x="2273696" y="1937091"/>
                      <a:pt x="2433831" y="2351417"/>
                      <a:pt x="2644324" y="1935726"/>
                    </a:cubicBezTo>
                    <a:cubicBezTo>
                      <a:pt x="2644328" y="1935807"/>
                      <a:pt x="2645732" y="1973209"/>
                      <a:pt x="2752809" y="2011900"/>
                    </a:cubicBezTo>
                    <a:cubicBezTo>
                      <a:pt x="2752952" y="2011945"/>
                      <a:pt x="2953001" y="2075188"/>
                      <a:pt x="2986568" y="2147463"/>
                    </a:cubicBezTo>
                    <a:cubicBezTo>
                      <a:pt x="2986588" y="2147508"/>
                      <a:pt x="3026939" y="2239115"/>
                      <a:pt x="3052650" y="2360791"/>
                    </a:cubicBezTo>
                    <a:cubicBezTo>
                      <a:pt x="3138252" y="2179861"/>
                      <a:pt x="3185256" y="1977518"/>
                      <a:pt x="3185256" y="1764196"/>
                    </a:cubicBezTo>
                    <a:cubicBezTo>
                      <a:pt x="3185256" y="979366"/>
                      <a:pt x="2549026" y="343136"/>
                      <a:pt x="1764196" y="343136"/>
                    </a:cubicBezTo>
                    <a:cubicBezTo>
                      <a:pt x="979366" y="343136"/>
                      <a:pt x="343136" y="979366"/>
                      <a:pt x="343136" y="1764196"/>
                    </a:cubicBezTo>
                    <a:cubicBezTo>
                      <a:pt x="343136" y="1963681"/>
                      <a:pt x="384240" y="2153565"/>
                      <a:pt x="458827" y="2325675"/>
                    </a:cubicBezTo>
                    <a:cubicBezTo>
                      <a:pt x="472240" y="2242413"/>
                      <a:pt x="497036" y="2153940"/>
                      <a:pt x="536658" y="2095340"/>
                    </a:cubicBezTo>
                    <a:cubicBezTo>
                      <a:pt x="536680" y="2095310"/>
                      <a:pt x="562515" y="2059182"/>
                      <a:pt x="625771" y="2034661"/>
                    </a:cubicBezTo>
                    <a:cubicBezTo>
                      <a:pt x="625886" y="2034627"/>
                      <a:pt x="842747" y="1968800"/>
                      <a:pt x="856948" y="1913299"/>
                    </a:cubicBezTo>
                    <a:cubicBezTo>
                      <a:pt x="856991" y="1913411"/>
                      <a:pt x="1017121" y="2327680"/>
                      <a:pt x="1227604" y="1912008"/>
                    </a:cubicBezTo>
                    <a:cubicBezTo>
                      <a:pt x="1227605" y="1912072"/>
                      <a:pt x="1228990" y="1949480"/>
                      <a:pt x="1336089" y="1988181"/>
                    </a:cubicBezTo>
                    <a:cubicBezTo>
                      <a:pt x="1336259" y="1988235"/>
                      <a:pt x="1536284" y="2051476"/>
                      <a:pt x="1569848" y="2123746"/>
                    </a:cubicBezTo>
                    <a:cubicBezTo>
                      <a:pt x="1569906" y="2123878"/>
                      <a:pt x="1679619" y="2372983"/>
                      <a:pt x="1653795" y="2594989"/>
                    </a:cubicBezTo>
                    <a:cubicBezTo>
                      <a:pt x="1653791" y="2595036"/>
                      <a:pt x="1652457" y="2613096"/>
                      <a:pt x="1616341" y="2636305"/>
                    </a:cubicBezTo>
                    <a:cubicBezTo>
                      <a:pt x="1616298" y="2636324"/>
                      <a:pt x="1586869" y="2648627"/>
                      <a:pt x="1534270" y="2664296"/>
                    </a:cubicBezTo>
                    <a:lnTo>
                      <a:pt x="688643" y="2664296"/>
                    </a:lnTo>
                    <a:cubicBezTo>
                      <a:pt x="553466" y="2664296"/>
                      <a:pt x="429945" y="2714205"/>
                      <a:pt x="336990" y="2798307"/>
                    </a:cubicBezTo>
                    <a:cubicBezTo>
                      <a:pt x="124451" y="2508637"/>
                      <a:pt x="0" y="2150950"/>
                      <a:pt x="0" y="1764196"/>
                    </a:cubicBezTo>
                    <a:cubicBezTo>
                      <a:pt x="0" y="789857"/>
                      <a:pt x="789857" y="0"/>
                      <a:pt x="17641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"/>
              <p:cNvSpPr/>
              <p:nvPr/>
            </p:nvSpPr>
            <p:spPr>
              <a:xfrm>
                <a:off x="3357360" y="252108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"/>
              <p:cNvSpPr/>
              <p:nvPr/>
            </p:nvSpPr>
            <p:spPr>
              <a:xfrm>
                <a:off x="3241800" y="258372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6"/>
              <p:cNvSpPr/>
              <p:nvPr/>
            </p:nvSpPr>
            <p:spPr>
              <a:xfrm>
                <a:off x="3474000" y="258768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3" name="组合 36"/>
          <p:cNvGrpSpPr/>
          <p:nvPr/>
        </p:nvGrpSpPr>
        <p:grpSpPr>
          <a:xfrm>
            <a:off x="1774800" y="2235240"/>
            <a:ext cx="906480" cy="906480"/>
            <a:chOff x="1774800" y="2235240"/>
            <a:chExt cx="906480" cy="906480"/>
          </a:xfrm>
        </p:grpSpPr>
        <p:grpSp>
          <p:nvGrpSpPr>
            <p:cNvPr id="614" name="组合 37"/>
            <p:cNvGrpSpPr/>
            <p:nvPr/>
          </p:nvGrpSpPr>
          <p:grpSpPr>
            <a:xfrm>
              <a:off x="1774800" y="2235240"/>
              <a:ext cx="906480" cy="906480"/>
              <a:chOff x="1774800" y="2235240"/>
              <a:chExt cx="906480" cy="906480"/>
            </a:xfrm>
          </p:grpSpPr>
          <p:sp>
            <p:nvSpPr>
              <p:cNvPr id="615" name="圆角矩形 39"/>
              <p:cNvSpPr/>
              <p:nvPr/>
            </p:nvSpPr>
            <p:spPr>
              <a:xfrm>
                <a:off x="1774800" y="2235240"/>
                <a:ext cx="906480" cy="906480"/>
              </a:xfrm>
              <a:prstGeom prst="roundRect">
                <a:avLst>
                  <a:gd name="adj" fmla="val 16667"/>
                </a:avLst>
              </a:prstGeom>
              <a:solidFill>
                <a:srgbClr val="0b2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圆角矩形 3"/>
              <p:cNvSpPr/>
              <p:nvPr/>
            </p:nvSpPr>
            <p:spPr>
              <a:xfrm>
                <a:off x="1956600" y="2428920"/>
                <a:ext cx="724680" cy="712800"/>
              </a:xfrm>
              <a:custGeom>
                <a:avLst/>
                <a:gdLst>
                  <a:gd name="textAreaLeft" fmla="*/ 0 w 724680"/>
                  <a:gd name="textAreaRight" fmla="*/ 725040 w 724680"/>
                  <a:gd name="textAreaTop" fmla="*/ 0 h 712800"/>
                  <a:gd name="textAreaBottom" fmla="*/ 713160 h 712800"/>
                </a:gdLst>
                <a:ahLst/>
                <a:rect l="textAreaLeft" t="textAreaTop" r="textAreaRight" b="textAreaBottom"/>
                <a:pathLst>
                  <a:path w="2532980" h="2491439">
                    <a:moveTo>
                      <a:pt x="343970" y="171138"/>
                    </a:moveTo>
                    <a:cubicBezTo>
                      <a:pt x="470055" y="139465"/>
                      <a:pt x="606836" y="54312"/>
                      <a:pt x="732921" y="22639"/>
                    </a:cubicBezTo>
                    <a:lnTo>
                      <a:pt x="1112274" y="0"/>
                    </a:lnTo>
                    <a:lnTo>
                      <a:pt x="1464978" y="38787"/>
                    </a:lnTo>
                    <a:lnTo>
                      <a:pt x="2528113" y="881906"/>
                    </a:lnTo>
                    <a:cubicBezTo>
                      <a:pt x="2529735" y="1242394"/>
                      <a:pt x="2531358" y="1602882"/>
                      <a:pt x="2532980" y="1963370"/>
                    </a:cubicBezTo>
                    <a:cubicBezTo>
                      <a:pt x="2532980" y="2255014"/>
                      <a:pt x="2296555" y="2491439"/>
                      <a:pt x="2004911" y="2491439"/>
                    </a:cubicBezTo>
                    <a:lnTo>
                      <a:pt x="1404520" y="2491439"/>
                    </a:lnTo>
                    <a:lnTo>
                      <a:pt x="319912" y="1700718"/>
                    </a:lnTo>
                    <a:lnTo>
                      <a:pt x="8793" y="1160315"/>
                    </a:lnTo>
                    <a:lnTo>
                      <a:pt x="1" y="667946"/>
                    </a:lnTo>
                    <a:lnTo>
                      <a:pt x="343970" y="171138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椭圆 130"/>
            <p:cNvSpPr/>
            <p:nvPr/>
          </p:nvSpPr>
          <p:spPr>
            <a:xfrm>
              <a:off x="1938600" y="2399040"/>
              <a:ext cx="578520" cy="5785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2211268" h="2211268">
                  <a:moveTo>
                    <a:pt x="895591" y="1421831"/>
                  </a:moveTo>
                  <a:lnTo>
                    <a:pt x="673189" y="1931286"/>
                  </a:lnTo>
                  <a:cubicBezTo>
                    <a:pt x="802247" y="1999646"/>
                    <a:pt x="949457" y="2038044"/>
                    <a:pt x="1105634" y="2038044"/>
                  </a:cubicBezTo>
                  <a:cubicBezTo>
                    <a:pt x="1261812" y="2038044"/>
                    <a:pt x="1409021" y="1999646"/>
                    <a:pt x="1538079" y="1931286"/>
                  </a:cubicBezTo>
                  <a:lnTo>
                    <a:pt x="1315678" y="1421831"/>
                  </a:lnTo>
                  <a:cubicBezTo>
                    <a:pt x="1255626" y="1462097"/>
                    <a:pt x="1183357" y="1485442"/>
                    <a:pt x="1105634" y="1485442"/>
                  </a:cubicBezTo>
                  <a:cubicBezTo>
                    <a:pt x="1027912" y="1485442"/>
                    <a:pt x="955642" y="1462097"/>
                    <a:pt x="895591" y="1421831"/>
                  </a:cubicBezTo>
                  <a:close/>
                  <a:moveTo>
                    <a:pt x="1105634" y="864096"/>
                  </a:moveTo>
                  <a:cubicBezTo>
                    <a:pt x="972236" y="864096"/>
                    <a:pt x="864096" y="972236"/>
                    <a:pt x="864096" y="1105634"/>
                  </a:cubicBezTo>
                  <a:cubicBezTo>
                    <a:pt x="864096" y="1239032"/>
                    <a:pt x="972236" y="1347172"/>
                    <a:pt x="1105634" y="1347172"/>
                  </a:cubicBezTo>
                  <a:cubicBezTo>
                    <a:pt x="1239032" y="1347172"/>
                    <a:pt x="1347172" y="1239032"/>
                    <a:pt x="1347172" y="1105634"/>
                  </a:cubicBezTo>
                  <a:cubicBezTo>
                    <a:pt x="1347172" y="972236"/>
                    <a:pt x="1239032" y="864096"/>
                    <a:pt x="1105634" y="864096"/>
                  </a:cubicBezTo>
                  <a:close/>
                  <a:moveTo>
                    <a:pt x="1931286" y="673190"/>
                  </a:moveTo>
                  <a:lnTo>
                    <a:pt x="1421831" y="895591"/>
                  </a:lnTo>
                  <a:cubicBezTo>
                    <a:pt x="1462097" y="955643"/>
                    <a:pt x="1485442" y="1027912"/>
                    <a:pt x="1485442" y="1105635"/>
                  </a:cubicBezTo>
                  <a:cubicBezTo>
                    <a:pt x="1485442" y="1183357"/>
                    <a:pt x="1462097" y="1255627"/>
                    <a:pt x="1421831" y="1315678"/>
                  </a:cubicBezTo>
                  <a:lnTo>
                    <a:pt x="1931286" y="1538080"/>
                  </a:lnTo>
                  <a:cubicBezTo>
                    <a:pt x="1999646" y="1409022"/>
                    <a:pt x="2038044" y="1261812"/>
                    <a:pt x="2038044" y="1105635"/>
                  </a:cubicBezTo>
                  <a:cubicBezTo>
                    <a:pt x="2038044" y="949457"/>
                    <a:pt x="1999646" y="802248"/>
                    <a:pt x="1931286" y="673190"/>
                  </a:cubicBezTo>
                  <a:close/>
                  <a:moveTo>
                    <a:pt x="279982" y="673190"/>
                  </a:moveTo>
                  <a:cubicBezTo>
                    <a:pt x="211622" y="802248"/>
                    <a:pt x="173224" y="949457"/>
                    <a:pt x="173224" y="1105635"/>
                  </a:cubicBezTo>
                  <a:cubicBezTo>
                    <a:pt x="173224" y="1261812"/>
                    <a:pt x="211622" y="1409022"/>
                    <a:pt x="279982" y="1538080"/>
                  </a:cubicBezTo>
                  <a:lnTo>
                    <a:pt x="789437" y="1315678"/>
                  </a:lnTo>
                  <a:cubicBezTo>
                    <a:pt x="749172" y="1255627"/>
                    <a:pt x="725826" y="1183357"/>
                    <a:pt x="725826" y="1105635"/>
                  </a:cubicBezTo>
                  <a:cubicBezTo>
                    <a:pt x="725826" y="1027912"/>
                    <a:pt x="749172" y="955643"/>
                    <a:pt x="789437" y="895591"/>
                  </a:cubicBezTo>
                  <a:lnTo>
                    <a:pt x="279982" y="673190"/>
                  </a:lnTo>
                  <a:close/>
                  <a:moveTo>
                    <a:pt x="1105634" y="173224"/>
                  </a:moveTo>
                  <a:cubicBezTo>
                    <a:pt x="949457" y="173224"/>
                    <a:pt x="802247" y="211622"/>
                    <a:pt x="673189" y="279982"/>
                  </a:cubicBezTo>
                  <a:lnTo>
                    <a:pt x="895591" y="789437"/>
                  </a:lnTo>
                  <a:cubicBezTo>
                    <a:pt x="955642" y="749172"/>
                    <a:pt x="1027912" y="725826"/>
                    <a:pt x="1105634" y="725826"/>
                  </a:cubicBezTo>
                  <a:cubicBezTo>
                    <a:pt x="1183357" y="725826"/>
                    <a:pt x="1255626" y="749172"/>
                    <a:pt x="1315678" y="789437"/>
                  </a:cubicBezTo>
                  <a:lnTo>
                    <a:pt x="1538079" y="279982"/>
                  </a:lnTo>
                  <a:cubicBezTo>
                    <a:pt x="1409021" y="211622"/>
                    <a:pt x="1261812" y="173224"/>
                    <a:pt x="1105634" y="173224"/>
                  </a:cubicBezTo>
                  <a:close/>
                  <a:moveTo>
                    <a:pt x="1105634" y="0"/>
                  </a:moveTo>
                  <a:cubicBezTo>
                    <a:pt x="1716259" y="0"/>
                    <a:pt x="2211268" y="495009"/>
                    <a:pt x="2211268" y="1105634"/>
                  </a:cubicBezTo>
                  <a:cubicBezTo>
                    <a:pt x="2211268" y="1716259"/>
                    <a:pt x="1716259" y="2211268"/>
                    <a:pt x="1105634" y="2211268"/>
                  </a:cubicBezTo>
                  <a:cubicBezTo>
                    <a:pt x="495009" y="2211268"/>
                    <a:pt x="0" y="1716259"/>
                    <a:pt x="0" y="1105634"/>
                  </a:cubicBezTo>
                  <a:cubicBezTo>
                    <a:pt x="0" y="495009"/>
                    <a:pt x="495009" y="0"/>
                    <a:pt x="11056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41"/>
          <p:cNvGrpSpPr/>
          <p:nvPr/>
        </p:nvGrpSpPr>
        <p:grpSpPr>
          <a:xfrm>
            <a:off x="6491160" y="2224080"/>
            <a:ext cx="908280" cy="906480"/>
            <a:chOff x="6491160" y="2224080"/>
            <a:chExt cx="908280" cy="906480"/>
          </a:xfrm>
        </p:grpSpPr>
        <p:sp>
          <p:nvSpPr>
            <p:cNvPr id="619" name="圆角矩形 42"/>
            <p:cNvSpPr/>
            <p:nvPr/>
          </p:nvSpPr>
          <p:spPr>
            <a:xfrm>
              <a:off x="6491160" y="2224080"/>
              <a:ext cx="908280" cy="90648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圆角矩形 12"/>
            <p:cNvSpPr/>
            <p:nvPr/>
          </p:nvSpPr>
          <p:spPr>
            <a:xfrm>
              <a:off x="6708240" y="2384640"/>
              <a:ext cx="691200" cy="7459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15000" h="665046">
                  <a:moveTo>
                    <a:pt x="306356" y="0"/>
                  </a:moveTo>
                  <a:lnTo>
                    <a:pt x="613633" y="178506"/>
                  </a:lnTo>
                  <a:cubicBezTo>
                    <a:pt x="614089" y="304741"/>
                    <a:pt x="614544" y="404085"/>
                    <a:pt x="615000" y="530320"/>
                  </a:cubicBezTo>
                  <a:cubicBezTo>
                    <a:pt x="615000" y="604727"/>
                    <a:pt x="554681" y="665046"/>
                    <a:pt x="480274" y="665046"/>
                  </a:cubicBezTo>
                  <a:lnTo>
                    <a:pt x="241028" y="665046"/>
                  </a:lnTo>
                  <a:lnTo>
                    <a:pt x="0" y="503133"/>
                  </a:lnTo>
                  <a:lnTo>
                    <a:pt x="191730" y="453433"/>
                  </a:lnTo>
                  <a:lnTo>
                    <a:pt x="22609" y="331747"/>
                  </a:lnTo>
                  <a:lnTo>
                    <a:pt x="90973" y="188683"/>
                  </a:lnTo>
                  <a:lnTo>
                    <a:pt x="106390" y="25795"/>
                  </a:lnTo>
                  <a:lnTo>
                    <a:pt x="306356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同侧圆角矩形 42"/>
            <p:cNvSpPr/>
            <p:nvPr/>
          </p:nvSpPr>
          <p:spPr>
            <a:xfrm>
              <a:off x="6675120" y="2345400"/>
              <a:ext cx="540360" cy="61416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nodeType="clickEffect" fill="hold">
                      <p:stCondLst>
                        <p:cond delay="0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624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632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结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5"/>
          <p:cNvGrpSpPr/>
          <p:nvPr/>
        </p:nvGrpSpPr>
        <p:grpSpPr>
          <a:xfrm>
            <a:off x="5595840" y="1674720"/>
            <a:ext cx="1224000" cy="1224000"/>
            <a:chOff x="5595840" y="1674720"/>
            <a:chExt cx="1224000" cy="1224000"/>
          </a:xfrm>
        </p:grpSpPr>
        <p:sp>
          <p:nvSpPr>
            <p:cNvPr id="636" name="圆角矩形 6"/>
            <p:cNvSpPr/>
            <p:nvPr/>
          </p:nvSpPr>
          <p:spPr>
            <a:xfrm>
              <a:off x="5595840" y="1674720"/>
              <a:ext cx="1224000" cy="1224000"/>
            </a:xfrm>
            <a:prstGeom prst="roundRect">
              <a:avLst>
                <a:gd name="adj" fmla="val 50000"/>
              </a:avLst>
            </a:prstGeom>
            <a:solidFill>
              <a:srgbClr val="85a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圆角矩形 3"/>
            <p:cNvSpPr/>
            <p:nvPr/>
          </p:nvSpPr>
          <p:spPr>
            <a:xfrm>
              <a:off x="5841360" y="1936080"/>
              <a:ext cx="977040" cy="9482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948240"/>
                <a:gd name="textAreaBottom" fmla="*/ 948600 h 948240"/>
              </a:gdLst>
              <a:ahLst/>
              <a:rect l="textAreaLeft" t="textAreaTop" r="textAreaRight" b="textAreaBottom"/>
              <a:pathLst>
                <a:path w="1125779" h="1092813">
                  <a:moveTo>
                    <a:pt x="495237" y="0"/>
                  </a:moveTo>
                  <a:lnTo>
                    <a:pt x="652278" y="17270"/>
                  </a:lnTo>
                  <a:lnTo>
                    <a:pt x="1125637" y="392667"/>
                  </a:lnTo>
                  <a:lnTo>
                    <a:pt x="1125779" y="424054"/>
                  </a:lnTo>
                  <a:cubicBezTo>
                    <a:pt x="1118286" y="753468"/>
                    <a:pt x="883261" y="1026357"/>
                    <a:pt x="571590" y="1092813"/>
                  </a:cubicBezTo>
                  <a:lnTo>
                    <a:pt x="142440" y="757242"/>
                  </a:lnTo>
                  <a:lnTo>
                    <a:pt x="3914" y="516628"/>
                  </a:lnTo>
                  <a:lnTo>
                    <a:pt x="0" y="297402"/>
                  </a:lnTo>
                  <a:lnTo>
                    <a:pt x="153151" y="76199"/>
                  </a:lnTo>
                  <a:cubicBezTo>
                    <a:pt x="209290" y="62097"/>
                    <a:pt x="270192" y="24182"/>
                    <a:pt x="326331" y="10080"/>
                  </a:cubicBezTo>
                  <a:lnTo>
                    <a:pt x="495237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空心弧 84"/>
            <p:cNvSpPr/>
            <p:nvPr/>
          </p:nvSpPr>
          <p:spPr>
            <a:xfrm>
              <a:off x="5817240" y="1896120"/>
              <a:ext cx="780840" cy="8100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9"/>
          <p:cNvGrpSpPr/>
          <p:nvPr/>
        </p:nvGrpSpPr>
        <p:grpSpPr>
          <a:xfrm>
            <a:off x="4506840" y="1676520"/>
            <a:ext cx="1220760" cy="1222200"/>
            <a:chOff x="4506840" y="1676520"/>
            <a:chExt cx="1220760" cy="1222200"/>
          </a:xfrm>
        </p:grpSpPr>
        <p:sp>
          <p:nvSpPr>
            <p:cNvPr id="640" name="圆角矩形 10"/>
            <p:cNvSpPr/>
            <p:nvPr/>
          </p:nvSpPr>
          <p:spPr>
            <a:xfrm>
              <a:off x="4506840" y="1676520"/>
              <a:ext cx="1220760" cy="1222200"/>
            </a:xfrm>
            <a:custGeom>
              <a:avLst/>
              <a:gdLst>
                <a:gd name="textAreaLeft" fmla="*/ 178560 w 1220760"/>
                <a:gd name="textAreaRight" fmla="*/ 1042200 w 1220760"/>
                <a:gd name="textAreaTop" fmla="*/ 178560 h 1222200"/>
                <a:gd name="textAreaBottom" fmla="*/ 1043640 h 1222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0800" y="0"/>
                  </a:moveTo>
                  <a:arcTo wR="10800" hR="10800" stAng="16200000" swAng="-5400000"/>
                  <a:lnTo>
                    <a:pt x="0" y="10825"/>
                  </a:lnTo>
                  <a:arcTo wR="10800" hR="10800" stAng="10800000" swAng="-5400000"/>
                  <a:lnTo>
                    <a:pt x="10800" y="2162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12"/>
            <p:cNvSpPr/>
            <p:nvPr/>
          </p:nvSpPr>
          <p:spPr>
            <a:xfrm>
              <a:off x="4798800" y="1893240"/>
              <a:ext cx="927360" cy="100152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1069318" h="1153639">
                  <a:moveTo>
                    <a:pt x="533552" y="0"/>
                  </a:moveTo>
                  <a:lnTo>
                    <a:pt x="1053562" y="302088"/>
                  </a:lnTo>
                  <a:cubicBezTo>
                    <a:pt x="1064058" y="345013"/>
                    <a:pt x="1069627" y="389638"/>
                    <a:pt x="1069179" y="435393"/>
                  </a:cubicBezTo>
                  <a:cubicBezTo>
                    <a:pt x="1069222" y="447663"/>
                    <a:pt x="1069270" y="459832"/>
                    <a:pt x="1069318" y="471918"/>
                  </a:cubicBezTo>
                  <a:cubicBezTo>
                    <a:pt x="1061903" y="837233"/>
                    <a:pt x="774670" y="1133487"/>
                    <a:pt x="412914" y="1153639"/>
                  </a:cubicBezTo>
                  <a:lnTo>
                    <a:pt x="0" y="876260"/>
                  </a:lnTo>
                  <a:lnTo>
                    <a:pt x="333919" y="789702"/>
                  </a:lnTo>
                  <a:lnTo>
                    <a:pt x="39376" y="577773"/>
                  </a:lnTo>
                  <a:lnTo>
                    <a:pt x="158440" y="328612"/>
                  </a:lnTo>
                  <a:lnTo>
                    <a:pt x="185290" y="44925"/>
                  </a:lnTo>
                  <a:lnTo>
                    <a:pt x="533552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同侧圆角矩形 42"/>
            <p:cNvSpPr/>
            <p:nvPr/>
          </p:nvSpPr>
          <p:spPr>
            <a:xfrm>
              <a:off x="4753800" y="1840320"/>
              <a:ext cx="726480" cy="828360"/>
            </a:xfrm>
            <a:custGeom>
              <a:avLst/>
              <a:gdLst>
                <a:gd name="textAreaLeft" fmla="*/ 0 w 726480"/>
                <a:gd name="textAreaRight" fmla="*/ 726840 w 7264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3"/>
          <p:cNvGrpSpPr/>
          <p:nvPr/>
        </p:nvGrpSpPr>
        <p:grpSpPr>
          <a:xfrm>
            <a:off x="3413160" y="1674720"/>
            <a:ext cx="1225440" cy="1224000"/>
            <a:chOff x="3413160" y="1674720"/>
            <a:chExt cx="1225440" cy="1224000"/>
          </a:xfrm>
        </p:grpSpPr>
        <p:sp>
          <p:nvSpPr>
            <p:cNvPr id="644" name="圆角矩形 14"/>
            <p:cNvSpPr/>
            <p:nvPr/>
          </p:nvSpPr>
          <p:spPr>
            <a:xfrm>
              <a:off x="3413160" y="1674720"/>
              <a:ext cx="1225440" cy="1224000"/>
            </a:xfrm>
            <a:prstGeom prst="roundRect">
              <a:avLst>
                <a:gd name="adj" fmla="val 50000"/>
              </a:avLst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3"/>
            <p:cNvSpPr/>
            <p:nvPr/>
          </p:nvSpPr>
          <p:spPr>
            <a:xfrm>
              <a:off x="3658680" y="1936080"/>
              <a:ext cx="978120" cy="94248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1125779" h="1086033">
                  <a:moveTo>
                    <a:pt x="495237" y="0"/>
                  </a:moveTo>
                  <a:lnTo>
                    <a:pt x="652278" y="17270"/>
                  </a:lnTo>
                  <a:lnTo>
                    <a:pt x="1125637" y="392667"/>
                  </a:lnTo>
                  <a:lnTo>
                    <a:pt x="1125779" y="424054"/>
                  </a:lnTo>
                  <a:cubicBezTo>
                    <a:pt x="1118507" y="745575"/>
                    <a:pt x="894397" y="1013244"/>
                    <a:pt x="593432" y="1086033"/>
                  </a:cubicBezTo>
                  <a:lnTo>
                    <a:pt x="142440" y="757242"/>
                  </a:lnTo>
                  <a:lnTo>
                    <a:pt x="3914" y="516628"/>
                  </a:lnTo>
                  <a:lnTo>
                    <a:pt x="0" y="297402"/>
                  </a:lnTo>
                  <a:lnTo>
                    <a:pt x="153151" y="76199"/>
                  </a:lnTo>
                  <a:cubicBezTo>
                    <a:pt x="209290" y="62097"/>
                    <a:pt x="270192" y="24182"/>
                    <a:pt x="326331" y="10080"/>
                  </a:cubicBezTo>
                  <a:lnTo>
                    <a:pt x="495237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圆角矩形 16"/>
            <p:cNvSpPr/>
            <p:nvPr/>
          </p:nvSpPr>
          <p:spPr>
            <a:xfrm rot="16200000">
              <a:off x="3635280" y="1895040"/>
              <a:ext cx="780840" cy="78192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7"/>
          <p:cNvGrpSpPr/>
          <p:nvPr/>
        </p:nvGrpSpPr>
        <p:grpSpPr>
          <a:xfrm>
            <a:off x="2324160" y="1676520"/>
            <a:ext cx="1220760" cy="1222200"/>
            <a:chOff x="2324160" y="1676520"/>
            <a:chExt cx="1220760" cy="1222200"/>
          </a:xfrm>
        </p:grpSpPr>
        <p:sp>
          <p:nvSpPr>
            <p:cNvPr id="648" name="圆角矩形 18"/>
            <p:cNvSpPr/>
            <p:nvPr/>
          </p:nvSpPr>
          <p:spPr>
            <a:xfrm>
              <a:off x="2324160" y="1676520"/>
              <a:ext cx="1220760" cy="1222200"/>
            </a:xfrm>
            <a:custGeom>
              <a:avLst/>
              <a:gdLst>
                <a:gd name="textAreaLeft" fmla="*/ 178560 w 1220760"/>
                <a:gd name="textAreaRight" fmla="*/ 1042200 w 1220760"/>
                <a:gd name="textAreaTop" fmla="*/ 178560 h 1222200"/>
                <a:gd name="textAreaBottom" fmla="*/ 1043640 h 1222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0800" y="0"/>
                  </a:moveTo>
                  <a:arcTo wR="10800" hR="10800" stAng="16200000" swAng="-5400000"/>
                  <a:lnTo>
                    <a:pt x="0" y="10825"/>
                  </a:lnTo>
                  <a:arcTo wR="10800" hR="10800" stAng="10800000" swAng="-5400000"/>
                  <a:lnTo>
                    <a:pt x="10800" y="2162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圆角矩形 12"/>
            <p:cNvSpPr/>
            <p:nvPr/>
          </p:nvSpPr>
          <p:spPr>
            <a:xfrm>
              <a:off x="2531520" y="1995120"/>
              <a:ext cx="1009800" cy="89928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1164309" h="1035953">
                  <a:moveTo>
                    <a:pt x="300955" y="0"/>
                  </a:moveTo>
                  <a:lnTo>
                    <a:pt x="462879" y="11907"/>
                  </a:lnTo>
                  <a:lnTo>
                    <a:pt x="622782" y="122893"/>
                  </a:lnTo>
                  <a:lnTo>
                    <a:pt x="718687" y="105904"/>
                  </a:lnTo>
                  <a:lnTo>
                    <a:pt x="864545" y="125274"/>
                  </a:lnTo>
                  <a:lnTo>
                    <a:pt x="1164309" y="380469"/>
                  </a:lnTo>
                  <a:cubicBezTo>
                    <a:pt x="1145643" y="733516"/>
                    <a:pt x="863958" y="1016051"/>
                    <a:pt x="511256" y="1035953"/>
                  </a:cubicBezTo>
                  <a:lnTo>
                    <a:pt x="0" y="646727"/>
                  </a:lnTo>
                  <a:lnTo>
                    <a:pt x="360111" y="529214"/>
                  </a:lnTo>
                  <a:lnTo>
                    <a:pt x="6038" y="472065"/>
                  </a:lnTo>
                  <a:cubicBezTo>
                    <a:pt x="-19696" y="394976"/>
                    <a:pt x="170840" y="88202"/>
                    <a:pt x="205705" y="66676"/>
                  </a:cubicBezTo>
                  <a:cubicBezTo>
                    <a:pt x="240570" y="45150"/>
                    <a:pt x="258092" y="9128"/>
                    <a:pt x="300955" y="0"/>
                  </a:cubicBez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2460240" y="1970640"/>
              <a:ext cx="961920" cy="619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21"/>
          <p:cNvSpPr/>
          <p:nvPr/>
        </p:nvSpPr>
        <p:spPr>
          <a:xfrm>
            <a:off x="111600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结论  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2"/>
          <p:cNvSpPr/>
          <p:nvPr/>
        </p:nvSpPr>
        <p:spPr>
          <a:xfrm>
            <a:off x="284328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结论  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3"/>
          <p:cNvSpPr/>
          <p:nvPr/>
        </p:nvSpPr>
        <p:spPr>
          <a:xfrm>
            <a:off x="457200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890a8"/>
                </a:solidFill>
                <a:latin typeface="微软雅黑"/>
                <a:ea typeface="微软雅黑"/>
              </a:rPr>
              <a:t>结论  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4"/>
          <p:cNvSpPr/>
          <p:nvPr/>
        </p:nvSpPr>
        <p:spPr>
          <a:xfrm>
            <a:off x="630072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结论  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5"/>
          <p:cNvSpPr/>
          <p:nvPr/>
        </p:nvSpPr>
        <p:spPr>
          <a:xfrm>
            <a:off x="1581120" y="4051440"/>
            <a:ext cx="793800" cy="24912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6"/>
          <p:cNvSpPr/>
          <p:nvPr/>
        </p:nvSpPr>
        <p:spPr>
          <a:xfrm>
            <a:off x="3311640" y="4051440"/>
            <a:ext cx="793800" cy="24912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27"/>
          <p:cNvSpPr/>
          <p:nvPr/>
        </p:nvSpPr>
        <p:spPr>
          <a:xfrm>
            <a:off x="5038560" y="4051440"/>
            <a:ext cx="795600" cy="249120"/>
          </a:xfrm>
          <a:prstGeom prst="rect">
            <a:avLst/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28"/>
          <p:cNvSpPr/>
          <p:nvPr/>
        </p:nvSpPr>
        <p:spPr>
          <a:xfrm>
            <a:off x="6767640" y="4051440"/>
            <a:ext cx="793800" cy="249120"/>
          </a:xfrm>
          <a:prstGeom prst="rect">
            <a:avLst/>
          </a:prstGeom>
          <a:solidFill>
            <a:srgbClr val="85a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29"/>
          <p:cNvSpPr/>
          <p:nvPr/>
        </p:nvSpPr>
        <p:spPr>
          <a:xfrm>
            <a:off x="3444840" y="22510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0"/>
          <p:cNvSpPr/>
          <p:nvPr/>
        </p:nvSpPr>
        <p:spPr>
          <a:xfrm>
            <a:off x="4530600" y="225108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31"/>
          <p:cNvSpPr/>
          <p:nvPr/>
        </p:nvSpPr>
        <p:spPr>
          <a:xfrm>
            <a:off x="5613480" y="225108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0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9"/>
          <p:cNvGrpSpPr/>
          <p:nvPr/>
        </p:nvGrpSpPr>
        <p:grpSpPr>
          <a:xfrm>
            <a:off x="2117880" y="1347840"/>
            <a:ext cx="4908240" cy="792000"/>
            <a:chOff x="2117880" y="1347840"/>
            <a:chExt cx="4908240" cy="792000"/>
          </a:xfrm>
        </p:grpSpPr>
        <p:sp>
          <p:nvSpPr>
            <p:cNvPr id="53" name="任意多边形 1"/>
            <p:cNvSpPr/>
            <p:nvPr/>
          </p:nvSpPr>
          <p:spPr>
            <a:xfrm>
              <a:off x="5316480" y="1439280"/>
              <a:ext cx="1709640" cy="70056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700560"/>
                <a:gd name="textAreaBottom" fmla="*/ 700920 h 7005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4"/>
            <p:cNvSpPr/>
            <p:nvPr/>
          </p:nvSpPr>
          <p:spPr>
            <a:xfrm>
              <a:off x="5489640" y="1647720"/>
              <a:ext cx="430200" cy="2548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5"/>
            <p:cNvSpPr/>
            <p:nvPr/>
          </p:nvSpPr>
          <p:spPr>
            <a:xfrm>
              <a:off x="4108680" y="1392840"/>
              <a:ext cx="1205640" cy="675360"/>
            </a:xfrm>
            <a:custGeom>
              <a:avLst/>
              <a:gdLst>
                <a:gd name="textAreaLeft" fmla="*/ 0 w 1205640"/>
                <a:gd name="textAreaRight" fmla="*/ 1206000 w 12056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6"/>
            <p:cNvSpPr/>
            <p:nvPr/>
          </p:nvSpPr>
          <p:spPr>
            <a:xfrm>
              <a:off x="3893760" y="1397520"/>
              <a:ext cx="820440" cy="630360"/>
            </a:xfrm>
            <a:custGeom>
              <a:avLst/>
              <a:gdLst>
                <a:gd name="textAreaLeft" fmla="*/ 0 w 820440"/>
                <a:gd name="textAreaRight" fmla="*/ 820800 w 8204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"/>
            <p:cNvSpPr/>
            <p:nvPr/>
          </p:nvSpPr>
          <p:spPr>
            <a:xfrm>
              <a:off x="2117880" y="1487880"/>
              <a:ext cx="1810800" cy="439920"/>
            </a:xfrm>
            <a:custGeom>
              <a:avLst/>
              <a:gdLst>
                <a:gd name="textAreaLeft" fmla="*/ 0 w 1810800"/>
                <a:gd name="textAreaRight" fmla="*/ 1811160 w 181080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2298700" h="558800">
                  <a:moveTo>
                    <a:pt x="2298700" y="82550"/>
                  </a:moveTo>
                  <a:lnTo>
                    <a:pt x="1847850" y="285750"/>
                  </a:lnTo>
                  <a:lnTo>
                    <a:pt x="1905000" y="349250"/>
                  </a:lnTo>
                  <a:lnTo>
                    <a:pt x="1905000" y="558800"/>
                  </a:lnTo>
                  <a:lnTo>
                    <a:pt x="1574800" y="558800"/>
                  </a:lnTo>
                  <a:lnTo>
                    <a:pt x="1574800" y="349250"/>
                  </a:lnTo>
                  <a:lnTo>
                    <a:pt x="1651000" y="292100"/>
                  </a:lnTo>
                  <a:lnTo>
                    <a:pt x="1136650" y="63500"/>
                  </a:lnTo>
                  <a:lnTo>
                    <a:pt x="1092200" y="95250"/>
                  </a:lnTo>
                  <a:lnTo>
                    <a:pt x="965200" y="38100"/>
                  </a:lnTo>
                  <a:lnTo>
                    <a:pt x="965200" y="406400"/>
                  </a:lnTo>
                  <a:lnTo>
                    <a:pt x="590550" y="406400"/>
                  </a:lnTo>
                  <a:lnTo>
                    <a:pt x="590550" y="177800"/>
                  </a:lnTo>
                  <a:lnTo>
                    <a:pt x="660400" y="133350"/>
                  </a:lnTo>
                  <a:lnTo>
                    <a:pt x="285750" y="0"/>
                  </a:lnTo>
                  <a:lnTo>
                    <a:pt x="43507" y="112238"/>
                  </a:lnTo>
                  <a:lnTo>
                    <a:pt x="0" y="1397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8"/>
            <p:cNvSpPr/>
            <p:nvPr/>
          </p:nvSpPr>
          <p:spPr>
            <a:xfrm>
              <a:off x="2543040" y="1347840"/>
              <a:ext cx="510120" cy="21492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11"/>
          <p:cNvSpPr/>
          <p:nvPr/>
        </p:nvSpPr>
        <p:spPr>
          <a:xfrm flipH="1">
            <a:off x="3240" y="2139840"/>
            <a:ext cx="9137520" cy="0"/>
          </a:xfrm>
          <a:prstGeom prst="line">
            <a:avLst/>
          </a:prstGeom>
          <a:ln w="1908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8"/>
          <p:cNvSpPr/>
          <p:nvPr/>
        </p:nvSpPr>
        <p:spPr>
          <a:xfrm>
            <a:off x="3486240" y="2211480"/>
            <a:ext cx="144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"/>
          <p:cNvSpPr/>
          <p:nvPr/>
        </p:nvSpPr>
        <p:spPr>
          <a:xfrm>
            <a:off x="402912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1"/>
          <p:cNvSpPr/>
          <p:nvPr/>
        </p:nvSpPr>
        <p:spPr>
          <a:xfrm>
            <a:off x="457200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2"/>
          <p:cNvSpPr/>
          <p:nvPr/>
        </p:nvSpPr>
        <p:spPr>
          <a:xfrm>
            <a:off x="511488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3"/>
          <p:cNvSpPr/>
          <p:nvPr/>
        </p:nvSpPr>
        <p:spPr>
          <a:xfrm>
            <a:off x="565776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0"/>
          <p:cNvSpPr/>
          <p:nvPr/>
        </p:nvSpPr>
        <p:spPr>
          <a:xfrm>
            <a:off x="620064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51"/>
          <p:cNvSpPr/>
          <p:nvPr/>
        </p:nvSpPr>
        <p:spPr>
          <a:xfrm>
            <a:off x="2943360" y="2211480"/>
            <a:ext cx="144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3"/>
          <p:cNvGrpSpPr/>
          <p:nvPr/>
        </p:nvGrpSpPr>
        <p:grpSpPr>
          <a:xfrm>
            <a:off x="3043080" y="2327400"/>
            <a:ext cx="343080" cy="1803240"/>
            <a:chOff x="3043080" y="2327400"/>
            <a:chExt cx="343080" cy="1803240"/>
          </a:xfrm>
        </p:grpSpPr>
        <p:sp>
          <p:nvSpPr>
            <p:cNvPr id="68" name="TextBox 25"/>
            <p:cNvSpPr/>
            <p:nvPr/>
          </p:nvSpPr>
          <p:spPr>
            <a:xfrm>
              <a:off x="3043080" y="2544840"/>
              <a:ext cx="343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选题背景与意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2"/>
            <p:cNvSpPr/>
            <p:nvPr/>
          </p:nvSpPr>
          <p:spPr>
            <a:xfrm>
              <a:off x="312336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0"/>
          <p:cNvGrpSpPr/>
          <p:nvPr/>
        </p:nvGrpSpPr>
        <p:grpSpPr>
          <a:xfrm>
            <a:off x="3586320" y="2327400"/>
            <a:ext cx="342720" cy="1803240"/>
            <a:chOff x="3586320" y="2327400"/>
            <a:chExt cx="342720" cy="1803240"/>
          </a:xfrm>
        </p:grpSpPr>
        <p:sp>
          <p:nvSpPr>
            <p:cNvPr id="71" name="TextBox 45"/>
            <p:cNvSpPr/>
            <p:nvPr/>
          </p:nvSpPr>
          <p:spPr>
            <a:xfrm>
              <a:off x="3586320" y="2544840"/>
              <a:ext cx="342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国内外研究现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365760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2"/>
          <p:cNvGrpSpPr/>
          <p:nvPr/>
        </p:nvGrpSpPr>
        <p:grpSpPr>
          <a:xfrm>
            <a:off x="4129200" y="2327400"/>
            <a:ext cx="342720" cy="1163520"/>
            <a:chOff x="4129200" y="2327400"/>
            <a:chExt cx="342720" cy="1163520"/>
          </a:xfrm>
        </p:grpSpPr>
        <p:sp>
          <p:nvSpPr>
            <p:cNvPr id="74" name="TextBox 46"/>
            <p:cNvSpPr/>
            <p:nvPr/>
          </p:nvSpPr>
          <p:spPr>
            <a:xfrm>
              <a:off x="4129200" y="2544480"/>
              <a:ext cx="342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理论框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27"/>
            <p:cNvSpPr/>
            <p:nvPr/>
          </p:nvSpPr>
          <p:spPr>
            <a:xfrm>
              <a:off x="420408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3"/>
          <p:cNvGrpSpPr/>
          <p:nvPr/>
        </p:nvGrpSpPr>
        <p:grpSpPr>
          <a:xfrm>
            <a:off x="4672080" y="2327400"/>
            <a:ext cx="342720" cy="1803240"/>
            <a:chOff x="4672080" y="2327400"/>
            <a:chExt cx="342720" cy="1803240"/>
          </a:xfrm>
        </p:grpSpPr>
        <p:sp>
          <p:nvSpPr>
            <p:cNvPr id="77" name="TextBox 47"/>
            <p:cNvSpPr/>
            <p:nvPr/>
          </p:nvSpPr>
          <p:spPr>
            <a:xfrm>
              <a:off x="4672080" y="2544840"/>
              <a:ext cx="342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研究方法与进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8"/>
            <p:cNvSpPr/>
            <p:nvPr/>
          </p:nvSpPr>
          <p:spPr>
            <a:xfrm>
              <a:off x="474336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4"/>
          <p:cNvGrpSpPr/>
          <p:nvPr/>
        </p:nvGrpSpPr>
        <p:grpSpPr>
          <a:xfrm>
            <a:off x="5214960" y="2327400"/>
            <a:ext cx="342720" cy="1377000"/>
            <a:chOff x="5214960" y="2327400"/>
            <a:chExt cx="342720" cy="1377000"/>
          </a:xfrm>
        </p:grpSpPr>
        <p:sp>
          <p:nvSpPr>
            <p:cNvPr id="80" name="TextBox 48"/>
            <p:cNvSpPr/>
            <p:nvPr/>
          </p:nvSpPr>
          <p:spPr>
            <a:xfrm>
              <a:off x="5214960" y="2544840"/>
              <a:ext cx="342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29"/>
            <p:cNvSpPr/>
            <p:nvPr/>
          </p:nvSpPr>
          <p:spPr>
            <a:xfrm>
              <a:off x="530064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5"/>
          <p:cNvGrpSpPr/>
          <p:nvPr/>
        </p:nvGrpSpPr>
        <p:grpSpPr>
          <a:xfrm>
            <a:off x="5756400" y="2327400"/>
            <a:ext cx="342720" cy="1377000"/>
            <a:chOff x="5756400" y="2327400"/>
            <a:chExt cx="342720" cy="1377000"/>
          </a:xfrm>
        </p:grpSpPr>
        <p:sp>
          <p:nvSpPr>
            <p:cNvPr id="83" name="TextBox 49"/>
            <p:cNvSpPr/>
            <p:nvPr/>
          </p:nvSpPr>
          <p:spPr>
            <a:xfrm>
              <a:off x="5756400" y="2544840"/>
              <a:ext cx="342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结论与建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30"/>
            <p:cNvSpPr/>
            <p:nvPr/>
          </p:nvSpPr>
          <p:spPr>
            <a:xfrm>
              <a:off x="582768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37"/>
          <p:cNvSpPr/>
          <p:nvPr/>
        </p:nvSpPr>
        <p:spPr>
          <a:xfrm>
            <a:off x="3602160" y="62712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4067280" y="627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4533840" y="627120"/>
            <a:ext cx="5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0"/>
          <p:cNvSpPr/>
          <p:nvPr/>
        </p:nvSpPr>
        <p:spPr>
          <a:xfrm>
            <a:off x="4998960" y="627120"/>
            <a:ext cx="6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664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671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672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关建议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17"/>
          <p:cNvSpPr/>
          <p:nvPr/>
        </p:nvSpPr>
        <p:spPr>
          <a:xfrm rot="2700000">
            <a:off x="1420200" y="2525400"/>
            <a:ext cx="1657440" cy="358920"/>
          </a:xfrm>
          <a:prstGeom prst="roundRect">
            <a:avLst>
              <a:gd name="adj" fmla="val 50000"/>
            </a:avLst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25"/>
          <p:cNvSpPr/>
          <p:nvPr/>
        </p:nvSpPr>
        <p:spPr>
          <a:xfrm flipH="1" rot="18900000">
            <a:off x="2967120" y="2525040"/>
            <a:ext cx="1657800" cy="360360"/>
          </a:xfrm>
          <a:prstGeom prst="roundRect">
            <a:avLst>
              <a:gd name="adj" fmla="val 50000"/>
            </a:avLst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37"/>
          <p:cNvSpPr/>
          <p:nvPr/>
        </p:nvSpPr>
        <p:spPr>
          <a:xfrm rot="2700000">
            <a:off x="4507200" y="2525040"/>
            <a:ext cx="1657440" cy="360360"/>
          </a:xfrm>
          <a:prstGeom prst="roundRect">
            <a:avLst>
              <a:gd name="adj" fmla="val 50000"/>
            </a:avLst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ounded Rectangle 39"/>
          <p:cNvSpPr/>
          <p:nvPr/>
        </p:nvSpPr>
        <p:spPr>
          <a:xfrm flipH="1" rot="18900000">
            <a:off x="6053400" y="2525760"/>
            <a:ext cx="1657800" cy="358920"/>
          </a:xfrm>
          <a:prstGeom prst="roundRect">
            <a:avLst>
              <a:gd name="adj" fmla="val 50000"/>
            </a:avLst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9"/>
          <p:cNvSpPr/>
          <p:nvPr/>
        </p:nvSpPr>
        <p:spPr>
          <a:xfrm>
            <a:off x="1403280" y="3938760"/>
            <a:ext cx="63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组合 10"/>
          <p:cNvGrpSpPr/>
          <p:nvPr/>
        </p:nvGrpSpPr>
        <p:grpSpPr>
          <a:xfrm>
            <a:off x="2268720" y="1482480"/>
            <a:ext cx="1527840" cy="1527840"/>
            <a:chOff x="2268720" y="1482480"/>
            <a:chExt cx="1527840" cy="1527840"/>
          </a:xfrm>
        </p:grpSpPr>
        <p:sp>
          <p:nvSpPr>
            <p:cNvPr id="681" name="Rounded Rectangle 34"/>
            <p:cNvSpPr/>
            <p:nvPr/>
          </p:nvSpPr>
          <p:spPr>
            <a:xfrm rot="2700000">
              <a:off x="2492640" y="1705680"/>
              <a:ext cx="1079640" cy="1081080"/>
            </a:xfrm>
            <a:custGeom>
              <a:avLst/>
              <a:gdLst>
                <a:gd name="textAreaLeft" fmla="*/ 52560 w 1079640"/>
                <a:gd name="textAreaRight" fmla="*/ 1027080 w 1079640"/>
                <a:gd name="textAreaTop" fmla="*/ 52560 h 1081080"/>
                <a:gd name="textAreaBottom" fmla="*/ 102852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60"/>
            <p:cNvSpPr/>
            <p:nvPr/>
          </p:nvSpPr>
          <p:spPr>
            <a:xfrm>
              <a:off x="2708640" y="1956960"/>
              <a:ext cx="648360" cy="57852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3"/>
          <p:cNvGrpSpPr/>
          <p:nvPr/>
        </p:nvGrpSpPr>
        <p:grpSpPr>
          <a:xfrm>
            <a:off x="5356080" y="1482840"/>
            <a:ext cx="1527120" cy="1526760"/>
            <a:chOff x="5356080" y="1482840"/>
            <a:chExt cx="1527120" cy="1526760"/>
          </a:xfrm>
        </p:grpSpPr>
        <p:sp>
          <p:nvSpPr>
            <p:cNvPr id="684" name="Rounded Rectangle 41"/>
            <p:cNvSpPr/>
            <p:nvPr/>
          </p:nvSpPr>
          <p:spPr>
            <a:xfrm rot="2700000">
              <a:off x="5579640" y="1706400"/>
              <a:ext cx="1079640" cy="1079640"/>
            </a:xfrm>
            <a:prstGeom prst="roundRect">
              <a:avLst>
                <a:gd name="adj" fmla="val 16667"/>
              </a:avLst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65"/>
            <p:cNvSpPr/>
            <p:nvPr/>
          </p:nvSpPr>
          <p:spPr>
            <a:xfrm>
              <a:off x="5754960" y="1990800"/>
              <a:ext cx="729360" cy="52092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809954" h="578538">
                  <a:moveTo>
                    <a:pt x="540846" y="462270"/>
                  </a:moveTo>
                  <a:cubicBezTo>
                    <a:pt x="534797" y="462270"/>
                    <a:pt x="529893" y="467174"/>
                    <a:pt x="529893" y="473223"/>
                  </a:cubicBezTo>
                  <a:lnTo>
                    <a:pt x="529893" y="517032"/>
                  </a:lnTo>
                  <a:cubicBezTo>
                    <a:pt x="529893" y="523081"/>
                    <a:pt x="534797" y="527985"/>
                    <a:pt x="540846" y="527985"/>
                  </a:cubicBezTo>
                  <a:lnTo>
                    <a:pt x="674080" y="527985"/>
                  </a:lnTo>
                  <a:cubicBezTo>
                    <a:pt x="680129" y="527985"/>
                    <a:pt x="685033" y="523081"/>
                    <a:pt x="685033" y="517032"/>
                  </a:cubicBezTo>
                  <a:lnTo>
                    <a:pt x="685033" y="473223"/>
                  </a:lnTo>
                  <a:cubicBezTo>
                    <a:pt x="685033" y="467174"/>
                    <a:pt x="680129" y="462270"/>
                    <a:pt x="674080" y="462270"/>
                  </a:cubicBezTo>
                  <a:lnTo>
                    <a:pt x="540846" y="462270"/>
                  </a:lnTo>
                  <a:close/>
                  <a:moveTo>
                    <a:pt x="338358" y="462270"/>
                  </a:moveTo>
                  <a:cubicBezTo>
                    <a:pt x="332309" y="462270"/>
                    <a:pt x="327405" y="467174"/>
                    <a:pt x="327405" y="473223"/>
                  </a:cubicBezTo>
                  <a:lnTo>
                    <a:pt x="327405" y="517032"/>
                  </a:lnTo>
                  <a:cubicBezTo>
                    <a:pt x="327405" y="523081"/>
                    <a:pt x="332309" y="527985"/>
                    <a:pt x="338358" y="527985"/>
                  </a:cubicBezTo>
                  <a:lnTo>
                    <a:pt x="471592" y="527985"/>
                  </a:lnTo>
                  <a:cubicBezTo>
                    <a:pt x="477641" y="527985"/>
                    <a:pt x="482545" y="523081"/>
                    <a:pt x="482545" y="517032"/>
                  </a:cubicBezTo>
                  <a:lnTo>
                    <a:pt x="482545" y="473223"/>
                  </a:lnTo>
                  <a:cubicBezTo>
                    <a:pt x="482545" y="467174"/>
                    <a:pt x="477641" y="462270"/>
                    <a:pt x="471592" y="462270"/>
                  </a:cubicBezTo>
                  <a:lnTo>
                    <a:pt x="338358" y="462270"/>
                  </a:lnTo>
                  <a:close/>
                  <a:moveTo>
                    <a:pt x="135871" y="462270"/>
                  </a:moveTo>
                  <a:cubicBezTo>
                    <a:pt x="129822" y="462270"/>
                    <a:pt x="124918" y="467174"/>
                    <a:pt x="124918" y="473223"/>
                  </a:cubicBezTo>
                  <a:lnTo>
                    <a:pt x="124918" y="517032"/>
                  </a:lnTo>
                  <a:cubicBezTo>
                    <a:pt x="124918" y="523081"/>
                    <a:pt x="129822" y="527985"/>
                    <a:pt x="135871" y="527985"/>
                  </a:cubicBezTo>
                  <a:lnTo>
                    <a:pt x="269105" y="527985"/>
                  </a:lnTo>
                  <a:cubicBezTo>
                    <a:pt x="275154" y="527985"/>
                    <a:pt x="280058" y="523081"/>
                    <a:pt x="280058" y="517032"/>
                  </a:cubicBezTo>
                  <a:lnTo>
                    <a:pt x="280058" y="473223"/>
                  </a:lnTo>
                  <a:cubicBezTo>
                    <a:pt x="280058" y="467174"/>
                    <a:pt x="275154" y="462270"/>
                    <a:pt x="269105" y="462270"/>
                  </a:cubicBezTo>
                  <a:lnTo>
                    <a:pt x="135871" y="462270"/>
                  </a:lnTo>
                  <a:close/>
                  <a:moveTo>
                    <a:pt x="458902" y="180751"/>
                  </a:moveTo>
                  <a:lnTo>
                    <a:pt x="458902" y="397785"/>
                  </a:lnTo>
                  <a:lnTo>
                    <a:pt x="733854" y="397785"/>
                  </a:lnTo>
                  <a:lnTo>
                    <a:pt x="733854" y="180751"/>
                  </a:lnTo>
                  <a:lnTo>
                    <a:pt x="458902" y="180751"/>
                  </a:lnTo>
                  <a:close/>
                  <a:moveTo>
                    <a:pt x="77572" y="180751"/>
                  </a:moveTo>
                  <a:lnTo>
                    <a:pt x="77572" y="397785"/>
                  </a:lnTo>
                  <a:lnTo>
                    <a:pt x="352524" y="397785"/>
                  </a:lnTo>
                  <a:lnTo>
                    <a:pt x="352524" y="180751"/>
                  </a:lnTo>
                  <a:lnTo>
                    <a:pt x="77572" y="180751"/>
                  </a:lnTo>
                  <a:close/>
                  <a:moveTo>
                    <a:pt x="540846" y="50551"/>
                  </a:moveTo>
                  <a:cubicBezTo>
                    <a:pt x="534797" y="50551"/>
                    <a:pt x="529893" y="55455"/>
                    <a:pt x="529893" y="61504"/>
                  </a:cubicBezTo>
                  <a:lnTo>
                    <a:pt x="529893" y="105313"/>
                  </a:lnTo>
                  <a:cubicBezTo>
                    <a:pt x="529893" y="111362"/>
                    <a:pt x="534797" y="116266"/>
                    <a:pt x="540846" y="116266"/>
                  </a:cubicBezTo>
                  <a:lnTo>
                    <a:pt x="674080" y="116266"/>
                  </a:lnTo>
                  <a:cubicBezTo>
                    <a:pt x="680129" y="116266"/>
                    <a:pt x="685033" y="111362"/>
                    <a:pt x="685033" y="105313"/>
                  </a:cubicBezTo>
                  <a:lnTo>
                    <a:pt x="685033" y="61504"/>
                  </a:lnTo>
                  <a:cubicBezTo>
                    <a:pt x="685033" y="55455"/>
                    <a:pt x="680129" y="50551"/>
                    <a:pt x="674080" y="50551"/>
                  </a:cubicBezTo>
                  <a:lnTo>
                    <a:pt x="540846" y="50551"/>
                  </a:lnTo>
                  <a:close/>
                  <a:moveTo>
                    <a:pt x="338358" y="50551"/>
                  </a:moveTo>
                  <a:cubicBezTo>
                    <a:pt x="332309" y="50551"/>
                    <a:pt x="327405" y="55455"/>
                    <a:pt x="327405" y="61504"/>
                  </a:cubicBezTo>
                  <a:lnTo>
                    <a:pt x="327405" y="105313"/>
                  </a:lnTo>
                  <a:cubicBezTo>
                    <a:pt x="327405" y="111362"/>
                    <a:pt x="332309" y="116266"/>
                    <a:pt x="338358" y="116266"/>
                  </a:cubicBezTo>
                  <a:lnTo>
                    <a:pt x="471592" y="116266"/>
                  </a:lnTo>
                  <a:cubicBezTo>
                    <a:pt x="477641" y="116266"/>
                    <a:pt x="482545" y="111362"/>
                    <a:pt x="482545" y="105313"/>
                  </a:cubicBezTo>
                  <a:lnTo>
                    <a:pt x="482545" y="61504"/>
                  </a:lnTo>
                  <a:cubicBezTo>
                    <a:pt x="482545" y="55455"/>
                    <a:pt x="477641" y="50551"/>
                    <a:pt x="471592" y="50551"/>
                  </a:cubicBezTo>
                  <a:lnTo>
                    <a:pt x="338358" y="50551"/>
                  </a:lnTo>
                  <a:close/>
                  <a:moveTo>
                    <a:pt x="135871" y="50551"/>
                  </a:moveTo>
                  <a:cubicBezTo>
                    <a:pt x="129822" y="50551"/>
                    <a:pt x="124918" y="55455"/>
                    <a:pt x="124918" y="61504"/>
                  </a:cubicBezTo>
                  <a:lnTo>
                    <a:pt x="124918" y="105313"/>
                  </a:lnTo>
                  <a:cubicBezTo>
                    <a:pt x="124918" y="111362"/>
                    <a:pt x="129822" y="116266"/>
                    <a:pt x="135871" y="116266"/>
                  </a:cubicBezTo>
                  <a:lnTo>
                    <a:pt x="269105" y="116266"/>
                  </a:lnTo>
                  <a:cubicBezTo>
                    <a:pt x="275154" y="116266"/>
                    <a:pt x="280058" y="111362"/>
                    <a:pt x="280058" y="105313"/>
                  </a:cubicBezTo>
                  <a:lnTo>
                    <a:pt x="280058" y="61504"/>
                  </a:lnTo>
                  <a:cubicBezTo>
                    <a:pt x="280058" y="55455"/>
                    <a:pt x="275154" y="50551"/>
                    <a:pt x="269105" y="50551"/>
                  </a:cubicBezTo>
                  <a:lnTo>
                    <a:pt x="135871" y="50551"/>
                  </a:lnTo>
                  <a:close/>
                  <a:moveTo>
                    <a:pt x="0" y="0"/>
                  </a:moveTo>
                  <a:lnTo>
                    <a:pt x="809954" y="0"/>
                  </a:lnTo>
                  <a:lnTo>
                    <a:pt x="809954" y="50551"/>
                  </a:lnTo>
                  <a:lnTo>
                    <a:pt x="743336" y="50551"/>
                  </a:lnTo>
                  <a:lnTo>
                    <a:pt x="732383" y="61504"/>
                  </a:lnTo>
                  <a:lnTo>
                    <a:pt x="732383" y="105313"/>
                  </a:lnTo>
                  <a:cubicBezTo>
                    <a:pt x="732383" y="111362"/>
                    <a:pt x="737287" y="116266"/>
                    <a:pt x="743336" y="116266"/>
                  </a:cubicBezTo>
                  <a:lnTo>
                    <a:pt x="809954" y="116266"/>
                  </a:lnTo>
                  <a:lnTo>
                    <a:pt x="809954" y="462270"/>
                  </a:lnTo>
                  <a:lnTo>
                    <a:pt x="743336" y="462270"/>
                  </a:lnTo>
                  <a:lnTo>
                    <a:pt x="732383" y="473223"/>
                  </a:lnTo>
                  <a:lnTo>
                    <a:pt x="732383" y="517032"/>
                  </a:lnTo>
                  <a:cubicBezTo>
                    <a:pt x="732383" y="523081"/>
                    <a:pt x="737287" y="527985"/>
                    <a:pt x="743336" y="527985"/>
                  </a:cubicBezTo>
                  <a:lnTo>
                    <a:pt x="809954" y="527985"/>
                  </a:lnTo>
                  <a:lnTo>
                    <a:pt x="809954" y="578538"/>
                  </a:lnTo>
                  <a:lnTo>
                    <a:pt x="0" y="578538"/>
                  </a:lnTo>
                  <a:lnTo>
                    <a:pt x="0" y="527985"/>
                  </a:lnTo>
                  <a:lnTo>
                    <a:pt x="66617" y="527985"/>
                  </a:lnTo>
                  <a:cubicBezTo>
                    <a:pt x="72666" y="527985"/>
                    <a:pt x="77570" y="523081"/>
                    <a:pt x="77570" y="517032"/>
                  </a:cubicBezTo>
                  <a:lnTo>
                    <a:pt x="77570" y="473223"/>
                  </a:lnTo>
                  <a:cubicBezTo>
                    <a:pt x="77570" y="467174"/>
                    <a:pt x="72666" y="462270"/>
                    <a:pt x="66617" y="462270"/>
                  </a:cubicBezTo>
                  <a:lnTo>
                    <a:pt x="0" y="462270"/>
                  </a:lnTo>
                  <a:lnTo>
                    <a:pt x="0" y="116266"/>
                  </a:lnTo>
                  <a:lnTo>
                    <a:pt x="66617" y="116266"/>
                  </a:lnTo>
                  <a:cubicBezTo>
                    <a:pt x="72666" y="116266"/>
                    <a:pt x="77570" y="111362"/>
                    <a:pt x="77570" y="105313"/>
                  </a:cubicBezTo>
                  <a:lnTo>
                    <a:pt x="77570" y="61504"/>
                  </a:lnTo>
                  <a:cubicBezTo>
                    <a:pt x="77570" y="55455"/>
                    <a:pt x="72666" y="50551"/>
                    <a:pt x="66617" y="50551"/>
                  </a:cubicBezTo>
                  <a:lnTo>
                    <a:pt x="0" y="505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16"/>
          <p:cNvGrpSpPr/>
          <p:nvPr/>
        </p:nvGrpSpPr>
        <p:grpSpPr>
          <a:xfrm>
            <a:off x="3824280" y="2426400"/>
            <a:ext cx="1527480" cy="1527480"/>
            <a:chOff x="3824280" y="2426400"/>
            <a:chExt cx="1527480" cy="1527480"/>
          </a:xfrm>
        </p:grpSpPr>
        <p:sp>
          <p:nvSpPr>
            <p:cNvPr id="687" name="Rounded Rectangle 43"/>
            <p:cNvSpPr/>
            <p:nvPr/>
          </p:nvSpPr>
          <p:spPr>
            <a:xfrm rot="2700000">
              <a:off x="4047480" y="2650320"/>
              <a:ext cx="1081080" cy="107928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0"/>
            <p:cNvSpPr/>
            <p:nvPr/>
          </p:nvSpPr>
          <p:spPr>
            <a:xfrm>
              <a:off x="4239000" y="2982240"/>
              <a:ext cx="697320" cy="4870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742544" h="518658">
                  <a:moveTo>
                    <a:pt x="248797" y="102376"/>
                  </a:moveTo>
                  <a:cubicBezTo>
                    <a:pt x="280384" y="102376"/>
                    <a:pt x="305991" y="127983"/>
                    <a:pt x="305991" y="159570"/>
                  </a:cubicBezTo>
                  <a:cubicBezTo>
                    <a:pt x="305991" y="191157"/>
                    <a:pt x="280384" y="216764"/>
                    <a:pt x="248797" y="216764"/>
                  </a:cubicBezTo>
                  <a:cubicBezTo>
                    <a:pt x="217210" y="216764"/>
                    <a:pt x="191603" y="191157"/>
                    <a:pt x="191603" y="159570"/>
                  </a:cubicBezTo>
                  <a:cubicBezTo>
                    <a:pt x="191603" y="127983"/>
                    <a:pt x="217210" y="102376"/>
                    <a:pt x="248797" y="102376"/>
                  </a:cubicBezTo>
                  <a:close/>
                  <a:moveTo>
                    <a:pt x="64831" y="64832"/>
                  </a:moveTo>
                  <a:lnTo>
                    <a:pt x="64832" y="351969"/>
                  </a:lnTo>
                  <a:lnTo>
                    <a:pt x="218927" y="251703"/>
                  </a:lnTo>
                  <a:lnTo>
                    <a:pt x="262644" y="318890"/>
                  </a:lnTo>
                  <a:lnTo>
                    <a:pt x="510091" y="157882"/>
                  </a:lnTo>
                  <a:lnTo>
                    <a:pt x="677713" y="331711"/>
                  </a:lnTo>
                  <a:lnTo>
                    <a:pt x="677712" y="64832"/>
                  </a:lnTo>
                  <a:lnTo>
                    <a:pt x="64831" y="64832"/>
                  </a:lnTo>
                  <a:close/>
                  <a:moveTo>
                    <a:pt x="742544" y="0"/>
                  </a:moveTo>
                  <a:lnTo>
                    <a:pt x="742544" y="518657"/>
                  </a:lnTo>
                  <a:lnTo>
                    <a:pt x="0" y="518658"/>
                  </a:lnTo>
                  <a:lnTo>
                    <a:pt x="0" y="463961"/>
                  </a:lnTo>
                  <a:lnTo>
                    <a:pt x="0" y="394154"/>
                  </a:lnTo>
                  <a:lnTo>
                    <a:pt x="0" y="1"/>
                  </a:lnTo>
                  <a:lnTo>
                    <a:pt x="7425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组合 3"/>
          <p:cNvGrpSpPr/>
          <p:nvPr/>
        </p:nvGrpSpPr>
        <p:grpSpPr>
          <a:xfrm>
            <a:off x="76320" y="3822840"/>
            <a:ext cx="8977320" cy="1114200"/>
            <a:chOff x="76320" y="3822840"/>
            <a:chExt cx="8977320" cy="1114200"/>
          </a:xfrm>
        </p:grpSpPr>
        <p:sp>
          <p:nvSpPr>
            <p:cNvPr id="690" name="任意多边形 4"/>
            <p:cNvSpPr/>
            <p:nvPr/>
          </p:nvSpPr>
          <p:spPr>
            <a:xfrm>
              <a:off x="6651000" y="3951720"/>
              <a:ext cx="2402640" cy="985320"/>
            </a:xfrm>
            <a:custGeom>
              <a:avLst/>
              <a:gdLst>
                <a:gd name="textAreaLeft" fmla="*/ 0 w 2402640"/>
                <a:gd name="textAreaRight" fmla="*/ 2403000 w 24026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5"/>
            <p:cNvSpPr/>
            <p:nvPr/>
          </p:nvSpPr>
          <p:spPr>
            <a:xfrm>
              <a:off x="6894360" y="4244760"/>
              <a:ext cx="604440" cy="35856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任意多边形 6"/>
            <p:cNvSpPr/>
            <p:nvPr/>
          </p:nvSpPr>
          <p:spPr>
            <a:xfrm>
              <a:off x="4954320" y="3885840"/>
              <a:ext cx="1694160" cy="94968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7"/>
            <p:cNvSpPr/>
            <p:nvPr/>
          </p:nvSpPr>
          <p:spPr>
            <a:xfrm>
              <a:off x="4651920" y="3893040"/>
              <a:ext cx="1152720" cy="8866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8"/>
            <p:cNvSpPr/>
            <p:nvPr/>
          </p:nvSpPr>
          <p:spPr>
            <a:xfrm>
              <a:off x="76320" y="4019760"/>
              <a:ext cx="4624920" cy="844560"/>
            </a:xfrm>
            <a:custGeom>
              <a:avLst/>
              <a:gdLst>
                <a:gd name="textAreaLeft" fmla="*/ 0 w 4624920"/>
                <a:gd name="textAreaRight" fmla="*/ 4625280 w 46249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4177700" h="762222">
                  <a:moveTo>
                    <a:pt x="4177700" y="82550"/>
                  </a:moveTo>
                  <a:lnTo>
                    <a:pt x="3726850" y="285750"/>
                  </a:lnTo>
                  <a:lnTo>
                    <a:pt x="3784000" y="349250"/>
                  </a:lnTo>
                  <a:lnTo>
                    <a:pt x="3784000" y="558800"/>
                  </a:lnTo>
                  <a:lnTo>
                    <a:pt x="3453800" y="558800"/>
                  </a:lnTo>
                  <a:lnTo>
                    <a:pt x="3453800" y="349250"/>
                  </a:lnTo>
                  <a:lnTo>
                    <a:pt x="3530000" y="292100"/>
                  </a:lnTo>
                  <a:lnTo>
                    <a:pt x="3015650" y="63500"/>
                  </a:lnTo>
                  <a:lnTo>
                    <a:pt x="2971200" y="95250"/>
                  </a:lnTo>
                  <a:lnTo>
                    <a:pt x="2844200" y="38100"/>
                  </a:lnTo>
                  <a:lnTo>
                    <a:pt x="2844200" y="406400"/>
                  </a:lnTo>
                  <a:lnTo>
                    <a:pt x="2469550" y="406400"/>
                  </a:lnTo>
                  <a:lnTo>
                    <a:pt x="2469550" y="177800"/>
                  </a:lnTo>
                  <a:lnTo>
                    <a:pt x="2539400" y="133350"/>
                  </a:lnTo>
                  <a:lnTo>
                    <a:pt x="2164750" y="0"/>
                  </a:lnTo>
                  <a:lnTo>
                    <a:pt x="1393611" y="225011"/>
                  </a:lnTo>
                  <a:lnTo>
                    <a:pt x="1479807" y="301066"/>
                  </a:lnTo>
                  <a:cubicBezTo>
                    <a:pt x="1480652" y="360220"/>
                    <a:pt x="1481498" y="419373"/>
                    <a:pt x="1482343" y="478527"/>
                  </a:cubicBezTo>
                  <a:lnTo>
                    <a:pt x="0" y="762222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9"/>
            <p:cNvSpPr/>
            <p:nvPr/>
          </p:nvSpPr>
          <p:spPr>
            <a:xfrm>
              <a:off x="2754000" y="3822840"/>
              <a:ext cx="716760" cy="30240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Box 11"/>
          <p:cNvSpPr/>
          <p:nvPr/>
        </p:nvSpPr>
        <p:spPr>
          <a:xfrm>
            <a:off x="27003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2"/>
          <p:cNvSpPr/>
          <p:nvPr/>
        </p:nvSpPr>
        <p:spPr>
          <a:xfrm>
            <a:off x="35877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44766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4"/>
          <p:cNvSpPr/>
          <p:nvPr/>
        </p:nvSpPr>
        <p:spPr>
          <a:xfrm>
            <a:off x="53640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5"/>
          <p:cNvSpPr/>
          <p:nvPr/>
        </p:nvSpPr>
        <p:spPr>
          <a:xfrm>
            <a:off x="2790720" y="189072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适用于各大高校毕业答辩演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"/>
          <p:cNvSpPr/>
          <p:nvPr/>
        </p:nvSpPr>
        <p:spPr>
          <a:xfrm>
            <a:off x="1763640" y="2158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请在这里输入论文的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3946680" y="2782800"/>
            <a:ext cx="1250640" cy="398520"/>
          </a:xfrm>
          <a:prstGeom prst="rect">
            <a:avLst/>
          </a:prstGeom>
          <a:ln w="0">
            <a:noFill/>
          </a:ln>
        </p:spPr>
      </p:pic>
      <p:sp>
        <p:nvSpPr>
          <p:cNvPr id="703" name="TextBox 18"/>
          <p:cNvSpPr/>
          <p:nvPr/>
        </p:nvSpPr>
        <p:spPr>
          <a:xfrm>
            <a:off x="2790720" y="318600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答辩人：代用名        导师：代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nodeType="clickEffect" fill="hold">
                      <p:stCondLst>
                        <p:cond delay="0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39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9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914400" y="1492200"/>
            <a:ext cx="4340160" cy="284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5"/>
          <p:cNvGrpSpPr/>
          <p:nvPr/>
        </p:nvGrpSpPr>
        <p:grpSpPr>
          <a:xfrm>
            <a:off x="3882960" y="1820880"/>
            <a:ext cx="4353120" cy="1125360"/>
            <a:chOff x="3882960" y="1820880"/>
            <a:chExt cx="4353120" cy="1125360"/>
          </a:xfrm>
        </p:grpSpPr>
        <p:sp>
          <p:nvSpPr>
            <p:cNvPr id="100" name="Rectangle 22"/>
            <p:cNvSpPr/>
            <p:nvPr/>
          </p:nvSpPr>
          <p:spPr>
            <a:xfrm>
              <a:off x="3882960" y="1820880"/>
              <a:ext cx="4353120" cy="1125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3989160" y="1921320"/>
              <a:ext cx="4144680" cy="6321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</a:t>
              </a:r>
              <a:br>
                <a:rPr sz="800"/>
              </a:b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以内，将每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8"/>
          <p:cNvSpPr/>
          <p:nvPr/>
        </p:nvSpPr>
        <p:spPr>
          <a:xfrm>
            <a:off x="5654520" y="3070080"/>
            <a:ext cx="2562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5464080" y="310500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"/>
          <p:cNvSpPr/>
          <p:nvPr/>
        </p:nvSpPr>
        <p:spPr>
          <a:xfrm>
            <a:off x="5738760" y="4083120"/>
            <a:ext cx="1152720" cy="24912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添加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06" name="TextBox 30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背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31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1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24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19" name="TextBox 25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意义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6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14400" y="1557360"/>
            <a:ext cx="171468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48400" y="1557360"/>
            <a:ext cx="1714680" cy="27432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73520" y="1557360"/>
            <a:ext cx="1714680" cy="2743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793960" y="1557360"/>
            <a:ext cx="1714680" cy="27432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843280" y="1946160"/>
            <a:ext cx="16174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6595920" y="1946160"/>
            <a:ext cx="16178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2"/>
          <p:cNvSpPr/>
          <p:nvPr/>
        </p:nvSpPr>
        <p:spPr>
          <a:xfrm>
            <a:off x="4162320" y="3951360"/>
            <a:ext cx="1904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7924680" y="3951360"/>
            <a:ext cx="190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32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40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35"/>
          <p:cNvSpPr/>
          <p:nvPr/>
        </p:nvSpPr>
        <p:spPr>
          <a:xfrm>
            <a:off x="630360" y="1733400"/>
            <a:ext cx="5238720" cy="251172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2511720"/>
              <a:gd name="textAreaBottom" fmla="*/ 2512080 h 251172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6"/>
          <p:cNvGrpSpPr/>
          <p:nvPr/>
        </p:nvGrpSpPr>
        <p:grpSpPr>
          <a:xfrm>
            <a:off x="1566720" y="2597040"/>
            <a:ext cx="1079640" cy="1079640"/>
            <a:chOff x="1566720" y="2597040"/>
            <a:chExt cx="1079640" cy="1079640"/>
          </a:xfrm>
        </p:grpSpPr>
        <p:sp>
          <p:nvSpPr>
            <p:cNvPr id="145" name="椭圆 7"/>
            <p:cNvSpPr/>
            <p:nvPr/>
          </p:nvSpPr>
          <p:spPr>
            <a:xfrm>
              <a:off x="1566720" y="2597040"/>
              <a:ext cx="1079640" cy="107964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8"/>
            <p:cNvSpPr/>
            <p:nvPr/>
          </p:nvSpPr>
          <p:spPr>
            <a:xfrm>
              <a:off x="1638360" y="2668680"/>
              <a:ext cx="935640" cy="935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9"/>
          <p:cNvGrpSpPr/>
          <p:nvPr/>
        </p:nvGrpSpPr>
        <p:grpSpPr>
          <a:xfrm>
            <a:off x="4329000" y="1714680"/>
            <a:ext cx="935280" cy="934920"/>
            <a:chOff x="4329000" y="1714680"/>
            <a:chExt cx="935280" cy="934920"/>
          </a:xfrm>
        </p:grpSpPr>
        <p:sp>
          <p:nvSpPr>
            <p:cNvPr id="148" name="椭圆 10"/>
            <p:cNvSpPr/>
            <p:nvPr/>
          </p:nvSpPr>
          <p:spPr>
            <a:xfrm>
              <a:off x="4329000" y="1714680"/>
              <a:ext cx="935280" cy="93492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1"/>
            <p:cNvSpPr/>
            <p:nvPr/>
          </p:nvSpPr>
          <p:spPr>
            <a:xfrm>
              <a:off x="4391280" y="1776960"/>
              <a:ext cx="810720" cy="81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"/>
          <p:cNvGrpSpPr/>
          <p:nvPr/>
        </p:nvGrpSpPr>
        <p:grpSpPr>
          <a:xfrm>
            <a:off x="3251160" y="3219480"/>
            <a:ext cx="771480" cy="771480"/>
            <a:chOff x="3251160" y="3219480"/>
            <a:chExt cx="771480" cy="771480"/>
          </a:xfrm>
        </p:grpSpPr>
        <p:sp>
          <p:nvSpPr>
            <p:cNvPr id="151" name="椭圆 13"/>
            <p:cNvSpPr/>
            <p:nvPr/>
          </p:nvSpPr>
          <p:spPr>
            <a:xfrm>
              <a:off x="3251160" y="3219480"/>
              <a:ext cx="771480" cy="77148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14"/>
            <p:cNvSpPr/>
            <p:nvPr/>
          </p:nvSpPr>
          <p:spPr>
            <a:xfrm>
              <a:off x="3302280" y="3270600"/>
              <a:ext cx="668880" cy="668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5"/>
          <p:cNvSpPr/>
          <p:nvPr/>
        </p:nvSpPr>
        <p:spPr>
          <a:xfrm>
            <a:off x="6353280" y="162252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6134040" y="166680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6353280" y="255276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6134040" y="2598840"/>
            <a:ext cx="19044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6353280" y="349884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2"/>
          <p:cNvSpPr/>
          <p:nvPr/>
        </p:nvSpPr>
        <p:spPr>
          <a:xfrm>
            <a:off x="6134040" y="3544920"/>
            <a:ext cx="19044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6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6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889440" y="1316160"/>
            <a:ext cx="434016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22"/>
          <p:cNvGrpSpPr/>
          <p:nvPr/>
        </p:nvGrpSpPr>
        <p:grpSpPr>
          <a:xfrm>
            <a:off x="914400" y="2013120"/>
            <a:ext cx="4354560" cy="1123920"/>
            <a:chOff x="914400" y="2013120"/>
            <a:chExt cx="4354560" cy="1123920"/>
          </a:xfrm>
        </p:grpSpPr>
        <p:sp>
          <p:nvSpPr>
            <p:cNvPr id="174" name="Rectangle 22"/>
            <p:cNvSpPr/>
            <p:nvPr/>
          </p:nvSpPr>
          <p:spPr>
            <a:xfrm>
              <a:off x="914400" y="2013120"/>
              <a:ext cx="4354560" cy="11239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1018440" y="2105640"/>
              <a:ext cx="41461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</a:t>
              </a:r>
              <a:br>
                <a:rPr sz="800"/>
              </a:b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以内，将每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25"/>
          <p:cNvSpPr/>
          <p:nvPr/>
        </p:nvSpPr>
        <p:spPr>
          <a:xfrm>
            <a:off x="971640" y="3254400"/>
            <a:ext cx="25621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3480" y="328932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7"/>
          <p:cNvSpPr/>
          <p:nvPr/>
        </p:nvSpPr>
        <p:spPr>
          <a:xfrm>
            <a:off x="2278080" y="4267080"/>
            <a:ext cx="1150920" cy="24948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添加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8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8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35"/>
          <p:cNvSpPr/>
          <p:nvPr/>
        </p:nvSpPr>
        <p:spPr>
          <a:xfrm>
            <a:off x="1054080" y="1663560"/>
            <a:ext cx="4597560" cy="2203560"/>
          </a:xfrm>
          <a:custGeom>
            <a:avLst/>
            <a:gdLst>
              <a:gd name="textAreaLeft" fmla="*/ 0 w 4597560"/>
              <a:gd name="textAreaRight" fmla="*/ 4597920 w 4597560"/>
              <a:gd name="textAreaTop" fmla="*/ 0 h 2203560"/>
              <a:gd name="textAreaBottom" fmla="*/ 2203920 h 220356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6"/>
          <p:cNvSpPr/>
          <p:nvPr/>
        </p:nvSpPr>
        <p:spPr>
          <a:xfrm>
            <a:off x="1778040" y="2187720"/>
            <a:ext cx="673200" cy="1128600"/>
          </a:xfrm>
          <a:custGeom>
            <a:avLst/>
            <a:gdLst>
              <a:gd name="textAreaLeft" fmla="*/ 0 w 673200"/>
              <a:gd name="textAreaRight" fmla="*/ 673560 w 6732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0b243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7"/>
          <p:cNvSpPr/>
          <p:nvPr/>
        </p:nvSpPr>
        <p:spPr>
          <a:xfrm>
            <a:off x="2295360" y="1758960"/>
            <a:ext cx="1514520" cy="5256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0b243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8"/>
          <p:cNvSpPr/>
          <p:nvPr/>
        </p:nvSpPr>
        <p:spPr>
          <a:xfrm>
            <a:off x="3370320" y="2495520"/>
            <a:ext cx="1015920" cy="2491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18486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9"/>
          <p:cNvSpPr/>
          <p:nvPr/>
        </p:nvSpPr>
        <p:spPr>
          <a:xfrm>
            <a:off x="4175280" y="2038320"/>
            <a:ext cx="836280" cy="165240"/>
          </a:xfrm>
          <a:custGeom>
            <a:avLst/>
            <a:gdLst>
              <a:gd name="textAreaLeft" fmla="*/ 0 w 836280"/>
              <a:gd name="textAreaRight" fmla="*/ 836640 w 8362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178654" h="186350">
                <a:moveTo>
                  <a:pt x="0" y="186350"/>
                </a:moveTo>
                <a:cubicBezTo>
                  <a:pt x="395409" y="-13676"/>
                  <a:pt x="705465" y="-29795"/>
                  <a:pt x="1178654" y="31751"/>
                </a:cubicBezTo>
              </a:path>
            </a:pathLst>
          </a:custGeom>
          <a:noFill/>
          <a:ln w="19080">
            <a:solidFill>
              <a:srgbClr val="18486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0"/>
          <p:cNvGrpSpPr/>
          <p:nvPr/>
        </p:nvGrpSpPr>
        <p:grpSpPr>
          <a:xfrm>
            <a:off x="1461960" y="2820960"/>
            <a:ext cx="316080" cy="316080"/>
            <a:chOff x="1461960" y="2820960"/>
            <a:chExt cx="316080" cy="316080"/>
          </a:xfrm>
        </p:grpSpPr>
        <p:sp>
          <p:nvSpPr>
            <p:cNvPr id="198" name="矩形 11"/>
            <p:cNvSpPr/>
            <p:nvPr/>
          </p:nvSpPr>
          <p:spPr>
            <a:xfrm>
              <a:off x="1461960" y="2820960"/>
              <a:ext cx="316080" cy="3160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圆角矩形 68"/>
            <p:cNvSpPr/>
            <p:nvPr/>
          </p:nvSpPr>
          <p:spPr>
            <a:xfrm>
              <a:off x="1501920" y="290268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3"/>
          <p:cNvGrpSpPr/>
          <p:nvPr/>
        </p:nvGrpSpPr>
        <p:grpSpPr>
          <a:xfrm>
            <a:off x="2975040" y="1351080"/>
            <a:ext cx="315720" cy="315720"/>
            <a:chOff x="2975040" y="1351080"/>
            <a:chExt cx="315720" cy="315720"/>
          </a:xfrm>
        </p:grpSpPr>
        <p:sp>
          <p:nvSpPr>
            <p:cNvPr id="201" name="矩形 14"/>
            <p:cNvSpPr/>
            <p:nvPr/>
          </p:nvSpPr>
          <p:spPr>
            <a:xfrm>
              <a:off x="2975040" y="1351080"/>
              <a:ext cx="315720" cy="3157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8"/>
            <p:cNvSpPr/>
            <p:nvPr/>
          </p:nvSpPr>
          <p:spPr>
            <a:xfrm>
              <a:off x="3015000" y="143280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6"/>
          <p:cNvGrpSpPr/>
          <p:nvPr/>
        </p:nvGrpSpPr>
        <p:grpSpPr>
          <a:xfrm>
            <a:off x="3878280" y="2889360"/>
            <a:ext cx="315720" cy="317520"/>
            <a:chOff x="3878280" y="2889360"/>
            <a:chExt cx="315720" cy="317520"/>
          </a:xfrm>
        </p:grpSpPr>
        <p:sp>
          <p:nvSpPr>
            <p:cNvPr id="204" name="矩形 17"/>
            <p:cNvSpPr/>
            <p:nvPr/>
          </p:nvSpPr>
          <p:spPr>
            <a:xfrm>
              <a:off x="3878280" y="2889360"/>
              <a:ext cx="315720" cy="3175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 rot="19142400">
              <a:off x="3983040" y="2933280"/>
              <a:ext cx="105840" cy="2289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9"/>
          <p:cNvGrpSpPr/>
          <p:nvPr/>
        </p:nvGrpSpPr>
        <p:grpSpPr>
          <a:xfrm>
            <a:off x="4435560" y="1663560"/>
            <a:ext cx="315720" cy="316080"/>
            <a:chOff x="4435560" y="1663560"/>
            <a:chExt cx="315720" cy="316080"/>
          </a:xfrm>
        </p:grpSpPr>
        <p:sp>
          <p:nvSpPr>
            <p:cNvPr id="207" name="矩形 20"/>
            <p:cNvSpPr/>
            <p:nvPr/>
          </p:nvSpPr>
          <p:spPr>
            <a:xfrm>
              <a:off x="4435560" y="1663560"/>
              <a:ext cx="315720" cy="31608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6"/>
            <p:cNvSpPr/>
            <p:nvPr/>
          </p:nvSpPr>
          <p:spPr>
            <a:xfrm rot="19142400">
              <a:off x="4540320" y="1707480"/>
              <a:ext cx="105840" cy="227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2"/>
          <p:cNvGrpSpPr/>
          <p:nvPr/>
        </p:nvGrpSpPr>
        <p:grpSpPr>
          <a:xfrm>
            <a:off x="1908000" y="4054320"/>
            <a:ext cx="1273320" cy="317520"/>
            <a:chOff x="1908000" y="4054320"/>
            <a:chExt cx="1273320" cy="317520"/>
          </a:xfrm>
        </p:grpSpPr>
        <p:grpSp>
          <p:nvGrpSpPr>
            <p:cNvPr id="210" name="组合 23"/>
            <p:cNvGrpSpPr/>
            <p:nvPr/>
          </p:nvGrpSpPr>
          <p:grpSpPr>
            <a:xfrm>
              <a:off x="1908000" y="4054320"/>
              <a:ext cx="1273320" cy="317520"/>
              <a:chOff x="1908000" y="4054320"/>
              <a:chExt cx="1273320" cy="317520"/>
            </a:xfrm>
          </p:grpSpPr>
          <p:sp>
            <p:nvSpPr>
              <p:cNvPr id="211" name="矩形 25"/>
              <p:cNvSpPr/>
              <p:nvPr/>
            </p:nvSpPr>
            <p:spPr>
              <a:xfrm>
                <a:off x="1908000" y="4054320"/>
                <a:ext cx="1273320" cy="317520"/>
              </a:xfrm>
              <a:prstGeom prst="rect">
                <a:avLst/>
              </a:prstGeom>
              <a:solidFill>
                <a:srgbClr val="0b2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圆角矩形 68"/>
              <p:cNvSpPr/>
              <p:nvPr/>
            </p:nvSpPr>
            <p:spPr>
              <a:xfrm>
                <a:off x="1986120" y="4136400"/>
                <a:ext cx="237240" cy="15300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Box 24"/>
            <p:cNvSpPr/>
            <p:nvPr/>
          </p:nvSpPr>
          <p:spPr>
            <a:xfrm>
              <a:off x="2227320" y="4102200"/>
              <a:ext cx="82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7"/>
          <p:cNvGrpSpPr/>
          <p:nvPr/>
        </p:nvGrpSpPr>
        <p:grpSpPr>
          <a:xfrm>
            <a:off x="3254400" y="4054320"/>
            <a:ext cx="1730520" cy="317520"/>
            <a:chOff x="3254400" y="4054320"/>
            <a:chExt cx="1730520" cy="317520"/>
          </a:xfrm>
        </p:grpSpPr>
        <p:grpSp>
          <p:nvGrpSpPr>
            <p:cNvPr id="215" name="组合 28"/>
            <p:cNvGrpSpPr/>
            <p:nvPr/>
          </p:nvGrpSpPr>
          <p:grpSpPr>
            <a:xfrm>
              <a:off x="3254400" y="4054320"/>
              <a:ext cx="1730520" cy="317520"/>
              <a:chOff x="3254400" y="4054320"/>
              <a:chExt cx="1730520" cy="317520"/>
            </a:xfrm>
          </p:grpSpPr>
          <p:sp>
            <p:nvSpPr>
              <p:cNvPr id="216" name="矩形 30"/>
              <p:cNvSpPr/>
              <p:nvPr/>
            </p:nvSpPr>
            <p:spPr>
              <a:xfrm>
                <a:off x="3254400" y="4054320"/>
                <a:ext cx="1730520" cy="317520"/>
              </a:xfrm>
              <a:prstGeom prst="rect">
                <a:avLst/>
              </a:prstGeom>
              <a:solidFill>
                <a:srgbClr val="18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矩形 26"/>
              <p:cNvSpPr/>
              <p:nvPr/>
            </p:nvSpPr>
            <p:spPr>
              <a:xfrm rot="19142400">
                <a:off x="3378960" y="4098240"/>
                <a:ext cx="106200" cy="228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360040" h="774164">
                    <a:moveTo>
                      <a:pt x="149226" y="233565"/>
                    </a:moveTo>
                    <a:lnTo>
                      <a:pt x="149226" y="617485"/>
                    </a:lnTo>
                    <a:lnTo>
                      <a:pt x="288032" y="617485"/>
                    </a:lnTo>
                    <a:lnTo>
                      <a:pt x="288032" y="233565"/>
                    </a:lnTo>
                    <a:lnTo>
                      <a:pt x="149226" y="233565"/>
                    </a:lnTo>
                    <a:close/>
                    <a:moveTo>
                      <a:pt x="0" y="157819"/>
                    </a:moveTo>
                    <a:lnTo>
                      <a:pt x="360040" y="157819"/>
                    </a:lnTo>
                    <a:lnTo>
                      <a:pt x="360040" y="774164"/>
                    </a:lnTo>
                    <a:lnTo>
                      <a:pt x="0" y="774164"/>
                    </a:lnTo>
                    <a:lnTo>
                      <a:pt x="0" y="157819"/>
                    </a:lnTo>
                    <a:close/>
                    <a:moveTo>
                      <a:pt x="196487" y="24759"/>
                    </a:moveTo>
                    <a:lnTo>
                      <a:pt x="196487" y="60759"/>
                    </a:lnTo>
                    <a:lnTo>
                      <a:pt x="254087" y="60759"/>
                    </a:lnTo>
                    <a:lnTo>
                      <a:pt x="254087" y="24759"/>
                    </a:lnTo>
                    <a:lnTo>
                      <a:pt x="196487" y="24759"/>
                    </a:lnTo>
                    <a:close/>
                    <a:moveTo>
                      <a:pt x="105954" y="24759"/>
                    </a:moveTo>
                    <a:lnTo>
                      <a:pt x="105954" y="60759"/>
                    </a:lnTo>
                    <a:lnTo>
                      <a:pt x="163554" y="60759"/>
                    </a:lnTo>
                    <a:lnTo>
                      <a:pt x="163554" y="24759"/>
                    </a:lnTo>
                    <a:lnTo>
                      <a:pt x="105954" y="24759"/>
                    </a:lnTo>
                    <a:close/>
                    <a:moveTo>
                      <a:pt x="72008" y="0"/>
                    </a:moveTo>
                    <a:lnTo>
                      <a:pt x="288032" y="0"/>
                    </a:lnTo>
                    <a:lnTo>
                      <a:pt x="288032" y="144016"/>
                    </a:lnTo>
                    <a:lnTo>
                      <a:pt x="72008" y="144016"/>
                    </a:lnTo>
                    <a:lnTo>
                      <a:pt x="720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Box 29"/>
            <p:cNvSpPr/>
            <p:nvPr/>
          </p:nvSpPr>
          <p:spPr>
            <a:xfrm>
              <a:off x="3595680" y="4102200"/>
              <a:ext cx="82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32"/>
          <p:cNvSpPr/>
          <p:nvPr/>
        </p:nvSpPr>
        <p:spPr>
          <a:xfrm>
            <a:off x="6676920" y="16351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43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6742080" y="209880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6676920" y="307656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86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6742080" y="353844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6"/>
          <p:cNvGrpSpPr/>
          <p:nvPr/>
        </p:nvGrpSpPr>
        <p:grpSpPr>
          <a:xfrm>
            <a:off x="6156360" y="2022480"/>
            <a:ext cx="315720" cy="316080"/>
            <a:chOff x="6156360" y="2022480"/>
            <a:chExt cx="315720" cy="316080"/>
          </a:xfrm>
        </p:grpSpPr>
        <p:sp>
          <p:nvSpPr>
            <p:cNvPr id="224" name="矩形 37"/>
            <p:cNvSpPr/>
            <p:nvPr/>
          </p:nvSpPr>
          <p:spPr>
            <a:xfrm>
              <a:off x="6156360" y="2022480"/>
              <a:ext cx="315720" cy="3160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68"/>
            <p:cNvSpPr/>
            <p:nvPr/>
          </p:nvSpPr>
          <p:spPr>
            <a:xfrm>
              <a:off x="6196320" y="210420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39"/>
          <p:cNvGrpSpPr/>
          <p:nvPr/>
        </p:nvGrpSpPr>
        <p:grpSpPr>
          <a:xfrm>
            <a:off x="6156360" y="3476520"/>
            <a:ext cx="315720" cy="316080"/>
            <a:chOff x="6156360" y="3476520"/>
            <a:chExt cx="315720" cy="316080"/>
          </a:xfrm>
        </p:grpSpPr>
        <p:sp>
          <p:nvSpPr>
            <p:cNvPr id="227" name="矩形 40"/>
            <p:cNvSpPr/>
            <p:nvPr/>
          </p:nvSpPr>
          <p:spPr>
            <a:xfrm>
              <a:off x="6156360" y="3476520"/>
              <a:ext cx="315720" cy="31608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26"/>
            <p:cNvSpPr/>
            <p:nvPr/>
          </p:nvSpPr>
          <p:spPr>
            <a:xfrm rot="19142400">
              <a:off x="6261120" y="3520440"/>
              <a:ext cx="105840" cy="227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3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23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26"/>
          <p:cNvGrpSpPr/>
          <p:nvPr/>
        </p:nvGrpSpPr>
        <p:grpSpPr>
          <a:xfrm>
            <a:off x="1047600" y="1379520"/>
            <a:ext cx="3956040" cy="2894040"/>
            <a:chOff x="1047600" y="1379520"/>
            <a:chExt cx="3956040" cy="2894040"/>
          </a:xfrm>
        </p:grpSpPr>
        <p:sp>
          <p:nvSpPr>
            <p:cNvPr id="243" name="Freeform 595"/>
            <p:cNvSpPr/>
            <p:nvPr/>
          </p:nvSpPr>
          <p:spPr>
            <a:xfrm>
              <a:off x="1047600" y="1379520"/>
              <a:ext cx="3956040" cy="2758680"/>
            </a:xfrm>
            <a:custGeom>
              <a:avLst/>
              <a:gdLst>
                <a:gd name="textAreaLeft" fmla="*/ 0 w 3956040"/>
                <a:gd name="textAreaRight" fmla="*/ 3956400 w 3956040"/>
                <a:gd name="textAreaTop" fmla="*/ 0 h 2758680"/>
                <a:gd name="textAreaBottom" fmla="*/ 2759040 h 2758680"/>
              </a:gdLst>
              <a:ahLst/>
              <a:rect l="textAreaLeft" t="textAreaTop" r="textAreaRight" b="textAreaBottom"/>
              <a:pathLst>
                <a:path w="2248" h="1570">
                  <a:moveTo>
                    <a:pt x="12" y="742"/>
                  </a:moveTo>
                  <a:cubicBezTo>
                    <a:pt x="7" y="703"/>
                    <a:pt x="62" y="699"/>
                    <a:pt x="88" y="702"/>
                  </a:cubicBezTo>
                  <a:cubicBezTo>
                    <a:pt x="110" y="704"/>
                    <a:pt x="105" y="688"/>
                    <a:pt x="123" y="679"/>
                  </a:cubicBezTo>
                  <a:cubicBezTo>
                    <a:pt x="138" y="672"/>
                    <a:pt x="164" y="679"/>
                    <a:pt x="175" y="665"/>
                  </a:cubicBezTo>
                  <a:cubicBezTo>
                    <a:pt x="200" y="634"/>
                    <a:pt x="240" y="641"/>
                    <a:pt x="250" y="598"/>
                  </a:cubicBezTo>
                  <a:cubicBezTo>
                    <a:pt x="260" y="560"/>
                    <a:pt x="264" y="512"/>
                    <a:pt x="234" y="480"/>
                  </a:cubicBezTo>
                  <a:cubicBezTo>
                    <a:pt x="253" y="476"/>
                    <a:pt x="272" y="471"/>
                    <a:pt x="291" y="467"/>
                  </a:cubicBezTo>
                  <a:cubicBezTo>
                    <a:pt x="324" y="459"/>
                    <a:pt x="322" y="462"/>
                    <a:pt x="320" y="428"/>
                  </a:cubicBezTo>
                  <a:cubicBezTo>
                    <a:pt x="319" y="412"/>
                    <a:pt x="332" y="393"/>
                    <a:pt x="338" y="378"/>
                  </a:cubicBezTo>
                  <a:cubicBezTo>
                    <a:pt x="349" y="349"/>
                    <a:pt x="358" y="359"/>
                    <a:pt x="389" y="363"/>
                  </a:cubicBezTo>
                  <a:cubicBezTo>
                    <a:pt x="413" y="366"/>
                    <a:pt x="410" y="379"/>
                    <a:pt x="434" y="367"/>
                  </a:cubicBezTo>
                  <a:cubicBezTo>
                    <a:pt x="449" y="359"/>
                    <a:pt x="438" y="334"/>
                    <a:pt x="442" y="319"/>
                  </a:cubicBezTo>
                  <a:cubicBezTo>
                    <a:pt x="452" y="285"/>
                    <a:pt x="467" y="306"/>
                    <a:pt x="478" y="287"/>
                  </a:cubicBezTo>
                  <a:cubicBezTo>
                    <a:pt x="494" y="259"/>
                    <a:pt x="497" y="276"/>
                    <a:pt x="521" y="261"/>
                  </a:cubicBezTo>
                  <a:cubicBezTo>
                    <a:pt x="527" y="284"/>
                    <a:pt x="546" y="314"/>
                    <a:pt x="571" y="319"/>
                  </a:cubicBezTo>
                  <a:cubicBezTo>
                    <a:pt x="617" y="328"/>
                    <a:pt x="614" y="342"/>
                    <a:pt x="629" y="387"/>
                  </a:cubicBezTo>
                  <a:cubicBezTo>
                    <a:pt x="632" y="396"/>
                    <a:pt x="629" y="457"/>
                    <a:pt x="630" y="457"/>
                  </a:cubicBezTo>
                  <a:cubicBezTo>
                    <a:pt x="657" y="466"/>
                    <a:pt x="695" y="466"/>
                    <a:pt x="719" y="477"/>
                  </a:cubicBezTo>
                  <a:cubicBezTo>
                    <a:pt x="746" y="488"/>
                    <a:pt x="787" y="496"/>
                    <a:pt x="803" y="521"/>
                  </a:cubicBezTo>
                  <a:cubicBezTo>
                    <a:pt x="812" y="536"/>
                    <a:pt x="843" y="591"/>
                    <a:pt x="863" y="590"/>
                  </a:cubicBezTo>
                  <a:cubicBezTo>
                    <a:pt x="903" y="588"/>
                    <a:pt x="944" y="586"/>
                    <a:pt x="984" y="585"/>
                  </a:cubicBezTo>
                  <a:cubicBezTo>
                    <a:pt x="1014" y="584"/>
                    <a:pt x="1033" y="608"/>
                    <a:pt x="1060" y="617"/>
                  </a:cubicBezTo>
                  <a:cubicBezTo>
                    <a:pt x="1079" y="623"/>
                    <a:pt x="1131" y="650"/>
                    <a:pt x="1149" y="643"/>
                  </a:cubicBezTo>
                  <a:cubicBezTo>
                    <a:pt x="1180" y="631"/>
                    <a:pt x="1216" y="610"/>
                    <a:pt x="1249" y="605"/>
                  </a:cubicBezTo>
                  <a:cubicBezTo>
                    <a:pt x="1280" y="599"/>
                    <a:pt x="1308" y="611"/>
                    <a:pt x="1338" y="595"/>
                  </a:cubicBezTo>
                  <a:cubicBezTo>
                    <a:pt x="1350" y="589"/>
                    <a:pt x="1410" y="540"/>
                    <a:pt x="1404" y="532"/>
                  </a:cubicBezTo>
                  <a:cubicBezTo>
                    <a:pt x="1391" y="511"/>
                    <a:pt x="1388" y="477"/>
                    <a:pt x="1420" y="469"/>
                  </a:cubicBezTo>
                  <a:cubicBezTo>
                    <a:pt x="1433" y="466"/>
                    <a:pt x="1452" y="488"/>
                    <a:pt x="1465" y="486"/>
                  </a:cubicBezTo>
                  <a:cubicBezTo>
                    <a:pt x="1478" y="483"/>
                    <a:pt x="1498" y="458"/>
                    <a:pt x="1509" y="449"/>
                  </a:cubicBezTo>
                  <a:cubicBezTo>
                    <a:pt x="1518" y="441"/>
                    <a:pt x="1532" y="444"/>
                    <a:pt x="1541" y="437"/>
                  </a:cubicBezTo>
                  <a:cubicBezTo>
                    <a:pt x="1556" y="426"/>
                    <a:pt x="1570" y="407"/>
                    <a:pt x="1583" y="394"/>
                  </a:cubicBezTo>
                  <a:cubicBezTo>
                    <a:pt x="1597" y="379"/>
                    <a:pt x="1661" y="385"/>
                    <a:pt x="1682" y="384"/>
                  </a:cubicBezTo>
                  <a:cubicBezTo>
                    <a:pt x="1665" y="367"/>
                    <a:pt x="1666" y="343"/>
                    <a:pt x="1648" y="324"/>
                  </a:cubicBezTo>
                  <a:cubicBezTo>
                    <a:pt x="1623" y="297"/>
                    <a:pt x="1615" y="340"/>
                    <a:pt x="1586" y="336"/>
                  </a:cubicBezTo>
                  <a:cubicBezTo>
                    <a:pt x="1552" y="333"/>
                    <a:pt x="1536" y="336"/>
                    <a:pt x="1538" y="297"/>
                  </a:cubicBezTo>
                  <a:cubicBezTo>
                    <a:pt x="1540" y="261"/>
                    <a:pt x="1543" y="248"/>
                    <a:pt x="1562" y="217"/>
                  </a:cubicBezTo>
                  <a:cubicBezTo>
                    <a:pt x="1578" y="190"/>
                    <a:pt x="1599" y="229"/>
                    <a:pt x="1623" y="227"/>
                  </a:cubicBezTo>
                  <a:cubicBezTo>
                    <a:pt x="1653" y="225"/>
                    <a:pt x="1667" y="197"/>
                    <a:pt x="1677" y="177"/>
                  </a:cubicBezTo>
                  <a:cubicBezTo>
                    <a:pt x="1688" y="153"/>
                    <a:pt x="1689" y="123"/>
                    <a:pt x="1709" y="105"/>
                  </a:cubicBezTo>
                  <a:cubicBezTo>
                    <a:pt x="1728" y="89"/>
                    <a:pt x="1743" y="48"/>
                    <a:pt x="1701" y="60"/>
                  </a:cubicBezTo>
                  <a:cubicBezTo>
                    <a:pt x="1712" y="28"/>
                    <a:pt x="1734" y="16"/>
                    <a:pt x="1764" y="11"/>
                  </a:cubicBezTo>
                  <a:cubicBezTo>
                    <a:pt x="1785" y="8"/>
                    <a:pt x="1805" y="5"/>
                    <a:pt x="1826" y="2"/>
                  </a:cubicBezTo>
                  <a:cubicBezTo>
                    <a:pt x="1843" y="0"/>
                    <a:pt x="1850" y="15"/>
                    <a:pt x="1864" y="21"/>
                  </a:cubicBezTo>
                  <a:cubicBezTo>
                    <a:pt x="1895" y="35"/>
                    <a:pt x="1930" y="30"/>
                    <a:pt x="1938" y="75"/>
                  </a:cubicBezTo>
                  <a:cubicBezTo>
                    <a:pt x="1943" y="107"/>
                    <a:pt x="1961" y="133"/>
                    <a:pt x="1967" y="164"/>
                  </a:cubicBezTo>
                  <a:cubicBezTo>
                    <a:pt x="1977" y="220"/>
                    <a:pt x="1971" y="222"/>
                    <a:pt x="2027" y="233"/>
                  </a:cubicBezTo>
                  <a:cubicBezTo>
                    <a:pt x="2062" y="239"/>
                    <a:pt x="2085" y="258"/>
                    <a:pt x="2098" y="289"/>
                  </a:cubicBezTo>
                  <a:cubicBezTo>
                    <a:pt x="2108" y="311"/>
                    <a:pt x="2103" y="349"/>
                    <a:pt x="2147" y="331"/>
                  </a:cubicBezTo>
                  <a:cubicBezTo>
                    <a:pt x="2180" y="317"/>
                    <a:pt x="2213" y="303"/>
                    <a:pt x="2245" y="289"/>
                  </a:cubicBezTo>
                  <a:cubicBezTo>
                    <a:pt x="2237" y="306"/>
                    <a:pt x="2248" y="320"/>
                    <a:pt x="2243" y="337"/>
                  </a:cubicBezTo>
                  <a:cubicBezTo>
                    <a:pt x="2241" y="349"/>
                    <a:pt x="2224" y="364"/>
                    <a:pt x="2220" y="379"/>
                  </a:cubicBezTo>
                  <a:cubicBezTo>
                    <a:pt x="2213" y="401"/>
                    <a:pt x="2200" y="467"/>
                    <a:pt x="2175" y="475"/>
                  </a:cubicBezTo>
                  <a:cubicBezTo>
                    <a:pt x="2163" y="478"/>
                    <a:pt x="2145" y="455"/>
                    <a:pt x="2134" y="465"/>
                  </a:cubicBezTo>
                  <a:cubicBezTo>
                    <a:pt x="2115" y="483"/>
                    <a:pt x="2104" y="485"/>
                    <a:pt x="2113" y="511"/>
                  </a:cubicBezTo>
                  <a:cubicBezTo>
                    <a:pt x="2128" y="553"/>
                    <a:pt x="2092" y="563"/>
                    <a:pt x="2091" y="597"/>
                  </a:cubicBezTo>
                  <a:cubicBezTo>
                    <a:pt x="2087" y="590"/>
                    <a:pt x="2078" y="586"/>
                    <a:pt x="2073" y="579"/>
                  </a:cubicBezTo>
                  <a:cubicBezTo>
                    <a:pt x="2055" y="607"/>
                    <a:pt x="2041" y="631"/>
                    <a:pt x="2004" y="627"/>
                  </a:cubicBezTo>
                  <a:cubicBezTo>
                    <a:pt x="2023" y="684"/>
                    <a:pt x="1964" y="640"/>
                    <a:pt x="1953" y="650"/>
                  </a:cubicBezTo>
                  <a:cubicBezTo>
                    <a:pt x="1930" y="672"/>
                    <a:pt x="1907" y="683"/>
                    <a:pt x="1883" y="701"/>
                  </a:cubicBezTo>
                  <a:cubicBezTo>
                    <a:pt x="1873" y="709"/>
                    <a:pt x="1872" y="726"/>
                    <a:pt x="1859" y="729"/>
                  </a:cubicBezTo>
                  <a:cubicBezTo>
                    <a:pt x="1845" y="731"/>
                    <a:pt x="1831" y="732"/>
                    <a:pt x="1819" y="740"/>
                  </a:cubicBezTo>
                  <a:cubicBezTo>
                    <a:pt x="1799" y="753"/>
                    <a:pt x="1769" y="782"/>
                    <a:pt x="1746" y="781"/>
                  </a:cubicBezTo>
                  <a:cubicBezTo>
                    <a:pt x="1765" y="774"/>
                    <a:pt x="1773" y="755"/>
                    <a:pt x="1751" y="746"/>
                  </a:cubicBezTo>
                  <a:cubicBezTo>
                    <a:pt x="1759" y="736"/>
                    <a:pt x="1788" y="708"/>
                    <a:pt x="1782" y="697"/>
                  </a:cubicBezTo>
                  <a:cubicBezTo>
                    <a:pt x="1770" y="671"/>
                    <a:pt x="1755" y="668"/>
                    <a:pt x="1736" y="693"/>
                  </a:cubicBezTo>
                  <a:cubicBezTo>
                    <a:pt x="1721" y="714"/>
                    <a:pt x="1695" y="722"/>
                    <a:pt x="1682" y="741"/>
                  </a:cubicBezTo>
                  <a:cubicBezTo>
                    <a:pt x="1667" y="762"/>
                    <a:pt x="1634" y="757"/>
                    <a:pt x="1627" y="768"/>
                  </a:cubicBezTo>
                  <a:cubicBezTo>
                    <a:pt x="1614" y="788"/>
                    <a:pt x="1612" y="802"/>
                    <a:pt x="1636" y="815"/>
                  </a:cubicBezTo>
                  <a:cubicBezTo>
                    <a:pt x="1658" y="828"/>
                    <a:pt x="1660" y="849"/>
                    <a:pt x="1681" y="857"/>
                  </a:cubicBezTo>
                  <a:cubicBezTo>
                    <a:pt x="1699" y="865"/>
                    <a:pt x="1723" y="820"/>
                    <a:pt x="1738" y="830"/>
                  </a:cubicBezTo>
                  <a:cubicBezTo>
                    <a:pt x="1760" y="844"/>
                    <a:pt x="1773" y="846"/>
                    <a:pt x="1799" y="848"/>
                  </a:cubicBezTo>
                  <a:cubicBezTo>
                    <a:pt x="1798" y="856"/>
                    <a:pt x="1793" y="868"/>
                    <a:pt x="1788" y="874"/>
                  </a:cubicBezTo>
                  <a:cubicBezTo>
                    <a:pt x="1768" y="844"/>
                    <a:pt x="1727" y="911"/>
                    <a:pt x="1710" y="900"/>
                  </a:cubicBezTo>
                  <a:cubicBezTo>
                    <a:pt x="1710" y="920"/>
                    <a:pt x="1684" y="943"/>
                    <a:pt x="1673" y="960"/>
                  </a:cubicBezTo>
                  <a:cubicBezTo>
                    <a:pt x="1726" y="991"/>
                    <a:pt x="1732" y="1050"/>
                    <a:pt x="1773" y="1097"/>
                  </a:cubicBezTo>
                  <a:cubicBezTo>
                    <a:pt x="1752" y="1091"/>
                    <a:pt x="1731" y="1079"/>
                    <a:pt x="1708" y="1086"/>
                  </a:cubicBezTo>
                  <a:cubicBezTo>
                    <a:pt x="1737" y="1087"/>
                    <a:pt x="1754" y="1110"/>
                    <a:pt x="1773" y="1129"/>
                  </a:cubicBezTo>
                  <a:cubicBezTo>
                    <a:pt x="1752" y="1141"/>
                    <a:pt x="1731" y="1152"/>
                    <a:pt x="1710" y="1164"/>
                  </a:cubicBezTo>
                  <a:cubicBezTo>
                    <a:pt x="1738" y="1158"/>
                    <a:pt x="1751" y="1154"/>
                    <a:pt x="1775" y="1173"/>
                  </a:cubicBezTo>
                  <a:cubicBezTo>
                    <a:pt x="1769" y="1178"/>
                    <a:pt x="1763" y="1187"/>
                    <a:pt x="1757" y="1190"/>
                  </a:cubicBezTo>
                  <a:cubicBezTo>
                    <a:pt x="1761" y="1188"/>
                    <a:pt x="1765" y="1187"/>
                    <a:pt x="1770" y="1185"/>
                  </a:cubicBezTo>
                  <a:cubicBezTo>
                    <a:pt x="1766" y="1201"/>
                    <a:pt x="1774" y="1197"/>
                    <a:pt x="1757" y="1203"/>
                  </a:cubicBezTo>
                  <a:cubicBezTo>
                    <a:pt x="1761" y="1217"/>
                    <a:pt x="1757" y="1232"/>
                    <a:pt x="1751" y="1246"/>
                  </a:cubicBezTo>
                  <a:cubicBezTo>
                    <a:pt x="1730" y="1241"/>
                    <a:pt x="1711" y="1293"/>
                    <a:pt x="1699" y="1313"/>
                  </a:cubicBezTo>
                  <a:cubicBezTo>
                    <a:pt x="1698" y="1309"/>
                    <a:pt x="1698" y="1305"/>
                    <a:pt x="1697" y="1302"/>
                  </a:cubicBezTo>
                  <a:cubicBezTo>
                    <a:pt x="1686" y="1315"/>
                    <a:pt x="1688" y="1335"/>
                    <a:pt x="1680" y="1357"/>
                  </a:cubicBezTo>
                  <a:cubicBezTo>
                    <a:pt x="1670" y="1354"/>
                    <a:pt x="1618" y="1416"/>
                    <a:pt x="1614" y="1421"/>
                  </a:cubicBezTo>
                  <a:cubicBezTo>
                    <a:pt x="1583" y="1450"/>
                    <a:pt x="1544" y="1455"/>
                    <a:pt x="1511" y="1469"/>
                  </a:cubicBezTo>
                  <a:cubicBezTo>
                    <a:pt x="1511" y="1467"/>
                    <a:pt x="1510" y="1465"/>
                    <a:pt x="1509" y="1464"/>
                  </a:cubicBezTo>
                  <a:cubicBezTo>
                    <a:pt x="1501" y="1469"/>
                    <a:pt x="1504" y="1470"/>
                    <a:pt x="1493" y="1471"/>
                  </a:cubicBezTo>
                  <a:cubicBezTo>
                    <a:pt x="1495" y="1473"/>
                    <a:pt x="1498" y="1475"/>
                    <a:pt x="1500" y="1476"/>
                  </a:cubicBezTo>
                  <a:cubicBezTo>
                    <a:pt x="1501" y="1475"/>
                    <a:pt x="1503" y="1473"/>
                    <a:pt x="1504" y="1471"/>
                  </a:cubicBezTo>
                  <a:cubicBezTo>
                    <a:pt x="1500" y="1471"/>
                    <a:pt x="1495" y="1471"/>
                    <a:pt x="1491" y="1471"/>
                  </a:cubicBezTo>
                  <a:cubicBezTo>
                    <a:pt x="1487" y="1488"/>
                    <a:pt x="1471" y="1476"/>
                    <a:pt x="1465" y="1460"/>
                  </a:cubicBezTo>
                  <a:cubicBezTo>
                    <a:pt x="1466" y="1467"/>
                    <a:pt x="1464" y="1475"/>
                    <a:pt x="1465" y="1482"/>
                  </a:cubicBezTo>
                  <a:cubicBezTo>
                    <a:pt x="1460" y="1477"/>
                    <a:pt x="1453" y="1474"/>
                    <a:pt x="1448" y="1469"/>
                  </a:cubicBezTo>
                  <a:cubicBezTo>
                    <a:pt x="1454" y="1524"/>
                    <a:pt x="1303" y="1498"/>
                    <a:pt x="1351" y="1556"/>
                  </a:cubicBezTo>
                  <a:cubicBezTo>
                    <a:pt x="1327" y="1570"/>
                    <a:pt x="1320" y="1528"/>
                    <a:pt x="1324" y="1510"/>
                  </a:cubicBezTo>
                  <a:cubicBezTo>
                    <a:pt x="1300" y="1526"/>
                    <a:pt x="1285" y="1489"/>
                    <a:pt x="1272" y="1515"/>
                  </a:cubicBezTo>
                  <a:cubicBezTo>
                    <a:pt x="1271" y="1513"/>
                    <a:pt x="1270" y="1510"/>
                    <a:pt x="1270" y="1508"/>
                  </a:cubicBezTo>
                  <a:cubicBezTo>
                    <a:pt x="1241" y="1531"/>
                    <a:pt x="1218" y="1492"/>
                    <a:pt x="1210" y="1469"/>
                  </a:cubicBezTo>
                  <a:cubicBezTo>
                    <a:pt x="1198" y="1431"/>
                    <a:pt x="1143" y="1453"/>
                    <a:pt x="1123" y="1464"/>
                  </a:cubicBezTo>
                  <a:cubicBezTo>
                    <a:pt x="1108" y="1471"/>
                    <a:pt x="1101" y="1462"/>
                    <a:pt x="1088" y="1469"/>
                  </a:cubicBezTo>
                  <a:cubicBezTo>
                    <a:pt x="1079" y="1474"/>
                    <a:pt x="1076" y="1470"/>
                    <a:pt x="1066" y="1466"/>
                  </a:cubicBezTo>
                  <a:cubicBezTo>
                    <a:pt x="1051" y="1460"/>
                    <a:pt x="1062" y="1475"/>
                    <a:pt x="1052" y="1478"/>
                  </a:cubicBezTo>
                  <a:cubicBezTo>
                    <a:pt x="1046" y="1481"/>
                    <a:pt x="1027" y="1465"/>
                    <a:pt x="1028" y="1482"/>
                  </a:cubicBezTo>
                  <a:cubicBezTo>
                    <a:pt x="1029" y="1501"/>
                    <a:pt x="1037" y="1519"/>
                    <a:pt x="1017" y="1524"/>
                  </a:cubicBezTo>
                  <a:cubicBezTo>
                    <a:pt x="1015" y="1485"/>
                    <a:pt x="997" y="1515"/>
                    <a:pt x="980" y="1510"/>
                  </a:cubicBezTo>
                  <a:cubicBezTo>
                    <a:pt x="966" y="1506"/>
                    <a:pt x="946" y="1480"/>
                    <a:pt x="948" y="1469"/>
                  </a:cubicBezTo>
                  <a:cubicBezTo>
                    <a:pt x="954" y="1446"/>
                    <a:pt x="935" y="1448"/>
                    <a:pt x="930" y="1425"/>
                  </a:cubicBezTo>
                  <a:cubicBezTo>
                    <a:pt x="926" y="1398"/>
                    <a:pt x="901" y="1411"/>
                    <a:pt x="881" y="1422"/>
                  </a:cubicBezTo>
                  <a:cubicBezTo>
                    <a:pt x="885" y="1406"/>
                    <a:pt x="949" y="1272"/>
                    <a:pt x="912" y="1272"/>
                  </a:cubicBezTo>
                  <a:cubicBezTo>
                    <a:pt x="919" y="1272"/>
                    <a:pt x="863" y="1237"/>
                    <a:pt x="867" y="1241"/>
                  </a:cubicBezTo>
                  <a:cubicBezTo>
                    <a:pt x="856" y="1230"/>
                    <a:pt x="834" y="1240"/>
                    <a:pt x="836" y="1222"/>
                  </a:cubicBezTo>
                  <a:cubicBezTo>
                    <a:pt x="837" y="1213"/>
                    <a:pt x="829" y="1200"/>
                    <a:pt x="824" y="1190"/>
                  </a:cubicBezTo>
                  <a:cubicBezTo>
                    <a:pt x="797" y="1205"/>
                    <a:pt x="776" y="1195"/>
                    <a:pt x="752" y="1213"/>
                  </a:cubicBezTo>
                  <a:cubicBezTo>
                    <a:pt x="724" y="1235"/>
                    <a:pt x="703" y="1246"/>
                    <a:pt x="669" y="1259"/>
                  </a:cubicBezTo>
                  <a:cubicBezTo>
                    <a:pt x="655" y="1265"/>
                    <a:pt x="613" y="1228"/>
                    <a:pt x="598" y="1243"/>
                  </a:cubicBezTo>
                  <a:cubicBezTo>
                    <a:pt x="584" y="1258"/>
                    <a:pt x="543" y="1305"/>
                    <a:pt x="556" y="1250"/>
                  </a:cubicBezTo>
                  <a:cubicBezTo>
                    <a:pt x="535" y="1258"/>
                    <a:pt x="463" y="1268"/>
                    <a:pt x="449" y="1251"/>
                  </a:cubicBezTo>
                  <a:cubicBezTo>
                    <a:pt x="433" y="1233"/>
                    <a:pt x="381" y="1227"/>
                    <a:pt x="390" y="1200"/>
                  </a:cubicBezTo>
                  <a:cubicBezTo>
                    <a:pt x="363" y="1220"/>
                    <a:pt x="366" y="1196"/>
                    <a:pt x="349" y="1183"/>
                  </a:cubicBezTo>
                  <a:cubicBezTo>
                    <a:pt x="327" y="1166"/>
                    <a:pt x="314" y="1162"/>
                    <a:pt x="286" y="1157"/>
                  </a:cubicBezTo>
                  <a:cubicBezTo>
                    <a:pt x="286" y="1160"/>
                    <a:pt x="285" y="1164"/>
                    <a:pt x="285" y="1168"/>
                  </a:cubicBezTo>
                  <a:cubicBezTo>
                    <a:pt x="275" y="1160"/>
                    <a:pt x="264" y="1153"/>
                    <a:pt x="253" y="1146"/>
                  </a:cubicBezTo>
                  <a:cubicBezTo>
                    <a:pt x="247" y="1143"/>
                    <a:pt x="199" y="1127"/>
                    <a:pt x="199" y="1127"/>
                  </a:cubicBezTo>
                  <a:cubicBezTo>
                    <a:pt x="188" y="1114"/>
                    <a:pt x="181" y="1061"/>
                    <a:pt x="190" y="1054"/>
                  </a:cubicBezTo>
                  <a:cubicBezTo>
                    <a:pt x="193" y="1059"/>
                    <a:pt x="196" y="1064"/>
                    <a:pt x="199" y="1069"/>
                  </a:cubicBezTo>
                  <a:cubicBezTo>
                    <a:pt x="248" y="1051"/>
                    <a:pt x="177" y="1000"/>
                    <a:pt x="203" y="996"/>
                  </a:cubicBezTo>
                  <a:cubicBezTo>
                    <a:pt x="227" y="992"/>
                    <a:pt x="241" y="955"/>
                    <a:pt x="250" y="930"/>
                  </a:cubicBezTo>
                  <a:cubicBezTo>
                    <a:pt x="246" y="931"/>
                    <a:pt x="242" y="932"/>
                    <a:pt x="238" y="934"/>
                  </a:cubicBezTo>
                  <a:cubicBezTo>
                    <a:pt x="223" y="872"/>
                    <a:pt x="148" y="959"/>
                    <a:pt x="114" y="916"/>
                  </a:cubicBezTo>
                  <a:cubicBezTo>
                    <a:pt x="107" y="907"/>
                    <a:pt x="101" y="917"/>
                    <a:pt x="92" y="909"/>
                  </a:cubicBezTo>
                  <a:cubicBezTo>
                    <a:pt x="83" y="899"/>
                    <a:pt x="91" y="887"/>
                    <a:pt x="82" y="876"/>
                  </a:cubicBezTo>
                  <a:cubicBezTo>
                    <a:pt x="76" y="869"/>
                    <a:pt x="49" y="859"/>
                    <a:pt x="34" y="856"/>
                  </a:cubicBezTo>
                  <a:cubicBezTo>
                    <a:pt x="40" y="855"/>
                    <a:pt x="46" y="851"/>
                    <a:pt x="52" y="850"/>
                  </a:cubicBezTo>
                  <a:cubicBezTo>
                    <a:pt x="50" y="836"/>
                    <a:pt x="53" y="790"/>
                    <a:pt x="35" y="791"/>
                  </a:cubicBezTo>
                  <a:cubicBezTo>
                    <a:pt x="2" y="793"/>
                    <a:pt x="0" y="770"/>
                    <a:pt x="12" y="74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97"/>
            <p:cNvSpPr/>
            <p:nvPr/>
          </p:nvSpPr>
          <p:spPr>
            <a:xfrm>
              <a:off x="3240720" y="4138200"/>
              <a:ext cx="265320" cy="1353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0" h="76">
                  <a:moveTo>
                    <a:pt x="107" y="0"/>
                  </a:moveTo>
                  <a:cubicBezTo>
                    <a:pt x="150" y="6"/>
                    <a:pt x="97" y="76"/>
                    <a:pt x="64" y="66"/>
                  </a:cubicBezTo>
                  <a:cubicBezTo>
                    <a:pt x="0" y="47"/>
                    <a:pt x="77" y="4"/>
                    <a:pt x="107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99"/>
            <p:cNvSpPr/>
            <p:nvPr/>
          </p:nvSpPr>
          <p:spPr>
            <a:xfrm>
              <a:off x="4019040" y="3778560"/>
              <a:ext cx="182520" cy="235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04" h="132">
                  <a:moveTo>
                    <a:pt x="66" y="0"/>
                  </a:moveTo>
                  <a:cubicBezTo>
                    <a:pt x="104" y="9"/>
                    <a:pt x="52" y="108"/>
                    <a:pt x="44" y="132"/>
                  </a:cubicBezTo>
                  <a:cubicBezTo>
                    <a:pt x="18" y="94"/>
                    <a:pt x="0" y="15"/>
                    <a:pt x="6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44"/>
            <p:cNvSpPr/>
            <p:nvPr/>
          </p:nvSpPr>
          <p:spPr>
            <a:xfrm>
              <a:off x="2013840" y="39222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1" y="1"/>
                    <a:pt x="2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1"/>
          <p:cNvGrpSpPr/>
          <p:nvPr/>
        </p:nvGrpSpPr>
        <p:grpSpPr>
          <a:xfrm>
            <a:off x="1760400" y="2719440"/>
            <a:ext cx="1081080" cy="1079280"/>
            <a:chOff x="1760400" y="2719440"/>
            <a:chExt cx="1081080" cy="1079280"/>
          </a:xfrm>
        </p:grpSpPr>
        <p:sp>
          <p:nvSpPr>
            <p:cNvPr id="248" name="椭圆 32"/>
            <p:cNvSpPr/>
            <p:nvPr/>
          </p:nvSpPr>
          <p:spPr>
            <a:xfrm>
              <a:off x="1760400" y="2719440"/>
              <a:ext cx="1081080" cy="1079280"/>
            </a:xfrm>
            <a:prstGeom prst="ellipse">
              <a:avLst/>
            </a:prstGeom>
            <a:solidFill>
              <a:srgbClr val="18486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33"/>
            <p:cNvSpPr/>
            <p:nvPr/>
          </p:nvSpPr>
          <p:spPr>
            <a:xfrm>
              <a:off x="1832400" y="2791080"/>
              <a:ext cx="937080" cy="935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34"/>
          <p:cNvGrpSpPr/>
          <p:nvPr/>
        </p:nvGrpSpPr>
        <p:grpSpPr>
          <a:xfrm>
            <a:off x="3164040" y="1782720"/>
            <a:ext cx="936360" cy="934920"/>
            <a:chOff x="3164040" y="1782720"/>
            <a:chExt cx="936360" cy="934920"/>
          </a:xfrm>
        </p:grpSpPr>
        <p:sp>
          <p:nvSpPr>
            <p:cNvPr id="251" name="椭圆 35"/>
            <p:cNvSpPr/>
            <p:nvPr/>
          </p:nvSpPr>
          <p:spPr>
            <a:xfrm>
              <a:off x="3164040" y="1782720"/>
              <a:ext cx="936360" cy="934920"/>
            </a:xfrm>
            <a:prstGeom prst="ellipse">
              <a:avLst/>
            </a:prstGeom>
            <a:solidFill>
              <a:srgbClr val="0b243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36"/>
            <p:cNvSpPr/>
            <p:nvPr/>
          </p:nvSpPr>
          <p:spPr>
            <a:xfrm>
              <a:off x="3226320" y="1845000"/>
              <a:ext cx="811800" cy="81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7"/>
          <p:cNvGrpSpPr/>
          <p:nvPr/>
        </p:nvGrpSpPr>
        <p:grpSpPr>
          <a:xfrm>
            <a:off x="3708360" y="3174840"/>
            <a:ext cx="771480" cy="771840"/>
            <a:chOff x="3708360" y="3174840"/>
            <a:chExt cx="771480" cy="771840"/>
          </a:xfrm>
        </p:grpSpPr>
        <p:sp>
          <p:nvSpPr>
            <p:cNvPr id="254" name="椭圆 38"/>
            <p:cNvSpPr/>
            <p:nvPr/>
          </p:nvSpPr>
          <p:spPr>
            <a:xfrm>
              <a:off x="3708360" y="3174840"/>
              <a:ext cx="771480" cy="771840"/>
            </a:xfrm>
            <a:prstGeom prst="ellipse">
              <a:avLst/>
            </a:prstGeom>
            <a:solidFill>
              <a:srgbClr val="4890a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39"/>
            <p:cNvSpPr/>
            <p:nvPr/>
          </p:nvSpPr>
          <p:spPr>
            <a:xfrm>
              <a:off x="3759480" y="3225960"/>
              <a:ext cx="668880" cy="668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40"/>
          <p:cNvSpPr/>
          <p:nvPr/>
        </p:nvSpPr>
        <p:spPr>
          <a:xfrm>
            <a:off x="6148440" y="162252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5929200" y="1666800"/>
            <a:ext cx="190440" cy="1922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2"/>
          <p:cNvSpPr/>
          <p:nvPr/>
        </p:nvSpPr>
        <p:spPr>
          <a:xfrm>
            <a:off x="6148440" y="255276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2"/>
          <p:cNvSpPr/>
          <p:nvPr/>
        </p:nvSpPr>
        <p:spPr>
          <a:xfrm>
            <a:off x="5929200" y="2598840"/>
            <a:ext cx="190440" cy="190440"/>
          </a:xfrm>
          <a:prstGeom prst="rect">
            <a:avLst/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4"/>
          <p:cNvSpPr/>
          <p:nvPr/>
        </p:nvSpPr>
        <p:spPr>
          <a:xfrm>
            <a:off x="6148440" y="349884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5929200" y="3544920"/>
            <a:ext cx="19044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64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272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831960" y="1581120"/>
            <a:ext cx="3324240" cy="118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755640" y="2901960"/>
            <a:ext cx="27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7"/>
          <p:cNvSpPr/>
          <p:nvPr/>
        </p:nvSpPr>
        <p:spPr>
          <a:xfrm>
            <a:off x="861840" y="3227400"/>
            <a:ext cx="329580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861840" y="3371760"/>
            <a:ext cx="2538720" cy="17172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9"/>
          <p:cNvSpPr/>
          <p:nvPr/>
        </p:nvSpPr>
        <p:spPr>
          <a:xfrm>
            <a:off x="861840" y="3602160"/>
            <a:ext cx="2106720" cy="1728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861840" y="3832200"/>
            <a:ext cx="1657440" cy="17316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"/>
          <p:cNvSpPr/>
          <p:nvPr/>
        </p:nvSpPr>
        <p:spPr>
          <a:xfrm>
            <a:off x="861840" y="4062240"/>
            <a:ext cx="2322720" cy="17316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3635280" y="3276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3635280" y="35035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3635280" y="37306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3635280" y="3959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4716360" y="1563840"/>
            <a:ext cx="3672000" cy="5760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7"/>
          <p:cNvGrpSpPr/>
          <p:nvPr/>
        </p:nvGrpSpPr>
        <p:grpSpPr>
          <a:xfrm>
            <a:off x="4716360" y="2487600"/>
            <a:ext cx="3816360" cy="398520"/>
            <a:chOff x="4716360" y="2487600"/>
            <a:chExt cx="3816360" cy="398520"/>
          </a:xfrm>
        </p:grpSpPr>
        <p:sp>
          <p:nvSpPr>
            <p:cNvPr id="288" name="TextBox 18"/>
            <p:cNvSpPr/>
            <p:nvPr/>
          </p:nvSpPr>
          <p:spPr>
            <a:xfrm>
              <a:off x="5040360" y="248760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9"/>
            <p:cNvSpPr/>
            <p:nvPr/>
          </p:nvSpPr>
          <p:spPr>
            <a:xfrm>
              <a:off x="4716360" y="2548800"/>
              <a:ext cx="144000" cy="14400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0"/>
          <p:cNvGrpSpPr/>
          <p:nvPr/>
        </p:nvGrpSpPr>
        <p:grpSpPr>
          <a:xfrm>
            <a:off x="4716360" y="3116160"/>
            <a:ext cx="3816360" cy="398520"/>
            <a:chOff x="4716360" y="3116160"/>
            <a:chExt cx="3816360" cy="398520"/>
          </a:xfrm>
        </p:grpSpPr>
        <p:sp>
          <p:nvSpPr>
            <p:cNvPr id="291" name="TextBox 21"/>
            <p:cNvSpPr/>
            <p:nvPr/>
          </p:nvSpPr>
          <p:spPr>
            <a:xfrm>
              <a:off x="5040360" y="311616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22"/>
            <p:cNvSpPr/>
            <p:nvPr/>
          </p:nvSpPr>
          <p:spPr>
            <a:xfrm>
              <a:off x="4716360" y="3177360"/>
              <a:ext cx="144000" cy="14400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3"/>
          <p:cNvGrpSpPr/>
          <p:nvPr/>
        </p:nvGrpSpPr>
        <p:grpSpPr>
          <a:xfrm>
            <a:off x="4716360" y="3746520"/>
            <a:ext cx="3816360" cy="398520"/>
            <a:chOff x="4716360" y="3746520"/>
            <a:chExt cx="3816360" cy="398520"/>
          </a:xfrm>
        </p:grpSpPr>
        <p:sp>
          <p:nvSpPr>
            <p:cNvPr id="294" name="TextBox 24"/>
            <p:cNvSpPr/>
            <p:nvPr/>
          </p:nvSpPr>
          <p:spPr>
            <a:xfrm>
              <a:off x="5040360" y="374652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25"/>
            <p:cNvSpPr/>
            <p:nvPr/>
          </p:nvSpPr>
          <p:spPr>
            <a:xfrm>
              <a:off x="4716360" y="3807720"/>
              <a:ext cx="144000" cy="14364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3:09:00Z</dcterms:created>
  <dc:creator>Windows 用户</dc:creator>
  <dc:description/>
  <dc:language>en-US</dc:language>
  <cp:lastModifiedBy>Administrator</cp:lastModifiedBy>
  <dcterms:modified xsi:type="dcterms:W3CDTF">2016-07-25T09:42:0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de12000000000001024100</vt:lpwstr>
  </property>
</Properties>
</file>