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B7E-86C8-4952-9DEF-3BB2ED3E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D90-42DF-43FB-A032-729B1890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29D-95C9-4AED-94FE-88C6C07F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DE6-23DE-4745-8FDF-1777DB2E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1D06-DBC8-4E63-9F90-A48AB9A7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572C-413E-4AF5-869B-562AA27E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FE8B-5A9C-4491-A105-1C070268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82F6-9018-4ED6-9E1F-2C02BBB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9E82-A4C3-41AC-9B82-C4BD66E1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0697-0E4A-4D74-A1F4-04AA2087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2ECB-EADD-4B8A-945A-20B41710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73B-90BA-497F-B947-C498892C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A562-B1FF-49A2-84CA-48CF426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EC37-DC85-42FD-B89D-72C0C4F7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CEA4-C758-4D90-A4D8-3F00A064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AA09-F528-4DA8-909A-0318C5F3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77CD-3E17-4FBA-848A-869146E2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CFD-88A7-49DA-8449-035B0D4C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B5A-8C15-4F3F-8B85-061B512A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B31-16E0-4AEB-AA4D-DB31F5A5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027-5E09-4DA7-83B7-381E664D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767-395F-43DF-8082-B746A71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141-1F06-403F-A6F2-80355B3D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759-F74D-41E4-8544-05F6B03B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6421-B09A-4108-86CA-250261D49FC3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03E6-776F-497C-A067-CDC81531B6D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PowerPoint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203640" y="263700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ffffff"/>
              </a:gs>
              <a:gs pos="100000">
                <a:srgbClr val="6e81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3c4631"/>
              </a:gs>
              <a:gs pos="100000">
                <a:srgbClr val="6e815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ffffff"/>
              </a:gs>
              <a:gs pos="100000">
                <a:srgbClr val="90a8b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4e5b5f"/>
              </a:gs>
              <a:gs pos="100000">
                <a:srgbClr val="90a8b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6b70"/>
              </a:gs>
              <a:gs pos="100000">
                <a:srgbClr val="90a8b0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4" name="Group 19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5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Oval 20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9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/>
              </a:gs>
              <a:gs pos="50000">
                <a:srgbClr val="ffffff"/>
              </a:gs>
              <a:gs pos="100000">
                <a:srgbClr val="3984c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>
                  <a:alpha val="32156"/>
                </a:srgbClr>
              </a:gs>
              <a:gs pos="100000">
                <a:srgbClr val="1a3d5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984c9"/>
              </a:gs>
              <a:gs pos="50000">
                <a:srgbClr val="1f476d"/>
              </a:gs>
              <a:gs pos="100000">
                <a:srgbClr val="3984c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45480"/>
              </a:gs>
              <a:gs pos="100000">
                <a:srgbClr val="3984c9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4" name="Group 29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5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30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Group 34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90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35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4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99" name="Group 4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300" name="Rectangle 8"/>
            <p:cNvSpPr/>
            <p:nvPr/>
          </p:nvSpPr>
          <p:spPr>
            <a:xfrm rot="13770000">
              <a:off x="4916520" y="388404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2" name="Group 7"/>
            <p:cNvGrpSpPr/>
            <p:nvPr/>
          </p:nvGrpSpPr>
          <p:grpSpPr>
            <a:xfrm>
              <a:off x="3867120" y="2127600"/>
              <a:ext cx="1704600" cy="1836000"/>
              <a:chOff x="3867120" y="2127600"/>
              <a:chExt cx="1704600" cy="1836000"/>
            </a:xfrm>
          </p:grpSpPr>
          <p:sp>
            <p:nvSpPr>
              <p:cNvPr id="303" name="Rectangle 11"/>
              <p:cNvSpPr/>
              <p:nvPr/>
            </p:nvSpPr>
            <p:spPr>
              <a:xfrm rot="18394200">
                <a:off x="5042880" y="2340360"/>
                <a:ext cx="59616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4" name="Group 9"/>
              <p:cNvGrpSpPr/>
              <p:nvPr/>
            </p:nvGrpSpPr>
            <p:grpSpPr>
              <a:xfrm>
                <a:off x="3867120" y="2374200"/>
                <a:ext cx="1609560" cy="1589400"/>
                <a:chOff x="3867120" y="2374200"/>
                <a:chExt cx="1609560" cy="1589400"/>
              </a:xfrm>
            </p:grpSpPr>
            <p:sp>
              <p:nvSpPr>
                <p:cNvPr id="305" name="Oval 13"/>
                <p:cNvSpPr/>
                <p:nvPr/>
              </p:nvSpPr>
              <p:spPr>
                <a:xfrm>
                  <a:off x="3867120" y="2374200"/>
                  <a:ext cx="1609560" cy="158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4"/>
                <p:cNvSpPr/>
                <p:nvPr/>
              </p:nvSpPr>
              <p:spPr>
                <a:xfrm>
                  <a:off x="4051080" y="2400480"/>
                  <a:ext cx="1241640" cy="599760"/>
                </a:xfrm>
                <a:custGeom>
                  <a:avLst/>
                  <a:gdLst>
                    <a:gd name="textAreaLeft" fmla="*/ 0 w 1241640"/>
                    <a:gd name="textAreaRight" fmla="*/ 1242000 w 1241640"/>
                    <a:gd name="textAreaTop" fmla="*/ 0 h 599760"/>
                    <a:gd name="textAreaBottom" fmla="*/ 600120 h 5997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Text Box 15"/>
              <p:cNvSpPr/>
              <p:nvPr/>
            </p:nvSpPr>
            <p:spPr>
              <a:xfrm>
                <a:off x="3953880" y="30657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3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09" name="Group 14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10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custGeom>
                  <a:avLst/>
                  <a:gdLst>
                    <a:gd name="textAreaLeft" fmla="*/ 0 w 672480"/>
                    <a:gd name="textAreaRight" fmla="*/ 672480 w 672480"/>
                    <a:gd name="textAreaTop" fmla="*/ 0 h 325080"/>
                    <a:gd name="textAreaBottom" fmla="*/ 325440 h 325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Text Box 20"/>
              <p:cNvSpPr/>
              <p:nvPr/>
            </p:nvSpPr>
            <p:spPr>
              <a:xfrm>
                <a:off x="5297400" y="17766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18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4" name="Group 19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5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custGeom>
                  <a:avLst/>
                  <a:gdLst>
                    <a:gd name="textAreaLeft" fmla="*/ 0 w 1345680"/>
                    <a:gd name="textAreaRight" fmla="*/ 1346040 w 1345680"/>
                    <a:gd name="textAreaTop" fmla="*/ 0 h 675720"/>
                    <a:gd name="textAreaBottom" fmla="*/ 676080 h 675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Text Box 25"/>
              <p:cNvSpPr/>
              <p:nvPr/>
            </p:nvSpPr>
            <p:spPr>
              <a:xfrm>
                <a:off x="154692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3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19" name="Group 24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20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custGeom>
                  <a:avLst/>
                  <a:gdLst>
                    <a:gd name="textAreaLeft" fmla="*/ 0 w 1553040"/>
                    <a:gd name="textAreaRight" fmla="*/ 1553400 w 1553040"/>
                    <a:gd name="textAreaTop" fmla="*/ 0 h 750600"/>
                    <a:gd name="textAreaBottom" fmla="*/ 750960 h 7506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5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76b3">
                  <a:alpha val="0"/>
                </a:srgbClr>
              </a:gs>
              <a:gs pos="100000">
                <a:srgbClr val="3984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2" name="Group 11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3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5" name="Group 14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6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8" name="Group 17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9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1" name="Group 20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2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Group 23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5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7" name="Group 26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8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Oval 27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0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ffffff"/>
              </a:gs>
              <a:gs pos="100000">
                <a:srgbClr val="6e815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>
                  <a:alpha val="32156"/>
                </a:srgbClr>
              </a:gs>
              <a:gs pos="100000">
                <a:srgbClr val="333c2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3c4631"/>
              </a:gs>
              <a:gs pos="100000">
                <a:srgbClr val="6e815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46523a"/>
              </a:gs>
              <a:gs pos="100000">
                <a:srgbClr val="6e815b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69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20307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1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Group 19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4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AutoShape 20"/>
            <p:cNvSpPr/>
            <p:nvPr/>
          </p:nvSpPr>
          <p:spPr>
            <a:xfrm>
              <a:off x="36608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4"/>
            <p:cNvSpPr/>
            <p:nvPr/>
          </p:nvSpPr>
          <p:spPr>
            <a:xfrm>
              <a:off x="437832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5"/>
            <p:cNvSpPr/>
            <p:nvPr/>
          </p:nvSpPr>
          <p:spPr>
            <a:xfrm>
              <a:off x="438624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6"/>
            <p:cNvSpPr/>
            <p:nvPr/>
          </p:nvSpPr>
          <p:spPr>
            <a:xfrm>
              <a:off x="439236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Oval 27"/>
            <p:cNvSpPr/>
            <p:nvPr/>
          </p:nvSpPr>
          <p:spPr>
            <a:xfrm>
              <a:off x="442764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Text Box 29"/>
            <p:cNvSpPr/>
            <p:nvPr/>
          </p:nvSpPr>
          <p:spPr>
            <a:xfrm>
              <a:off x="37036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AutoShape 30"/>
            <p:cNvSpPr/>
            <p:nvPr/>
          </p:nvSpPr>
          <p:spPr>
            <a:xfrm>
              <a:off x="36306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31"/>
            <p:cNvSpPr/>
            <p:nvPr/>
          </p:nvSpPr>
          <p:spPr>
            <a:xfrm>
              <a:off x="36748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7" name="Group 33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8" name="AutoShape 33"/>
            <p:cNvSpPr/>
            <p:nvPr/>
          </p:nvSpPr>
          <p:spPr>
            <a:xfrm>
              <a:off x="59896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5"/>
            <p:cNvSpPr/>
            <p:nvPr/>
          </p:nvSpPr>
          <p:spPr>
            <a:xfrm>
              <a:off x="60404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AutoShape 36"/>
            <p:cNvSpPr/>
            <p:nvPr/>
          </p:nvSpPr>
          <p:spPr>
            <a:xfrm>
              <a:off x="60404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2" name="Group 38"/>
            <p:cNvGrpSpPr/>
            <p:nvPr/>
          </p:nvGrpSpPr>
          <p:grpSpPr>
            <a:xfrm>
              <a:off x="6734160" y="1832040"/>
              <a:ext cx="642960" cy="642600"/>
              <a:chOff x="6734160" y="1832040"/>
              <a:chExt cx="642960" cy="642600"/>
            </a:xfrm>
          </p:grpSpPr>
          <p:sp>
            <p:nvSpPr>
              <p:cNvPr id="403" name="Oval 38"/>
              <p:cNvSpPr/>
              <p:nvPr/>
            </p:nvSpPr>
            <p:spPr>
              <a:xfrm>
                <a:off x="67341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4" name="Oval 39"/>
              <p:cNvSpPr/>
              <p:nvPr/>
            </p:nvSpPr>
            <p:spPr>
              <a:xfrm>
                <a:off x="67406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40"/>
              <p:cNvSpPr/>
              <p:nvPr/>
            </p:nvSpPr>
            <p:spPr>
              <a:xfrm>
                <a:off x="67485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1"/>
              <p:cNvSpPr/>
              <p:nvPr/>
            </p:nvSpPr>
            <p:spPr>
              <a:xfrm>
                <a:off x="675504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7" name="Oval 42"/>
              <p:cNvSpPr/>
              <p:nvPr/>
            </p:nvSpPr>
            <p:spPr>
              <a:xfrm>
                <a:off x="67888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8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46"/>
            <p:cNvSpPr/>
            <p:nvPr/>
          </p:nvSpPr>
          <p:spPr>
            <a:xfrm>
              <a:off x="60274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4" name="Group 4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5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7" name="Group 7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18" name="Group 8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19" name="Freeform 8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0" name="Freeform 9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1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22" name="Freeform 11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360 h 376560"/>
                  <a:gd name="textAreaBottom" fmla="*/ 377280 h 376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3" name="Freeform 12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360 h 308160"/>
                  <a:gd name="textAreaBottom" fmla="*/ 308880 h 30816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14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5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0" name="Group 20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31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Group 25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6" name="Group 26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7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8" name="Freeform 27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29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0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1" name="Freeform 30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7" name="Group 37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8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2" name="Group 42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53" name="Group 43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54" name="Freeform 43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5" name="Freeform 44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46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57" name="Freeform 46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360 h 376560"/>
                  <a:gd name="textAreaBottom" fmla="*/ 377280 h 376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8" name="Freeform 47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360 h 308160"/>
                  <a:gd name="textAreaBottom" fmla="*/ 308880 h 30816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49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0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5" name="Group 55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66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60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1" name="Group 61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2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>
                  <a:gd name="textAreaLeft" fmla="*/ 0 w 2273400"/>
                  <a:gd name="textAreaRight" fmla="*/ 2273760 w 2273400"/>
                  <a:gd name="textAreaTop" fmla="*/ 0 h 491400"/>
                  <a:gd name="textAreaBottom" fmla="*/ 491760 h 49140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Freeform 62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64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5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-360 h 376920"/>
                  <a:gd name="textAreaBottom" fmla="*/ 376920 h 37692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6" name="Freeform 65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-360 h 308520"/>
                  <a:gd name="textAreaBottom" fmla="*/ 308520 h 3085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67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8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3" name="Group 73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84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6" name="Group 86"/>
          <p:cNvGrpSpPr/>
          <p:nvPr/>
        </p:nvGrpSpPr>
        <p:grpSpPr>
          <a:xfrm>
            <a:off x="1104840" y="1828800"/>
            <a:ext cx="6057360" cy="407880"/>
            <a:chOff x="1104840" y="1828800"/>
            <a:chExt cx="6057360" cy="407880"/>
          </a:xfrm>
        </p:grpSpPr>
        <p:sp>
          <p:nvSpPr>
            <p:cNvPr id="497" name="Text Box 86"/>
            <p:cNvSpPr/>
            <p:nvPr/>
          </p:nvSpPr>
          <p:spPr>
            <a:xfrm>
              <a:off x="11048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16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Text Box 87"/>
            <p:cNvSpPr/>
            <p:nvPr/>
          </p:nvSpPr>
          <p:spPr>
            <a:xfrm>
              <a:off x="28591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16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8"/>
            <p:cNvSpPr/>
            <p:nvPr/>
          </p:nvSpPr>
          <p:spPr>
            <a:xfrm>
              <a:off x="46051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16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Text Box 89"/>
            <p:cNvSpPr/>
            <p:nvPr/>
          </p:nvSpPr>
          <p:spPr>
            <a:xfrm>
              <a:off x="63961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16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1" name="AutoShape 90"/>
            <p:cNvCxnSpPr>
              <a:stCxn id="497" idx="3"/>
              <a:endCxn id="498" idx="1"/>
            </p:cNvCxnSpPr>
            <p:nvPr/>
          </p:nvCxnSpPr>
          <p:spPr>
            <a:xfrm>
              <a:off x="1844280" y="2053800"/>
              <a:ext cx="9802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2" name="AutoShape 91"/>
            <p:cNvCxnSpPr>
              <a:stCxn id="498" idx="3"/>
              <a:endCxn id="499" idx="1"/>
            </p:cNvCxnSpPr>
            <p:nvPr/>
          </p:nvCxnSpPr>
          <p:spPr>
            <a:xfrm>
              <a:off x="3598920" y="2053800"/>
              <a:ext cx="97200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3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6" name="Group 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7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8" name="Group 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09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Freeform 7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84c9">
                      <a:alpha val="0"/>
                    </a:srgbClr>
                  </a:gs>
                  <a:gs pos="50000">
                    <a:srgbClr val="93bce2"/>
                  </a:gs>
                  <a:gs pos="100000">
                    <a:srgbClr val="3984c9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1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2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3" name="Group 1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4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6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Freeform 14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aba"/>
                  </a:gs>
                  <a:gs pos="100000">
                    <a:srgbClr val="6e815b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9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0" name="Group 1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1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2" name="Group 2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3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Freeform 21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5d9"/>
                  </a:gs>
                  <a:gs pos="100000">
                    <a:srgbClr val="90a8b0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6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29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3" name="Group 8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4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5" name="Group 10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6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7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9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0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1" name="Group 16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2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3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5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6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7" name="Group 22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8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9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1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2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3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838080" y="2057400"/>
          <a:ext cx="746784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1349280" y="1280880"/>
            <a:ext cx="6575400" cy="4665960"/>
            <a:chOff x="1349280" y="1280880"/>
            <a:chExt cx="6575400" cy="4665960"/>
          </a:xfrm>
        </p:grpSpPr>
        <p:sp>
          <p:nvSpPr>
            <p:cNvPr id="566" name="Oval 4"/>
            <p:cNvSpPr/>
            <p:nvPr/>
          </p:nvSpPr>
          <p:spPr>
            <a:xfrm>
              <a:off x="236232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>
                    <a:alpha val="70196"/>
                  </a:srgbClr>
                </a:gs>
                <a:gs pos="100000">
                  <a:srgbClr val="13131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Oval 5"/>
            <p:cNvSpPr/>
            <p:nvPr/>
          </p:nvSpPr>
          <p:spPr>
            <a:xfrm rot="20601600">
              <a:off x="167292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464646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Oval 6"/>
            <p:cNvSpPr/>
            <p:nvPr/>
          </p:nvSpPr>
          <p:spPr>
            <a:xfrm rot="20601600">
              <a:off x="169200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Arc 7"/>
            <p:cNvSpPr/>
            <p:nvPr/>
          </p:nvSpPr>
          <p:spPr>
            <a:xfrm rot="20601600">
              <a:off x="4349520" y="1905120"/>
              <a:ext cx="2849400" cy="1967040"/>
            </a:xfrm>
            <a:custGeom>
              <a:avLst/>
              <a:gdLst>
                <a:gd name="textAreaLeft" fmla="*/ 0 w 2849400"/>
                <a:gd name="textAreaRight" fmla="*/ 2849760 w 2849400"/>
                <a:gd name="textAreaTop" fmla="*/ 0 h 1967040"/>
                <a:gd name="textAreaBottom" fmla="*/ 1967400 h 196704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100000">
                  <a:srgbClr val="9eab92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custGeom>
              <a:avLst/>
              <a:gdLst>
                <a:gd name="textAreaLeft" fmla="*/ -360 w 3281400"/>
                <a:gd name="textAreaRight" fmla="*/ 3281400 w 3281400"/>
                <a:gd name="textAreaTop" fmla="*/ 0 h 1476360"/>
                <a:gd name="textAreaBottom" fmla="*/ 1476720 h 14763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100000">
                  <a:srgbClr val="23507a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9"/>
            <p:cNvSpPr/>
            <p:nvPr/>
          </p:nvSpPr>
          <p:spPr>
            <a:xfrm rot="20601600">
              <a:off x="2874600" y="1987560"/>
              <a:ext cx="3133800" cy="1417680"/>
            </a:xfrm>
            <a:custGeom>
              <a:avLst/>
              <a:gdLst>
                <a:gd name="textAreaLeft" fmla="*/ 0 w 3133800"/>
                <a:gd name="textAreaRight" fmla="*/ 3134160 w 313380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2e6272"/>
                </a:gs>
                <a:gs pos="100000">
                  <a:srgbClr val="18343c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custGeom>
              <a:avLst/>
              <a:gdLst>
                <a:gd name="textAreaLeft" fmla="*/ -360 w 2849400"/>
                <a:gd name="textAreaRight" fmla="*/ 2849400 w 2849400"/>
                <a:gd name="textAreaTop" fmla="*/ 0 h 2111400"/>
                <a:gd name="textAreaBottom" fmla="*/ 2111760 h 2111400"/>
              </a:gdLst>
              <a:ahLst/>
              <a:rect l="textAreaLeft" t="textAreaTop" r="textAreaRight" b="textAreaBottom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415f15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50000">
                  <a:srgbClr val="b2b2b2"/>
                </a:gs>
                <a:gs pos="100000">
                  <a:srgbClr val="ecec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3"/>
            <p:cNvSpPr/>
            <p:nvPr/>
          </p:nvSpPr>
          <p:spPr>
            <a:xfrm>
              <a:off x="405036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7" name="Group 15"/>
            <p:cNvGrpSpPr/>
            <p:nvPr/>
          </p:nvGrpSpPr>
          <p:grpSpPr>
            <a:xfrm>
              <a:off x="4514400" y="2466720"/>
              <a:ext cx="3164400" cy="2769120"/>
              <a:chOff x="4514400" y="2466720"/>
              <a:chExt cx="3164400" cy="2769120"/>
            </a:xfrm>
          </p:grpSpPr>
          <p:sp>
            <p:nvSpPr>
              <p:cNvPr id="578" name="Freeform 16"/>
              <p:cNvSpPr/>
              <p:nvPr/>
            </p:nvSpPr>
            <p:spPr>
              <a:xfrm>
                <a:off x="5668920" y="3448440"/>
                <a:ext cx="1773000" cy="1776240"/>
              </a:xfrm>
              <a:custGeom>
                <a:avLst/>
                <a:gdLst>
                  <a:gd name="textAreaLeft" fmla="*/ 0 w 1773000"/>
                  <a:gd name="textAreaRight" fmla="*/ 1773360 w 1773000"/>
                  <a:gd name="textAreaTop" fmla="*/ 0 h 1776240"/>
                  <a:gd name="textAreaBottom" fmla="*/ 1776600 h 1776240"/>
                </a:gdLst>
                <a:ahLst/>
                <a:rect l="textAreaLeft" t="textAreaTop" r="textAreaRight" b="textAreaBottom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8666b"/>
                  </a:gs>
                  <a:gs pos="100000">
                    <a:srgbClr val="90a8b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Arc 17"/>
              <p:cNvSpPr/>
              <p:nvPr/>
            </p:nvSpPr>
            <p:spPr>
              <a:xfrm rot="20539200">
                <a:off x="4732200" y="2837160"/>
                <a:ext cx="2728800" cy="1859040"/>
              </a:xfrm>
              <a:custGeom>
                <a:avLst/>
                <a:gdLst>
                  <a:gd name="textAreaLeft" fmla="*/ 0 w 2728800"/>
                  <a:gd name="textAreaRight" fmla="*/ 2729160 w 2728800"/>
                  <a:gd name="textAreaTop" fmla="*/ 0 h 1859040"/>
                  <a:gd name="textAreaBottom" fmla="*/ 1859400 h 1859040"/>
                </a:gdLst>
                <a:ahLst/>
                <a:rect l="textAreaLeft" t="textAreaTop" r="textAreaRight" b="textAreaBottom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Freeform 18"/>
              <p:cNvSpPr/>
              <p:nvPr/>
            </p:nvSpPr>
            <p:spPr>
              <a:xfrm>
                <a:off x="4803480" y="3924720"/>
                <a:ext cx="924120" cy="1311120"/>
              </a:xfrm>
              <a:custGeom>
                <a:avLst/>
                <a:gdLst>
                  <a:gd name="textAreaLeft" fmla="*/ 0 w 924120"/>
                  <a:gd name="textAreaRight" fmla="*/ 924480 w 924120"/>
                  <a:gd name="textAreaTop" fmla="*/ 0 h 1311120"/>
                  <a:gd name="textAreaBottom" fmla="*/ 1311480 h 1311120"/>
                </a:gdLst>
                <a:ahLst/>
                <a:rect l="textAreaLeft" t="textAreaTop" r="textAreaRight" b="textAreaBottom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/>
                  </a:gs>
                  <a:gs pos="100000">
                    <a:srgbClr val="434e5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Text Box 19"/>
              <p:cNvSpPr/>
              <p:nvPr/>
            </p:nvSpPr>
            <p:spPr>
              <a:xfrm>
                <a:off x="557388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2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Freeform 21"/>
            <p:cNvSpPr/>
            <p:nvPr/>
          </p:nvSpPr>
          <p:spPr>
            <a:xfrm>
              <a:off x="4648320" y="3990960"/>
              <a:ext cx="838080" cy="11080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Oval 22"/>
            <p:cNvSpPr/>
            <p:nvPr/>
          </p:nvSpPr>
          <p:spPr>
            <a:xfrm rot="20601600">
              <a:off x="325764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3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5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8" name="Group 14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599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4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Text Box 50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10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9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Text Box 55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4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Text Box 60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9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65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e6272"/>
                    </a:gs>
                    <a:gs pos="100000">
                      <a:srgbClr val="3984c9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e6272"/>
                  </a:gs>
                  <a:gs pos="100000">
                    <a:srgbClr val="3984c9"/>
                  </a:gs>
                </a:gsLst>
                <a:lin ang="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Freeform 7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>
              <a:gd name="textAreaLeft" fmla="*/ 0 w 903240"/>
              <a:gd name="textAreaRight" fmla="*/ 90360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7ae26"/>
              </a:gs>
              <a:gs pos="100000">
                <a:srgbClr val="a9cc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Freeform 9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e815b"/>
              </a:gs>
              <a:gs pos="100000">
                <a:srgbClr val="d1d7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4" name="Group 10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5" name="Group 11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26" name="Oval 12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353f2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7" name="Oval 13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bfc7b6"/>
                  </a:gs>
                  <a:gs pos="100000">
                    <a:srgbClr val="6e81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8" name="Oval 14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a3d5d"/>
                </a:gs>
                <a:gs pos="100000">
                  <a:srgbClr val="3984c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0"/>
                  </a:srgbClr>
                </a:gs>
                <a:gs pos="100000">
                  <a:srgbClr val="bad4e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2d699f"/>
                </a:gs>
                <a:gs pos="100000">
                  <a:srgbClr val="3984c9">
                    <a:alpha val="48235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84c9">
                    <a:alpha val="38039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2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7" name="Freeform 4"/>
            <p:cNvSpPr/>
            <p:nvPr/>
          </p:nvSpPr>
          <p:spPr>
            <a:xfrm rot="20241600">
              <a:off x="1271160" y="2687040"/>
              <a:ext cx="6403680" cy="2547720"/>
            </a:xfrm>
            <a:custGeom>
              <a:avLst/>
              <a:gdLst>
                <a:gd name="textAreaLeft" fmla="*/ 0 w 6403680"/>
                <a:gd name="textAreaRight" fmla="*/ 6404040 w 6403680"/>
                <a:gd name="textAreaTop" fmla="*/ 0 h 2547720"/>
                <a:gd name="textAreaBottom" fmla="*/ 2548080 h 25477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edede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 rot="20056200">
              <a:off x="7174800" y="27856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 rot="20056200">
              <a:off x="2930760" y="55087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 rot="20056200">
              <a:off x="5573520" y="4921200"/>
              <a:ext cx="1121040" cy="32004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3823920" y="1905120"/>
              <a:ext cx="120096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1475280" y="328968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2298960" y="48315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4893120" y="42591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6601320" y="2111760"/>
              <a:ext cx="113400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5" name="AutoShape 22"/>
            <p:cNvCxnSpPr/>
            <p:nvPr/>
          </p:nvCxnSpPr>
          <p:spPr>
            <a:xfrm flipH="1">
              <a:off x="740160" y="2320200"/>
              <a:ext cx="18140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6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0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1" name="Group 5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2" name="AutoShape 5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2e6272"/>
                  </a:gs>
                  <a:gs pos="100000">
                    <a:srgbClr val="adc1c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Oval 8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9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10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ffffff"/>
                  </a:gs>
                  <a:gs pos="100000">
                    <a:srgbClr val="6e81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1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2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3c4631"/>
                  </a:gs>
                  <a:gs pos="100000">
                    <a:srgbClr val="6e815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Oval 13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1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7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1" name="Freeform 17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7ae26"/>
                </a:gs>
                <a:gs pos="50000">
                  <a:srgbClr val="375112"/>
                </a:gs>
                <a:gs pos="100000">
                  <a:srgbClr val="77ae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>
                <a:gd name="textAreaLeft" fmla="*/ 0 w 4081320"/>
                <a:gd name="textAreaRight" fmla="*/ 4081680 w 4081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>
                <a:gd name="textAreaLeft" fmla="*/ 0 w 1838160"/>
                <a:gd name="textAreaRight" fmla="*/ 1838520 w 18381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Rectangle 25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77ae26"/>
                </a:gs>
                <a:gs pos="50000">
                  <a:srgbClr val="567e1c"/>
                </a:gs>
                <a:gs pos="100000">
                  <a:srgbClr val="77ae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Rectangle 26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50000">
                  <a:srgbClr val="505e42"/>
                </a:gs>
                <a:gs pos="100000">
                  <a:srgbClr val="6e815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>
                <a:gd name="textAreaLeft" fmla="*/ 0 w 3833280"/>
                <a:gd name="textAreaRight" fmla="*/ 3833640 w 383328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687a80"/>
                </a:gs>
                <a:gs pos="100000">
                  <a:srgbClr val="90a8b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984c9"/>
                </a:gs>
                <a:gs pos="50000">
                  <a:srgbClr val="296092"/>
                </a:gs>
                <a:gs pos="100000">
                  <a:srgbClr val="3984c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>
              <a:gd name="textAreaLeft" fmla="*/ 0 w 1467000"/>
              <a:gd name="textAreaRight" fmla="*/ 1467360 w 14670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b8c6a">
                  <a:alpha val="32156"/>
                </a:srgbClr>
              </a:gs>
              <a:gs pos="100000">
                <a:srgbClr val="6e81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>
              <a:gd name="textAreaLeft" fmla="*/ 0 w 1467000"/>
              <a:gd name="textAreaRight" fmla="*/ 1467360 w 146700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bfcdd1">
                  <a:alpha val="32156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8" name="Group 16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49" name="AutoShape 16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8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AutoShape 19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5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8:54:25Z</dcterms:created>
  <dc:creator>素材ppt模板,三联素材</dc:creator>
  <dc:description/>
  <cp:keywords/>
  <dc:language>en-US</dc:language>
  <cp:lastModifiedBy>Administrator</cp:lastModifiedBy>
  <cp:lastPrinted>1899-12-30T00:00:00Z</cp:lastPrinted>
  <dcterms:modified xsi:type="dcterms:W3CDTF">2016-07-25T09:45:47Z</dcterms:modified>
  <cp:revision>3</cp:revision>
  <dc:subject/>
  <dc:title>素材ppt模板,三联素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