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4ED-BD26-4569-AB16-46444D25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E7F-8009-4CFC-BD83-0C9EBC25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5B2-5721-4B42-AB0F-22117BC5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23C-D99E-45C7-98E0-3051EEA8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B4369-ECFD-4D36-8A51-003BD9D54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C9535-1924-4628-AA04-B8B81DE9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719AE-184B-44BC-BDF8-EEE58F0C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46556-6AC3-4B54-A6A2-D939180F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E9ED1-AC48-45D8-91A8-0BE94964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98C2D-BC59-4602-AB92-AAB1DE5B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42370-2ECB-4E3F-BFF4-64EAA367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A88-F83E-45D0-8518-CCEF5A20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94DCD-7429-4E68-838D-022EEF3D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3404A-45FD-4A25-BB12-A08B5DD0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39D3F-D69E-4067-9A4A-B87136D5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99147-27EC-4C31-BCFA-91CCE67F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A0F27-DB8A-419F-9D17-405181F484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5EF-A6C5-4E26-B2F0-45E704C9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4A1-5DDD-4202-BA3D-53F6837B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499-5393-4B4C-8DD8-45B7DB36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08FA-C9C6-4C0B-B1C8-3FA6CC51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F1D-1E6A-47B6-831E-5569B420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A55C-8626-4603-8C5B-7549A85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078B-97C2-4493-8365-58C3C9B5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E190-AD87-4D70-9C0C-940F70700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0E41-5F3E-4085-8119-172E90977258}" type="slidenum">
              <a: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871640"/>
            <a:ext cx="5829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26665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0" y="2625480"/>
            <a:ext cx="57373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rot="5400000">
            <a:off x="255240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 rot="5400000">
            <a:off x="2738160" y="2711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3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62120" y="1828800"/>
          <a:ext cx="7543800" cy="396252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02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12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7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90720" y="197496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94ca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5562720" y="349884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38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2369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12502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13219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64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67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70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73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76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79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86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404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54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416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66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38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39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42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45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51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56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57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60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68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73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74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77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80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86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91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92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95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98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504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84"/>
          <p:cNvSpPr/>
          <p:nvPr/>
        </p:nvSpPr>
        <p:spPr>
          <a:xfrm>
            <a:off x="7812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5"/>
          <p:cNvSpPr/>
          <p:nvPr/>
        </p:nvSpPr>
        <p:spPr>
          <a:xfrm>
            <a:off x="27716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475308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679968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0" name="AutoShape 88"/>
          <p:cNvCxnSpPr>
            <a:stCxn id="516" idx="3"/>
            <a:endCxn id="517" idx="1"/>
          </p:cNvCxnSpPr>
          <p:nvPr/>
        </p:nvCxnSpPr>
        <p:spPr>
          <a:xfrm>
            <a:off x="1520640" y="196812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1" name="AutoShape 89"/>
          <p:cNvCxnSpPr>
            <a:stCxn id="517" idx="3"/>
            <a:endCxn id="518" idx="1"/>
          </p:cNvCxnSpPr>
          <p:nvPr/>
        </p:nvCxnSpPr>
        <p:spPr>
          <a:xfrm>
            <a:off x="3511440" y="196812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2" name="AutoShape 90"/>
          <p:cNvCxnSpPr>
            <a:stCxn id="518" idx="3"/>
            <a:endCxn id="519" idx="1"/>
          </p:cNvCxnSpPr>
          <p:nvPr/>
        </p:nvCxnSpPr>
        <p:spPr>
          <a:xfrm>
            <a:off x="5492520" y="1968120"/>
            <a:ext cx="121356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2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06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16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0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143000" y="297144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81040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456840" y="1555920"/>
            <a:ext cx="7938360" cy="5225760"/>
            <a:chOff x="456840" y="1555920"/>
            <a:chExt cx="7938360" cy="5225760"/>
          </a:xfrm>
        </p:grpSpPr>
        <p:sp>
          <p:nvSpPr>
            <p:cNvPr id="151" name="Freeform 3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afd"/>
                </a:gs>
                <a:gs pos="100000">
                  <a:srgbClr val="94cae8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8"/>
            <p:cNvSpPr/>
            <p:nvPr/>
          </p:nvSpPr>
          <p:spPr>
            <a:xfrm rot="20056200">
              <a:off x="441936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9"/>
            <p:cNvSpPr/>
            <p:nvPr/>
          </p:nvSpPr>
          <p:spPr>
            <a:xfrm rot="20056200">
              <a:off x="7314840" y="2971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 rot="20056200">
              <a:off x="2819160" y="5943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557c96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 rot="20056200">
              <a:off x="5562360" y="5257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 rot="20056200">
              <a:off x="1904760" y="4266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4"/>
            <p:cNvSpPr/>
            <p:nvPr/>
          </p:nvSpPr>
          <p:spPr>
            <a:xfrm>
              <a:off x="3809880" y="1905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3f56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6781680" y="21337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1548000" y="3962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4139640" y="2362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2473200" y="219240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9" name="AutoShape 16"/>
            <p:cNvCxnSpPr/>
            <p:nvPr/>
          </p:nvCxnSpPr>
          <p:spPr>
            <a:xfrm flipH="1">
              <a:off x="456840" y="219204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0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73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Freeform 6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76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Text Box 7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81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87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94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95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Puzzle2"/>
              <p:cNvSpPr/>
              <p:nvPr/>
            </p:nvSpPr>
            <p:spPr>
              <a:xfrm>
                <a:off x="4008960" y="329436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Puzzle4"/>
              <p:cNvSpPr/>
              <p:nvPr/>
            </p:nvSpPr>
            <p:spPr>
              <a:xfrm>
                <a:off x="2937960" y="32680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bedff1">
                  <a:alpha val="12156"/>
                </a:srgbClr>
              </a:gs>
              <a:gs pos="50000">
                <a:srgbClr val="94cae8"/>
              </a:gs>
              <a:gs pos="100000">
                <a:srgbClr val="bedff1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1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2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3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07:40Z</dcterms:created>
  <dc:creator>YLMF</dc:creator>
  <dc:description/>
  <dc:language>en-US</dc:language>
  <cp:lastModifiedBy>Administrator</cp:lastModifiedBy>
  <dcterms:modified xsi:type="dcterms:W3CDTF">2016-07-25T03:33:51Z</dcterms:modified>
  <cp:revision>2</cp:revision>
  <dc:subject/>
  <dc:title>PowerPoint Template</dc:title>
</cp:coreProperties>
</file>