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30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76B-7C20-4B9C-B469-7F5A2018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CFC-35C1-4C9E-9FA8-BB43CE7E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753-39B4-467D-933C-3CFEB448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ED2-C091-4219-9D13-A9D5A47B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4AB-64FF-4DD8-886F-1C8D8481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FF7-84F3-4A72-BA49-FE18A431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643-149B-482D-9E2D-DB71F60D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B4C-C374-49B2-8577-01648D42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AF0-0EA0-48FA-806C-FE04549C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13F-D238-4092-9405-98319B68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00E-DDFB-4302-B873-11FA89F5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571-9087-46D6-9C74-FDBA00C9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C66C-A407-47A6-9BEA-304FEA9C8856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9720-30B7-49F4-A8EE-B2CC70B3468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wmf"/><Relationship Id="rId4" Type="http://schemas.openxmlformats.org/officeDocument/2006/relationships/image" Target="../media/image21.png"/><Relationship Id="rId5" Type="http://schemas.openxmlformats.org/officeDocument/2006/relationships/image" Target="../media/image4.wmf"/><Relationship Id="rId6" Type="http://schemas.openxmlformats.org/officeDocument/2006/relationships/image" Target="../media/image21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9198-864D-4579-859D-54289DD51D6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7D1-D80E-447E-A781-6834B9EF394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B166-FE35-4CCC-8B05-CD97EC3A158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9C6B-7028-47C9-8FDD-26304C6ADB5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8100000"/>
                </a:gra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8100000"/>
              </a:gradFill>
              <a:latin typeface="黑体"/>
              <a:ea typeface="黑体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prstGeom prst="pi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5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6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248A-90F7-4C7A-BB72-A1D68E1725E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2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prstGeom prst="pie">
            <a:avLst/>
          </a:pr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B414-D6F3-4472-9504-0B6B994721C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EA8D-1D91-4F7E-BFBB-82BCB278212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A575-9CA4-4D4C-8114-F9F84983EAB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prstGeom prst="pi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prstGeom prst="pie">
            <a:avLst/>
          </a:pr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prstGeom prst="pie">
            <a:avLst/>
          </a:pr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AA4F-A2F8-4083-9C11-9D82D99EECA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5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7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9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84B6-821C-434C-886D-B7B89C9BB55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87AD-9846-4D91-B95B-C2427A80180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794E-4AC0-45F2-A060-D4613B6BD1F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2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3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4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C8E-E250-4EB7-997E-A81A01B4FBD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5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7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A1E2-79BD-448F-BE17-5BF25D4E3CB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4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A50-4490-414F-BFA6-208A1A10E244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36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5050"/>
              </a:gs>
              <a:gs pos="100000">
                <a:srgbClr val="ff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2B84-2F83-4F5A-BFB7-01FE42F1734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prstGeom prst="pie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DE26-4173-449B-9246-FC5BEBB9B3D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2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6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8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9B6D-7206-4E8E-94BB-B258B62ACB5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5584-A5B3-4214-BB8D-3E1867C9953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152B-0DAE-4000-B161-3E5F565D4AC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44A-6920-4892-AE91-253E9EA3B5D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prstGeom prst="pie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prstGeom prst="pie">
                <a:avLst/>
              </a:pr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prstGeom prst="pie">
            <a:avLst/>
          </a:pr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DBE5-159A-4E0B-8393-7E18C3B7EA6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3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97A-3B76-413A-A3E7-40BAF61FFEB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78A-E8D9-4F57-AC8D-57CB7788415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6FF9-0B8C-4F3F-A25B-6B777400CFB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3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prstGeom prst="pie">
            <a:avLst/>
          </a:pr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5E8B-74D0-42FD-A338-085DF7E3272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2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3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4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5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6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7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TOM</cp:lastModifiedBy>
  <cp:lastPrinted>1899-12-30T00:00:00Z</cp:lastPrinted>
  <dcterms:modified xsi:type="dcterms:W3CDTF">2008-08-14T06:50:51Z</dcterms:modified>
  <cp:revision>2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