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11A-3BEC-43FA-92E4-D05C1822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190-C91A-4630-AC47-3285024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40E-265D-442B-9BF0-EE28C441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D92-5D29-4843-990B-80397633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DCA-F5C2-4D47-8D11-77FDA579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A73-39EC-4741-BAA7-F8D687C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C86-12CA-45A5-965B-BC35E1D3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CB7-4BB7-4E74-8380-0739B60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B5A-E15B-44E2-9A83-F00E0D52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5C7-8F3C-4708-91CF-49BEB14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AD5-C0EC-4333-B9EF-106D8CE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FF0-1B54-428C-819A-64AB1E7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158-34BA-4B41-B9D8-6F0E7B0772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D54B-D348-4086-B38A-C86F6C4C7C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eng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26:16Z</dcterms:modified>
  <cp:revision>49</cp:revision>
  <dc:subject>12sc.taobao.com</dc:subject>
  <dc:title>PowerPoint 演示文稿</dc:title>
</cp:coreProperties>
</file>