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8F4-07B0-4804-99C6-990C2F7E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2DE-EA7D-48EC-92C4-C9562309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EF8-A739-48E9-A9F5-93CDF28B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CCC-3CA4-4397-91F1-BA9A5150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229-EE4C-4344-9181-4B06F36F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9C4-EF5B-4CF2-B3EA-761F401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653-53CE-46B3-98FA-F9367BB4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CD3-C737-407A-B29A-F622FF1D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734-61FE-45EF-912B-56958A3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377-18B0-469A-A0D8-792AF5B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7C1-E69C-40A1-9EAC-1A037AA6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0EF-F1BA-4B8C-8E45-5DE14A2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EACF-8DAD-48AB-B095-CCBCD4447D13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8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1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4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7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3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7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0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3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89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2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5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8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7-25T06:30:33Z</dcterms:modified>
  <cp:revision>10</cp:revision>
  <dc:subject/>
  <dc:title>三联素材  www.3lian.com</dc:title>
</cp:coreProperties>
</file>