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9EF-78D9-4565-87EF-1362CDC0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CA7-23B4-43E9-B103-6EEED2F8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06D-236F-4F9E-8AB9-1AC03519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363-4131-403F-99B9-8751F5A0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14D-DC9C-41BE-943F-D606D443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351-F97B-420D-87E4-46050C7C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BAF-2564-497F-BBAD-B9BC869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A88-139F-4B96-AE27-B76853A6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1E2-5C4E-4BA0-B1B8-1D685AED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635-8865-40F6-9695-9CED6BB2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F1B-1B71-4BD6-942E-0C4C96D4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115-FACE-4E4B-AA4A-290A563F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141F-E813-4876-92F4-15BDA4B8AC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51320" y="121428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18800" y="3399120"/>
            <a:ext cx="911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226600" y="1071720"/>
            <a:ext cx="9104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4486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28880" y="5500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63550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28364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12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429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854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783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14720" y="4500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712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1497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340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85776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519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28608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569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569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569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377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2860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568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3057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8549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3854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854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14T06:03:35Z</dcterms:modified>
  <cp:revision>29</cp:revision>
  <dc:subject/>
  <dc:title>幻灯片 1</dc:title>
</cp:coreProperties>
</file>