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B71-BED0-4113-B06E-B335D49C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288-EF6F-4E7A-8CCD-ECCB9CA5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504-68D3-4755-9F09-9ACA1452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BDA-EC35-4D5B-8E62-8B7A299F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F22-F0D3-4028-A0F6-590F1979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4CBA-0BF8-4C1D-8ADC-ECDDED1A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D29-70CB-41AF-97F3-CBC2C709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B17-3958-4C08-A5E6-317FD535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781-2E41-444D-A108-E8EBC330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1FF-E978-4CD9-8D8B-9D5E8B77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618E-0658-4C71-8E68-6B30256F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35E-1349-451F-88A8-10F2EDE3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60B7-CF42-47B8-9DA8-7DAA346E4E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33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51926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国情人节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640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140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2357280" y="4473720"/>
            <a:ext cx="521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巧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月七日，一年一度的七夕就要来了，人们称这天为“乞巧节”或“少女节”、“女儿节”。七夕节是我国传统节日中最具有浪漫色彩的一个节日，也是过去姑娘最为重视的日子。中国的情人节，浪漫古典之最浓的节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618120" y="285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283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1200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200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2132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31000" y="335772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421380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85776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569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05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5569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2783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354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069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9486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5926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9976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926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85496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426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854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5911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569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7118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5783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7-24T03:19:58Z</dcterms:modified>
  <cp:revision>52</cp:revision>
  <dc:subject/>
  <dc:title>幻灯片 1</dc:title>
</cp:coreProperties>
</file>