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7AB8-8E28-4B2B-9BAD-2ED5990C5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60DA-FCE0-48C0-8E3A-1B46BBFB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57DB-040E-4875-B4EF-402D16733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2511-05BD-46D5-AA76-63A6057EE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01AB-4761-49AD-93EE-C74B066D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86A9-8D4A-4168-9E8C-44D34905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7388-EDC0-4324-91C5-84677C1F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D407-47A5-4F75-BEFE-D63D8C70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B267-1BE5-44DD-A468-4DE31AAE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50E6-9E83-43AD-B01E-815FFD68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4850-5C37-46A7-B2E7-9AD9218D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D090-8F27-4A7A-8A74-976BF8D5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FBB9-B7CA-4E47-8106-73347C765A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28960" y="507672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286080" y="583560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优雅茶道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1162800" y="78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1784880" y="3273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/>
          <p:cNvSpPr/>
          <p:nvPr/>
        </p:nvSpPr>
        <p:spPr>
          <a:xfrm>
            <a:off x="40690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64281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85880" y="7142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292608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53568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54979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29977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101988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3929040" y="2214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1407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116280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27835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39265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140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1162800" y="78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2286000" y="27147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25689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606960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5695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40690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399780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109116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3857760" y="20001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27118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60696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3549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1234080" y="78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57121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214056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1162800" y="78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64980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19260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40690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123408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52837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/>
          <p:cNvSpPr/>
          <p:nvPr/>
        </p:nvSpPr>
        <p:spPr>
          <a:xfrm>
            <a:off x="27118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49978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27835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4-02-27T07:31:36Z</dcterms:modified>
  <cp:revision>37</cp:revision>
  <dc:subject/>
  <dc:title>幻灯片 1</dc:title>
</cp:coreProperties>
</file>