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922-61CC-4416-A72C-25E67528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B9D2-FA49-4CEC-88B7-3BE5D80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260C-60F7-4F12-B949-0508390C5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B38-E6DE-423A-A18A-02E825E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5C5B-ECB0-4E53-8DFF-3EF9F7B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9D88-F5D9-4A6E-94EC-66AF6D5A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6486-1E45-45A0-AC07-DECE55BF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2380-1D29-4AEB-8B0E-1A77CE3D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8DF1-EEE4-4F7C-A7A7-658108BC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33E7-2904-4BB0-A6F1-892A3E97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55FC-39F3-42EA-882C-76F25F94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539-A93B-420B-8E14-B191C08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59D8-BDB6-45F2-81FC-CCEF1F0D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2FF-5D9A-4062-A583-04B6A58A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F354-D0CB-4878-8678-9315E317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7DEF-DD50-43D0-BAAD-6F66AAED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B340-6BA3-4E0E-8BCA-D03E8986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3C2-264C-4D06-A911-37004A88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E7BF-3A55-42BB-BEFF-D3F47144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112-A36E-447C-9B85-D11429E9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AA4-2AD4-4C2D-8AF5-ECC9DB7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380-A0B1-4778-9774-F887543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98F-D749-4A4A-A184-D05D2C4B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4C9-F3A5-4207-95B2-19475F08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7F3-705A-46FE-963C-A35D601F4AC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FBB1-8A01-4A9C-A609-B83E036AA1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未标题-1副本"/>
          <p:cNvPicPr/>
          <p:nvPr/>
        </p:nvPicPr>
        <p:blipFill>
          <a:blip r:embed="rId1"/>
          <a:srcRect l="33481" t="0" r="27786" b="0"/>
          <a:stretch/>
        </p:blipFill>
        <p:spPr>
          <a:xfrm>
            <a:off x="2705040" y="736560"/>
            <a:ext cx="2924280" cy="536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 rot="5400000">
            <a:off x="4830840" y="2703240"/>
            <a:ext cx="53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662880" y="612720"/>
            <a:ext cx="43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1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5555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f8465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78e8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8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5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6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2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3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9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40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6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7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3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5"/>
            <p:cNvCxnSpPr>
              <a:stCxn id="155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6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7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5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3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7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1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5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6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27" descr="无标题666.bmp"/>
          <p:cNvPicPr/>
          <p:nvPr/>
        </p:nvPicPr>
        <p:blipFill>
          <a:blip r:embed="rId1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200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3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27" descr="无标题666.bmp"/>
          <p:cNvPicPr/>
          <p:nvPr/>
        </p:nvPicPr>
        <p:blipFill>
          <a:blip r:embed="rId2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" descr="无标题666.bmp"/>
          <p:cNvPicPr/>
          <p:nvPr/>
        </p:nvPicPr>
        <p:blipFill>
          <a:blip r:embed="rId3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10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3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6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9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2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3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40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3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7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1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8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5364000" y="270828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842080" y="3422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6-08-06T01:14:53Z</dcterms:modified>
  <cp:revision>336</cp:revision>
  <dc:subject/>
  <dc:title>锐得PPT模板</dc:title>
</cp:coreProperties>
</file>