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CFF-3D98-4CA1-AF56-D82096DC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AB5-7D66-46EB-BD39-B0DC36E2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14E-08A9-41CC-92EA-6E914F09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E76-CA22-4E68-BD01-BF91F1A7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BC6A-1896-4937-8E2D-DD587E6E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2267-FE02-4F43-9579-1249D86C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59F2-EBCE-458E-820F-3FF07481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A295-B831-4A46-AC6B-94469CFF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EBAD-344B-4CF4-A1A9-1562A625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793C-D608-4B0D-B957-561993B4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B978-2F4B-4BED-B416-A989420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C14-C0F3-40D0-87B3-E202A563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7894-452A-49C1-9AF8-A13B974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C585-24A9-4A77-8FF0-4CA71C3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D603-B986-4A35-BADD-F1ECE83E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407A-DEF1-4246-BE47-0850F547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C835-49AA-487B-9602-B88F640F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119-C42C-4DB4-8F26-1F8AB3CC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7C9-7731-455E-BE9E-8B8069B5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06D-3AE7-441F-8099-7757CA14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325-FE29-4126-8346-901FD7D9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964-F589-4A8F-A8FA-8B972E5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4A1-28C7-4EBB-B49C-508DC700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98E-8D28-46C5-AD29-E2A46DF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1CDC-3B65-4772-BB89-BA6EEC661BD2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F5B2-12BF-4F5F-9E9F-8353C772A03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/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adc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a1df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afe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ba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2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3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4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2"/>
          <a:stretch/>
        </p:blipFill>
        <p:spPr>
          <a:xfrm>
            <a:off x="3773520" y="3828960"/>
            <a:ext cx="2309760" cy="227988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3"/>
          <a:stretch/>
        </p:blipFill>
        <p:spPr>
          <a:xfrm>
            <a:off x="2779560" y="2541600"/>
            <a:ext cx="1901880" cy="187812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4"/>
          <a:stretch/>
        </p:blipFill>
        <p:spPr>
          <a:xfrm>
            <a:off x="3968640" y="1468440"/>
            <a:ext cx="1650960" cy="163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7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番茄花园</cp:lastModifiedBy>
  <dcterms:modified xsi:type="dcterms:W3CDTF">2011-08-20T04:20:39Z</dcterms:modified>
  <cp:revision>129</cp:revision>
  <dc:subject/>
  <dc:title>锐得PPT模板</dc:title>
</cp:coreProperties>
</file>