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043-6D77-44FF-95EE-3233F38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550-7228-4C83-94DE-C698C2CC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6D3-BF6B-4A13-9DC8-C2170D1C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928-61BE-4F62-8C1D-4C5179C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8E6D-F6CF-4C6D-8B94-7191E534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4B43-BB05-4345-B647-BF454F84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90A0-C8CB-4268-A385-C9FA29DF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A8E2-F520-4E3F-A6F1-961906FE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1F4-DE3C-4265-8213-D299C851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2EF9-DBFC-4C02-9F3C-178FE6C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B205-5C6D-4A58-BB86-997D29B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948-6BE9-482F-AD8E-4B04D7E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73BF-E00A-49D0-8EC3-DE3A86E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9C4F-EFCC-4339-A787-F2E50B5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2074-8746-4A03-AC42-9D3B8062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8D0F-A843-44A5-B405-789A1370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DF95-FEEF-49DE-9E73-EB4B2B04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708-61B8-4F16-B2F5-1EAE21EA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831-645D-4F24-A221-63F23A0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9C3-8358-4EA7-8878-40F9331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DE3-0E67-4D70-8385-0397EF5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0F6-CC73-4BE9-B076-B9DF550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6DE-E68E-4FE5-B3C5-057478B8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677-FCF7-4C79-A033-F4F40381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939-6BD3-4D22-BF67-80E679CCBC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20680" y="46530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3B8F-E635-44B9-ACB1-D2538FDB1A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7080" y="437184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400" y="464328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微软雅黑"/>
              </a:rPr>
              <a:t>北京锐得幻演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3">
            <a:hlinkClick r:id="rId1"/>
          </p:cNvPr>
          <p:cNvSpPr/>
          <p:nvPr/>
        </p:nvSpPr>
        <p:spPr>
          <a:xfrm>
            <a:off x="674892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52880" y="1228680"/>
            <a:ext cx="2595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0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545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e8364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58d8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7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8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4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5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1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2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8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9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5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6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2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3" name="AutoShape 5"/>
            <p:cNvCxnSpPr>
              <a:stCxn id="154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5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6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4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2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6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0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4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5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图片 27" descr="无标题666.bmp"/>
          <p:cNvPicPr/>
          <p:nvPr/>
        </p:nvPicPr>
        <p:blipFill>
          <a:blip r:embed="rId2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9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2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图片 27" descr="无标题666.bmp"/>
          <p:cNvPicPr/>
          <p:nvPr/>
        </p:nvPicPr>
        <p:blipFill>
          <a:blip r:embed="rId3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7" descr="无标题666.bmp"/>
          <p:cNvPicPr/>
          <p:nvPr/>
        </p:nvPicPr>
        <p:blipFill>
          <a:blip r:embed="rId4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9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2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5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8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1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2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6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7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2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6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0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7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901800" y="457848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379520" y="52927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番茄花园</cp:lastModifiedBy>
  <dcterms:modified xsi:type="dcterms:W3CDTF">2011-08-20T03:34:44Z</dcterms:modified>
  <cp:revision>336</cp:revision>
  <dc:subject/>
  <dc:title>锐得PPT模板</dc:title>
</cp:coreProperties>
</file>