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F8A-BEBC-4C98-9DF1-FB87D46A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F79-D56E-4D4C-A74B-D5823D4D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687-BB87-4127-936A-ACD27A17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AFD-4EC9-4BCD-AE49-6A93564B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EB5B-6BFC-4A63-BE73-FA21A5B9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5C5F-7BA1-4B2C-BBC3-8959F76D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702B-BA7C-4C6A-8763-7A3B0B94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8F89-26A2-42FB-94EE-7312F7B1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D24E-8B7C-4D68-9D86-A7BD7D73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CC5E-A9CD-4AFA-A4D3-36178BB9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0392-DDE3-4860-B46F-680DFAF5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1D4-BC28-4FE5-858C-2C2BB8AE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2383-EC3E-4DB2-B3CF-956A6934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F74B-62BF-478F-8CB6-338DEB6E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4352-340F-4CCC-A242-AAA72BC2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1311-B1A5-4716-9451-D2ECF8CB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8EE6-E607-4D3E-B1C0-D31A041E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AEC-25B9-414A-B095-63B5DD8E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AA2-6971-463D-8C8B-8E5A2CAF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49BF-0BA2-4E53-BE0B-6BF51DE6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6D6-4049-46CA-8336-C2D1BD67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D44-8CE5-49CD-BD64-BEB5A23B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E24-018B-40F6-BCDC-23057AED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826-830C-4BC9-9F86-3AF9F95E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6776-90D3-46D7-8FE8-C047314D5B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20680" y="46530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DBD3-3C81-4620-962F-D5D14FD80B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/2.5/cn/legalcode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7080" y="4371840"/>
            <a:ext cx="437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59400" y="4643280"/>
            <a:ext cx="219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微软雅黑"/>
              </a:rPr>
              <a:t>北京锐得幻演广告有限公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3">
            <a:hlinkClick r:id="rId1"/>
          </p:cNvPr>
          <p:cNvSpPr/>
          <p:nvPr/>
        </p:nvSpPr>
        <p:spPr>
          <a:xfrm>
            <a:off x="6748920" y="44359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本页可作为理念展示及书写地址联系方式等。</a:t>
            </a:r>
            <a:r>
              <a:rPr b="0" i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17840" y="28828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锐得精品 　幻演天下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rcRect l="8632" t="15681" r="15170" b="16457"/>
          <a:stretch/>
        </p:blipFill>
        <p:spPr>
          <a:xfrm>
            <a:off x="3152880" y="1228680"/>
            <a:ext cx="25956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10" name="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e5454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fe8364"/>
                </a:gs>
                <a:gs pos="100000">
                  <a:srgbClr val="ff33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c58d8d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7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8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4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5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cc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1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2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4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8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39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80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5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6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ff9933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51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2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3" name="AutoShape 5"/>
            <p:cNvCxnSpPr>
              <a:stCxn id="154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5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56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4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2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6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80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4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5" name="AutoShape 17"/>
            <p:cNvSpPr/>
            <p:nvPr/>
          </p:nvSpPr>
          <p:spPr>
            <a:xfrm>
              <a:off x="1495440" y="2425680"/>
              <a:ext cx="1258920" cy="107964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图片 27" descr="无标题666.bmp"/>
          <p:cNvPicPr/>
          <p:nvPr/>
        </p:nvPicPr>
        <p:blipFill>
          <a:blip r:embed="rId2"/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199" name="AutoShape 3"/>
            <p:cNvSpPr/>
            <p:nvPr/>
          </p:nvSpPr>
          <p:spPr>
            <a:xfrm>
              <a:off x="6348240" y="2425680"/>
              <a:ext cx="1258920" cy="107964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2" name="AutoShape 10"/>
            <p:cNvSpPr/>
            <p:nvPr/>
          </p:nvSpPr>
          <p:spPr>
            <a:xfrm>
              <a:off x="3890880" y="2425680"/>
              <a:ext cx="1260720" cy="10796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图片 27" descr="无标题666.bmp"/>
          <p:cNvPicPr/>
          <p:nvPr/>
        </p:nvPicPr>
        <p:blipFill>
          <a:blip r:embed="rId3"/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27" descr="无标题666.bmp"/>
          <p:cNvPicPr/>
          <p:nvPr/>
        </p:nvPicPr>
        <p:blipFill>
          <a:blip r:embed="rId4"/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dcdcd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09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5"/>
            <p:cNvSpPr/>
            <p:nvPr/>
          </p:nvSpPr>
          <p:spPr>
            <a:xfrm>
              <a:off x="1504080" y="263268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2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5"/>
            <p:cNvSpPr/>
            <p:nvPr/>
          </p:nvSpPr>
          <p:spPr>
            <a:xfrm>
              <a:off x="5066640" y="2632680"/>
              <a:ext cx="243648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5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150408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8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5"/>
            <p:cNvSpPr/>
            <p:nvPr/>
          </p:nvSpPr>
          <p:spPr>
            <a:xfrm>
              <a:off x="507600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1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2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6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7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 3" descr=""/>
          <p:cNvPicPr/>
          <p:nvPr/>
        </p:nvPicPr>
        <p:blipFill>
          <a:blip r:embed="rId2"/>
          <a:stretch/>
        </p:blipFill>
        <p:spPr>
          <a:xfrm>
            <a:off x="3773520" y="3828960"/>
            <a:ext cx="2309760" cy="2279880"/>
          </a:xfrm>
          <a:prstGeom prst="rect">
            <a:avLst/>
          </a:prstGeom>
          <a:ln w="0">
            <a:noFill/>
          </a:ln>
        </p:spPr>
      </p:pic>
      <p:pic>
        <p:nvPicPr>
          <p:cNvPr id="238" name=" 3" descr=""/>
          <p:cNvPicPr/>
          <p:nvPr/>
        </p:nvPicPr>
        <p:blipFill>
          <a:blip r:embed="rId3"/>
          <a:stretch/>
        </p:blipFill>
        <p:spPr>
          <a:xfrm>
            <a:off x="2779560" y="2541600"/>
            <a:ext cx="1901880" cy="1878120"/>
          </a:xfrm>
          <a:prstGeom prst="rect">
            <a:avLst/>
          </a:prstGeom>
          <a:ln w="0">
            <a:noFill/>
          </a:ln>
        </p:spPr>
      </p:pic>
      <p:pic>
        <p:nvPicPr>
          <p:cNvPr id="239" name=" 3" descr=""/>
          <p:cNvPicPr/>
          <p:nvPr/>
        </p:nvPicPr>
        <p:blipFill>
          <a:blip r:embed="rId4"/>
          <a:stretch/>
        </p:blipFill>
        <p:spPr>
          <a:xfrm>
            <a:off x="3968640" y="1468440"/>
            <a:ext cx="1650960" cy="16351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2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cc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3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6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50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Picture 37" descr="cir_lighteffect0"/>
            <p:cNvPicPr/>
            <p:nvPr/>
          </p:nvPicPr>
          <p:blipFill>
            <a:blip r:embed="rId7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AutoShape 3"/>
          <p:cNvSpPr/>
          <p:nvPr/>
        </p:nvSpPr>
        <p:spPr>
          <a:xfrm rot="18033600">
            <a:off x="1642680" y="1936440"/>
            <a:ext cx="5692680" cy="5629320"/>
          </a:xfrm>
          <a:prstGeom prst="pie">
            <a:avLst/>
          </a:pr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1663560" y="1916280"/>
            <a:ext cx="5631120" cy="5692680"/>
          </a:xfrm>
          <a:prstGeom prst="pie">
            <a:avLst/>
          </a:pr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 rot="3543600">
            <a:off x="1652760" y="1958400"/>
            <a:ext cx="5693040" cy="5630760"/>
          </a:xfrm>
          <a:prstGeom prst="pie">
            <a:avLst/>
          </a:pr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3441600" y="3675240"/>
            <a:ext cx="2075040" cy="2001600"/>
          </a:xfrm>
          <a:prstGeom prst="pie">
            <a:avLst/>
          </a:pr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9"/>
          <p:cNvSpPr/>
          <p:nvPr/>
        </p:nvSpPr>
        <p:spPr>
          <a:xfrm rot="18061200">
            <a:off x="3364560" y="3724920"/>
            <a:ext cx="2098800" cy="1979640"/>
          </a:xfrm>
          <a:prstGeom prst="pie">
            <a:avLst/>
          </a:pr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0"/>
          <p:cNvSpPr/>
          <p:nvPr/>
        </p:nvSpPr>
        <p:spPr>
          <a:xfrm rot="3532200">
            <a:off x="3516840" y="3744000"/>
            <a:ext cx="2095560" cy="1979640"/>
          </a:xfrm>
          <a:prstGeom prst="pie">
            <a:avLst/>
          </a:pr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7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901800" y="457848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1379520" y="52927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幻演广告有限公司</dc:creator>
  <dc:description/>
  <dc:language>en-US</dc:language>
  <cp:lastModifiedBy>番茄花园</cp:lastModifiedBy>
  <dcterms:modified xsi:type="dcterms:W3CDTF">2011-08-20T03:34:44Z</dcterms:modified>
  <cp:revision>336</cp:revision>
  <dc:subject/>
  <dc:title>锐得PPT模板</dc:title>
</cp:coreProperties>
</file>