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9AACD-7D87-4D7A-A181-B8FD4400B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1BA4-5055-4D89-AC65-E04C9BF7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FBB5-DACF-4E23-AB3A-A9F90B860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460AE-3073-47F7-8934-F5AB171D5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B0EC5-8360-4794-B97C-EABE01B79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4DDAD-ED00-4232-AA8E-BBA979E47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1B6D9-65A5-4D57-B1BE-B2660A4B5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77F29-4486-4C6D-A9A3-F7EE23786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961B1-D5C5-4834-B6ED-FDC4F8F12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35EA5-A05F-404B-BCCE-D6B2D38B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DCB88-8E99-4DD6-BBF1-D4FB927AE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2116B-F4E6-4747-A0AF-86F7EB5A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E16B2-1CB4-46A3-8073-63E165221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B71E5-B0DF-45AC-8D56-CB827251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5349-5704-46C7-A84A-0E2588F36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F3967-17A5-45A3-BA5C-547975310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3E751-F308-43D1-8E7A-37FA557E1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15354-0B69-456C-910E-9AE2D3E28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F9C7A-6C77-48AD-B13F-15EBE4EA9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DBB97-7484-4D74-80BF-60919F591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05B11-35D3-4669-BDDA-A0C91CDE4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90EDA-0285-4293-9809-8589D3961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0BB7E-E0B9-461C-B2D6-A5D26219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2B6A5-EACF-4C60-8A7D-4B2616F8E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CCD7B-EB30-4F15-961D-F3AC6ABAA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D6F87-57F6-4379-B30B-A225E9A94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B5D72-6B0C-4001-9A42-5A9E24B6D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2CFD2-D6DD-4BC1-A037-4E8B9F004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6DA65-0961-451F-AD39-B593C0F36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F4ACB7-CA08-40A4-A65C-7283E34895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E09C2-58FD-4E90-8ACC-08806F6FB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CBEAB-08F4-4C58-825C-C22917281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C47A1-B106-4A26-BA74-45D33551B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5823-09E1-489D-A4A2-6EDA2200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692B6-9A6D-4E58-BA8E-CFC89946E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0035B-0C04-4B71-84FA-21C52EAA3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400AF-9FEE-4080-B1C8-78C0C2485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DD917-08E9-4C64-938B-624D0FB6F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10C96-B271-4DEB-B7ED-699D4C6CB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FC1BA-D2D1-4FC1-A03E-9116F037D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569B2-454F-4ADD-8287-DCB7899E8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51CC1-BE21-4DE7-BEDC-27BDA2135A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1F328-02AB-42FE-98B4-0D6F7C4DE9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FA70E7-037F-4C43-8079-337B6E881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79D6-2EFE-4E2E-A71D-5161592E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131AC-F3DF-4CDF-88E7-8E2FA3730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8CFFF-B72B-49D6-A788-271305037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8A91C-FA34-4342-8F23-13FC5F1C6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FEEEB-667D-48A0-B89F-E2B7B0DC0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A19FF-C518-40CE-99AD-0C4A7C7AA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FECB4-FDD8-46FA-957A-9F2C0BBFC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ED747-E17F-4997-922C-37C4346AB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B0AFB-02E2-4842-A904-5F65E2E33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E7120-D8FC-426E-92F2-D2E8C758D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589CDC-EF05-417E-BE28-878A5745A5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4571-D10E-4D75-B4CF-8A2D3B9E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8035B5-4F4B-4D54-BBF4-0BB9EECF3B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4E2B3-9CCC-4C83-BF45-D1855968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0D4B-55C9-44A1-920D-AF50F24C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9972-FC4F-4323-9921-8313D5D49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1FAC-7CD0-4E16-A341-CB94901B1C7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E2B5-EF5B-4472-8B4B-96BA4F5EC0A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8B85-3EA0-4ECE-A2B9-67290CDA7CF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AFED-5836-4651-A5AE-E5C48561E1A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B438-72ED-4207-8C2D-A40460E96E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玩转大学玩转大学玩转大学玩转大学玩转大学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玩转大学</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玩转大学玩转大学玩转大学玩转大学玩转大学玩转大学玩转大学玩转大学玩转大学玩转大学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玩转大学</a:t>
            </a:r>
            <a:r>
              <a:rPr b="0" lang="zh-CN" sz="1000" spc="-1" strike="noStrike">
                <a:solidFill>
                  <a:srgbClr val="777777"/>
                </a:solidFill>
                <a:latin typeface="Calibri"/>
                <a:ea typeface="微软雅黑"/>
              </a:rPr>
              <a:t>玩转大学玩转大学玩转大学玩转大学玩转大学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玩转大学</a:t>
            </a:r>
            <a:r>
              <a:rPr b="0" lang="zh-CN" sz="1200" spc="-1" strike="noStrike">
                <a:solidFill>
                  <a:srgbClr val="777777"/>
                </a:solidFill>
                <a:latin typeface="Calibri"/>
                <a:ea typeface="微软雅黑"/>
              </a:rPr>
              <a:t>玩转大学玩转大学玩转大学玩转大学玩转大学玩转大学玩转大学玩转大学</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BST-WLZ</cp:lastModifiedBy>
  <dcterms:modified xsi:type="dcterms:W3CDTF">2015-05-14T06:56: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