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2C1-AE0A-45E8-BD7B-5EC25E23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088-BB67-4D4C-86C9-DD841C2C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D7E-892E-47D6-B907-245BBDDF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277-1151-446C-B48C-BAAC83F7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A39-85DC-4890-8E0A-30A160FE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7CC-F939-4169-87A4-7F8DAFCC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E01-C7D9-4D25-A161-26CD25FB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9A4-63F0-4CE8-B96F-6957779A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ADE-459A-409E-A324-AAD6EB1C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812-FBC3-4B93-B680-00723FE5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388-F5DB-4CE1-8EF2-97893F97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53F-A24D-4460-8855-2998BDDD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C817-BAA5-4018-9DFD-0CF16AF5211C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8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FRESH </a:t>
            </a:r>
            <a:r>
              <a:rPr b="1" lang="es-HN" sz="4900" spc="-1" strike="noStrike">
                <a:solidFill>
                  <a:srgbClr val="5ad00a"/>
                </a:solidFill>
                <a:latin typeface="造字工房悦黑体验版常规体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造字工房悦黑体验版常规体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造字工房悦黑体验版常规体"/>
              </a:rPr>
              <a:t>BEST </a:t>
            </a:r>
            <a:r>
              <a:rPr b="1" lang="es-HN" sz="3700" spc="-1" strike="noStrike">
                <a:solidFill>
                  <a:srgbClr val="5ad00a"/>
                </a:solidFill>
                <a:latin typeface="造字工房悦黑体验版常规体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8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49" name="8 Rectángulo" descr=""/>
              <p:cNvPicPr/>
              <p:nvPr/>
            </p:nvPicPr>
            <p:blipFill>
              <a:blip r:embed="rId3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Imagen 2" descr="C:\Users\Design\Documents\Edu\Product Launch\LCD.png"/>
            <p:cNvPicPr/>
            <p:nvPr/>
          </p:nvPicPr>
          <p:blipFill>
            <a:blip r:embed="rId4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造字工房悦黑体验版常规体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Imagen 3" descr="C:\Users\Design\Documents\Edu\Product Launch\magic_wand.png"/>
            <p:cNvPicPr/>
            <p:nvPr/>
          </p:nvPicPr>
          <p:blipFill>
            <a:blip r:embed="rId5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1 Imagen" descr=""/>
          <p:cNvPicPr/>
          <p:nvPr/>
        </p:nvPicPr>
        <p:blipFill>
          <a:blip r:embed="rId6"/>
          <a:stretch/>
        </p:blipFill>
        <p:spPr>
          <a:xfrm>
            <a:off x="179280" y="5665680"/>
            <a:ext cx="208908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造字工房悦黑体验版常规体"/>
              </a:rPr>
              <a:t>ABOUT </a:t>
            </a:r>
            <a:r>
              <a:rPr b="1" lang="es-HN" sz="4400" spc="-1" strike="noStrike">
                <a:solidFill>
                  <a:srgbClr val="5ad00a"/>
                </a:solidFill>
                <a:latin typeface="造字工房悦黑体验版常规体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 CuadroTexto" descr=""/>
          <p:cNvPicPr/>
          <p:nvPr/>
        </p:nvPicPr>
        <p:blipFill>
          <a:blip r:embed="rId3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3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造字工房悦黑体验版常规体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9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6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7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2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75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76" name="24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79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YOUR </a:t>
            </a:r>
            <a:r>
              <a:rPr b="1" lang="es-HN" sz="3600" spc="-1" strike="noStrike">
                <a:solidFill>
                  <a:srgbClr val="0eb1e7"/>
                </a:solidFill>
                <a:latin typeface="造字工房悦黑体验版常规体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90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97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9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6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8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0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07" name="47 Imagen" descr=""/>
          <p:cNvPicPr/>
          <p:nvPr/>
        </p:nvPicPr>
        <p:blipFill>
          <a:blip r:embed="rId9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BEST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2" descr="C:\Users\Design\Documents\Edu\Product Launch\bgservices.png"/>
          <p:cNvPicPr/>
          <p:nvPr/>
        </p:nvPicPr>
        <p:blipFill>
          <a:blip r:embed="rId2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4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5" name="Imagen 2" descr="C:\Users\Design\Documents\Edu\Product Launch\bgservices.png"/>
          <p:cNvPicPr/>
          <p:nvPr/>
        </p:nvPicPr>
        <p:blipFill>
          <a:blip r:embed="rId5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3" descr="C:\Users\Design\Documents\Edu\Product Launch\icons\database_check.png"/>
          <p:cNvPicPr/>
          <p:nvPr/>
        </p:nvPicPr>
        <p:blipFill>
          <a:blip r:embed="rId6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4" descr="C:\Users\Design\Documents\Edu\Product Launch\shadown 2.png"/>
          <p:cNvPicPr/>
          <p:nvPr/>
        </p:nvPicPr>
        <p:blipFill>
          <a:blip r:embed="rId7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18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4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n 4" descr="C:\Users\Design\Documents\Edu\Product Launch\shadown 2.png"/>
          <p:cNvPicPr/>
          <p:nvPr/>
        </p:nvPicPr>
        <p:blipFill>
          <a:blip r:embed="rId10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7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agen 5" descr="C:\Users\Design\Documents\Edu\Product Launch\icons\presentation.png"/>
          <p:cNvPicPr/>
          <p:nvPr/>
        </p:nvPicPr>
        <p:blipFill>
          <a:blip r:embed="rId11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6" descr="C:\Users\Design\Documents\Edu\Product Launch\icons\color_wheel.png"/>
          <p:cNvPicPr/>
          <p:nvPr/>
        </p:nvPicPr>
        <p:blipFill>
          <a:blip r:embed="rId12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Imagen 8" descr="C:\Users\Design\Documents\Edu\Product Launch\icons\web.png"/>
          <p:cNvPicPr/>
          <p:nvPr/>
        </p:nvPicPr>
        <p:blipFill>
          <a:blip r:embed="rId13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5" descr="C:\Users\Design\Documents\Edu\Product Launch\shadown.png"/>
          <p:cNvPicPr/>
          <p:nvPr/>
        </p:nvPicPr>
        <p:blipFill>
          <a:blip r:embed="rId1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33" name="27 Imagen" descr=""/>
          <p:cNvPicPr/>
          <p:nvPr/>
        </p:nvPicPr>
        <p:blipFill>
          <a:blip r:embed="rId1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34" name="28 Imagen" descr=""/>
          <p:cNvPicPr/>
          <p:nvPr/>
        </p:nvPicPr>
        <p:blipFill>
          <a:blip r:embed="rId1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35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3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44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n 5" descr="C:\Users\Design\Documents\Edu\Product Launch\shadown.png"/>
          <p:cNvPicPr/>
          <p:nvPr/>
        </p:nvPicPr>
        <p:blipFill>
          <a:blip r:embed="rId1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39" name="Imagen 5" descr="C:\Users\Design\Documents\Edu\Product Launch\shadown.png"/>
          <p:cNvPicPr/>
          <p:nvPr/>
        </p:nvPicPr>
        <p:blipFill>
          <a:blip r:embed="rId18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4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27" descr="">
            <a:hlinkClick r:id="" action="ppaction://hlinkshowjump?jump=nextslide"/>
          </p:cNvPr>
          <p:cNvPicPr/>
          <p:nvPr/>
        </p:nvPicPr>
        <p:blipFill>
          <a:blip r:embed="rId19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28" descr="">
            <a:hlinkClick r:id="" action="ppaction://hlinkshowjump?jump=previousslide"/>
          </p:cNvPr>
          <p:cNvPicPr/>
          <p:nvPr/>
        </p:nvPicPr>
        <p:blipFill>
          <a:blip r:embed="rId20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44" name="51 Imagen" descr=""/>
          <p:cNvPicPr/>
          <p:nvPr/>
        </p:nvPicPr>
        <p:blipFill>
          <a:blip r:embed="rId21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49 Objeto" descr=""/>
          <p:cNvPicPr/>
          <p:nvPr/>
        </p:nvPicPr>
        <p:blipFill>
          <a:blip r:embed="rId2"/>
          <a:stretch/>
        </p:blipFill>
        <p:spPr>
          <a:xfrm>
            <a:off x="-209520" y="1795320"/>
            <a:ext cx="6777000" cy="4121280"/>
          </a:xfrm>
          <a:prstGeom prst="rect">
            <a:avLst/>
          </a:prstGeom>
          <a:ln w="0">
            <a:noFill/>
          </a:ln>
        </p:spPr>
      </p:pic>
      <p:sp>
        <p:nvSpPr>
          <p:cNvPr id="149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58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9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60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2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33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69" name="40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77760" y="1560600"/>
            <a:ext cx="61498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83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84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85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4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5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9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9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93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94" name="42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sp>
        <p:nvSpPr>
          <p:cNvPr id="19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CONTACT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02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06" name="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造字工房悦黑体验版常规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09" name="49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造字工房悦黑体验版常规体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造字工房悦黑体验版常规体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造字工房悦黑体验版常规体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造字工房悦黑体验版常规体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造字工房悦黑体验版常规体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4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15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16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5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6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21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n 27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28" descr="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225" name="46 Imagen" descr=""/>
          <p:cNvPicPr/>
          <p:nvPr/>
        </p:nvPicPr>
        <p:blipFill>
          <a:blip r:embed="rId12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THANK </a:t>
            </a:r>
            <a:r>
              <a:rPr b="1" lang="es-HN" sz="4900" spc="-1" strike="noStrike">
                <a:solidFill>
                  <a:srgbClr val="5ad00a"/>
                </a:solidFill>
                <a:latin typeface="造字工房悦黑体验版常规体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4 Imagen" descr=""/>
          <p:cNvPicPr/>
          <p:nvPr/>
        </p:nvPicPr>
        <p:blipFill>
          <a:blip r:embed="rId2"/>
          <a:stretch/>
        </p:blipFill>
        <p:spPr>
          <a:xfrm>
            <a:off x="324000" y="5580000"/>
            <a:ext cx="2160360" cy="8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3:13Z</dcterms:modified>
  <cp:revision>3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