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FE75-FF24-458A-8F8F-D0AAD6943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23D5-E731-44DD-8E91-C7883725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E1A4-0B0C-437C-B368-BC4EB43E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A67A-EFA4-42D9-8660-E1878D4AB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76E1-6962-4AA5-B3AF-4394E6582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D710-7C9F-44CB-9A18-938A4648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D918-D4F0-49C4-9500-5DE3A3B6C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A76C-B1F7-4C36-BF8A-C5F3399E1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3881-4AA8-4832-9FDD-22EF30D3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2A3-8945-4795-89DF-C6B29DEE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347-11F2-442C-89BE-0A8CE263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A220-D15C-4D9C-A911-7686F1AF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000D-F82B-48D2-969C-91319801D59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6830E-9D16-4B2C-B7B9-60DBD63A37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3840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7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7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弧形 47"/>
          <p:cNvSpPr/>
          <p:nvPr/>
        </p:nvSpPr>
        <p:spPr>
          <a:xfrm rot="2682000">
            <a:off x="3525840" y="3459240"/>
            <a:ext cx="1289160" cy="12888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弧形 52"/>
          <p:cNvSpPr/>
          <p:nvPr/>
        </p:nvSpPr>
        <p:spPr>
          <a:xfrm rot="2682000">
            <a:off x="3273120" y="3223800"/>
            <a:ext cx="1787400" cy="17859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弧形 53"/>
          <p:cNvSpPr/>
          <p:nvPr/>
        </p:nvSpPr>
        <p:spPr>
          <a:xfrm rot="2682000">
            <a:off x="3017520" y="2960640"/>
            <a:ext cx="2300400" cy="230040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弧形 54"/>
          <p:cNvSpPr/>
          <p:nvPr/>
        </p:nvSpPr>
        <p:spPr>
          <a:xfrm rot="2682000">
            <a:off x="2771280" y="2695320"/>
            <a:ext cx="2806920" cy="2806560"/>
          </a:xfrm>
          <a:prstGeom prst="pie">
            <a:avLst/>
          </a:prstGeom>
          <a:noFill/>
          <a:ln w="76320">
            <a:solidFill>
              <a:srgbClr val="d210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1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4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11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9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dur="indefinite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dur="indefinite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5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5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5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0" repeatCount="300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xit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0" repeatCount="300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xit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0" repeatCount="300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xit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0" repeatCount="300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xit" presetID="10" repeatCount="3000">
                                  <p:stCondLst>
                                    <p:cond delay="2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dur="indefinite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"/>
                            </p:stCondLst>
                            <p:childTnLst>
                              <p:par>
                                <p:cTn id="551" dur="indefinite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52" dur="12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567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0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9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7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1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5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1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7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空心弧 3"/>
          <p:cNvSpPr/>
          <p:nvPr/>
        </p:nvSpPr>
        <p:spPr>
          <a:xfrm rot="5400000">
            <a:off x="940680" y="1736640"/>
            <a:ext cx="109872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空心弧 6"/>
          <p:cNvSpPr/>
          <p:nvPr/>
        </p:nvSpPr>
        <p:spPr>
          <a:xfrm rot="5400000">
            <a:off x="2158920" y="3219120"/>
            <a:ext cx="1098360" cy="109872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空心弧 8"/>
          <p:cNvSpPr/>
          <p:nvPr/>
        </p:nvSpPr>
        <p:spPr>
          <a:xfrm rot="5400000">
            <a:off x="3384360" y="4718160"/>
            <a:ext cx="1098360" cy="1098360"/>
          </a:xfrm>
          <a:prstGeom prst="blockArc">
            <a:avLst>
              <a:gd name="adj1" fmla="val 10800000"/>
              <a:gd name="adj2" fmla="val 0"/>
              <a:gd name="adj3" fmla="val 2821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6"/>
          <p:cNvSpPr/>
          <p:nvPr/>
        </p:nvSpPr>
        <p:spPr>
          <a:xfrm>
            <a:off x="4800600" y="619200"/>
            <a:ext cx="466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8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dur="indefinite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7" dur="indefinite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3" dur="indefinite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39" dur="indefinite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dur="indefinite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9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7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1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5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9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3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7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9440 w 109440"/>
              <a:gd name="textAreaRight" fmla="*/ 90000 w 109440"/>
              <a:gd name="textAreaTop" fmla="*/ 104400 h 590400"/>
              <a:gd name="textAreaBottom" fmla="*/ 48600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9080 w 107640"/>
              <a:gd name="textAreaRight" fmla="*/ 88560 w 107640"/>
              <a:gd name="textAreaTop" fmla="*/ 104760 h 592200"/>
              <a:gd name="textAreaBottom" fmla="*/ 48744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9080 w 108000"/>
              <a:gd name="textAreaRight" fmla="*/ 88920 w 108000"/>
              <a:gd name="textAreaTop" fmla="*/ 88920 h 503280"/>
              <a:gd name="textAreaBottom" fmla="*/ 4143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9440 w 109440"/>
              <a:gd name="textAreaRight" fmla="*/ 90000 w 109440"/>
              <a:gd name="textAreaTop" fmla="*/ 89280 h 504720"/>
              <a:gd name="textAreaBottom" fmla="*/ 4154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862" y="21600"/>
                </a:lnTo>
                <a:lnTo>
                  <a:pt x="3738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8680 w 354240"/>
              <a:gd name="textAreaRight" fmla="*/ 295560 w 354240"/>
              <a:gd name="textAreaTop" fmla="*/ 35640 h 216000"/>
              <a:gd name="textAreaBottom" fmla="*/ 180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301" y="21600"/>
                </a:lnTo>
                <a:lnTo>
                  <a:pt x="3299" y="216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弧形 14"/>
          <p:cNvSpPr/>
          <p:nvPr/>
        </p:nvSpPr>
        <p:spPr>
          <a:xfrm>
            <a:off x="596880" y="1301760"/>
            <a:ext cx="194328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弧形 15"/>
          <p:cNvSpPr/>
          <p:nvPr/>
        </p:nvSpPr>
        <p:spPr>
          <a:xfrm>
            <a:off x="341316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 rot="16200000">
            <a:off x="6230880" y="1086840"/>
            <a:ext cx="2989080" cy="2392560"/>
          </a:xfrm>
          <a:prstGeom prst="rect">
            <a:avLst/>
          </a:prstGeom>
          <a:ln w="0">
            <a:noFill/>
          </a:ln>
        </p:spPr>
      </p:pic>
      <p:sp>
        <p:nvSpPr>
          <p:cNvPr id="204" name="弧形 17"/>
          <p:cNvSpPr/>
          <p:nvPr/>
        </p:nvSpPr>
        <p:spPr>
          <a:xfrm>
            <a:off x="6321600" y="1301760"/>
            <a:ext cx="19429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弧形 18"/>
          <p:cNvSpPr/>
          <p:nvPr/>
        </p:nvSpPr>
        <p:spPr>
          <a:xfrm>
            <a:off x="9183600" y="1301760"/>
            <a:ext cx="1944720" cy="194292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 rot="16200000">
            <a:off x="6327720" y="1158480"/>
            <a:ext cx="2809800" cy="22478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7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7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4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4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1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6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2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dur="indefinite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dur="indefinite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dur="indefinite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dur="indefinite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dur="indefinite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1" dur="indefinite" nodeType="withEffect" fill="hold" presetClass="entr" presetID="47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dur="indefinite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dur="indefinite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9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9" dur="indefinite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95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4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55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56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5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8" dur="indefinite" nodeType="withEffect" fill="hold" presetClass="entr" presetID="4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9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9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3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6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7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1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5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8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7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1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37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加号 17"/>
          <p:cNvSpPr/>
          <p:nvPr/>
        </p:nvSpPr>
        <p:spPr>
          <a:xfrm>
            <a:off x="41893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加号 18"/>
          <p:cNvSpPr/>
          <p:nvPr/>
        </p:nvSpPr>
        <p:spPr>
          <a:xfrm>
            <a:off x="7054920" y="2209680"/>
            <a:ext cx="976320" cy="974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图片 27" descr=""/>
          <p:cNvPicPr/>
          <p:nvPr/>
        </p:nvPicPr>
        <p:blipFill>
          <a:blip r:embed="rId4"/>
          <a:stretch/>
        </p:blipFill>
        <p:spPr>
          <a:xfrm rot="20179800">
            <a:off x="964800" y="3519000"/>
            <a:ext cx="360216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dur="indefinite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9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9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7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5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7" dur="indefinite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9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0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9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任意多边形 20"/>
          <p:cNvSpPr/>
          <p:nvPr/>
        </p:nvSpPr>
        <p:spPr>
          <a:xfrm flipH="1">
            <a:off x="1628640" y="3627360"/>
            <a:ext cx="3230640" cy="199080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21"/>
          <p:cNvSpPr/>
          <p:nvPr/>
        </p:nvSpPr>
        <p:spPr>
          <a:xfrm>
            <a:off x="5105520" y="3941640"/>
            <a:ext cx="2354040" cy="145116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任意多边形 19"/>
          <p:cNvSpPr/>
          <p:nvPr/>
        </p:nvSpPr>
        <p:spPr>
          <a:xfrm flipH="1">
            <a:off x="3000240" y="2781360"/>
            <a:ext cx="3229200" cy="199224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任意多边形 11"/>
          <p:cNvSpPr/>
          <p:nvPr/>
        </p:nvSpPr>
        <p:spPr>
          <a:xfrm flipH="1">
            <a:off x="1525680" y="1467000"/>
            <a:ext cx="1612800" cy="99504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任意多边形 10"/>
          <p:cNvSpPr/>
          <p:nvPr/>
        </p:nvSpPr>
        <p:spPr>
          <a:xfrm>
            <a:off x="-512640" y="1119240"/>
            <a:ext cx="1612800" cy="99360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任意多边形 9"/>
          <p:cNvSpPr/>
          <p:nvPr/>
        </p:nvSpPr>
        <p:spPr>
          <a:xfrm>
            <a:off x="-171360" y="1467000"/>
            <a:ext cx="2503440" cy="154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任意多边形 14"/>
          <p:cNvSpPr/>
          <p:nvPr/>
        </p:nvSpPr>
        <p:spPr>
          <a:xfrm flipH="1">
            <a:off x="365040" y="5175360"/>
            <a:ext cx="2230560" cy="137484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13"/>
          <p:cNvSpPr/>
          <p:nvPr/>
        </p:nvSpPr>
        <p:spPr>
          <a:xfrm flipH="1">
            <a:off x="932760" y="5175360"/>
            <a:ext cx="5457960" cy="3365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任意多边形 15"/>
          <p:cNvSpPr/>
          <p:nvPr/>
        </p:nvSpPr>
        <p:spPr>
          <a:xfrm flipH="1">
            <a:off x="5508000" y="6006960"/>
            <a:ext cx="1763640" cy="10875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16"/>
          <p:cNvSpPr/>
          <p:nvPr/>
        </p:nvSpPr>
        <p:spPr>
          <a:xfrm>
            <a:off x="6994440" y="5657760"/>
            <a:ext cx="2791080" cy="1722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任意多边形 23"/>
          <p:cNvSpPr/>
          <p:nvPr/>
        </p:nvSpPr>
        <p:spPr>
          <a:xfrm flipH="1">
            <a:off x="10779840" y="2506680"/>
            <a:ext cx="1411560" cy="86976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24"/>
          <p:cNvSpPr/>
          <p:nvPr/>
        </p:nvSpPr>
        <p:spPr>
          <a:xfrm>
            <a:off x="8996400" y="2200320"/>
            <a:ext cx="1411200" cy="8697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任意多边形 25"/>
          <p:cNvSpPr/>
          <p:nvPr/>
        </p:nvSpPr>
        <p:spPr>
          <a:xfrm>
            <a:off x="9294840" y="2506680"/>
            <a:ext cx="2192400" cy="1351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77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0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3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7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5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9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7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1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5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9" dur="indefinite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3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7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7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1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7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1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282" dur="50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3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284" dur="50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5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286" dur="50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288" dur="50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9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290" dur="50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1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292" dur="50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3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294" dur="50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5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296" dur="50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7" dur="indefinite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298" dur="50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9" dur="indefinite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300" dur="4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79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84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1" dur="indefinite" restart="never" nodeType="tmRoot">
          <p:childTnLst>
            <p:seq>
              <p:cTn id="1302" dur="indefinite" nodeType="mainSeq">
                <p:childTnLst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6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8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1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饼形 3"/>
          <p:cNvSpPr/>
          <p:nvPr/>
        </p:nvSpPr>
        <p:spPr>
          <a:xfrm>
            <a:off x="40176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11" descr=""/>
          <p:cNvPicPr/>
          <p:nvPr/>
        </p:nvPicPr>
        <p:blipFill>
          <a:blip r:embed="rId1">
            <a:biLevel thresh="50000"/>
          </a:blip>
          <a:srcRect l="17412" t="9316" r="20071" b="2286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57" name="弧形 12"/>
          <p:cNvSpPr/>
          <p:nvPr/>
        </p:nvSpPr>
        <p:spPr>
          <a:xfrm rot="2700000">
            <a:off x="408960" y="280440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饼形 13"/>
          <p:cNvSpPr/>
          <p:nvPr/>
        </p:nvSpPr>
        <p:spPr>
          <a:xfrm>
            <a:off x="5877000" y="2795760"/>
            <a:ext cx="1265040" cy="12650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弧形 15"/>
          <p:cNvSpPr/>
          <p:nvPr/>
        </p:nvSpPr>
        <p:spPr>
          <a:xfrm rot="2700000">
            <a:off x="5882760" y="2803320"/>
            <a:ext cx="124920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饼形 16"/>
          <p:cNvSpPr/>
          <p:nvPr/>
        </p:nvSpPr>
        <p:spPr>
          <a:xfrm>
            <a:off x="401760" y="4683240"/>
            <a:ext cx="1265040" cy="1266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弧形 18"/>
          <p:cNvSpPr/>
          <p:nvPr/>
        </p:nvSpPr>
        <p:spPr>
          <a:xfrm rot="2700000">
            <a:off x="408960" y="4691880"/>
            <a:ext cx="1249200" cy="12477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弧形 19"/>
          <p:cNvSpPr/>
          <p:nvPr/>
        </p:nvSpPr>
        <p:spPr>
          <a:xfrm rot="2700000">
            <a:off x="5883480" y="4685760"/>
            <a:ext cx="1247760" cy="1249560"/>
          </a:xfrm>
          <a:prstGeom prst="pie">
            <a:avLst/>
          </a:prstGeom>
          <a:noFill/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弦形 20"/>
          <p:cNvSpPr/>
          <p:nvPr/>
        </p:nvSpPr>
        <p:spPr>
          <a:xfrm>
            <a:off x="5807160" y="4605480"/>
            <a:ext cx="1403280" cy="1401480"/>
          </a:xfrm>
          <a:prstGeom prst="pie">
            <a:avLst/>
          </a:prstGeom>
          <a:solidFill>
            <a:srgbClr val="e9118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1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33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4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7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74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8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1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115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6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18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7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32" repeatCount="5000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146" dur="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64" fill="hold">
                                          <p:stCondLst>
                                            <p:cond delay="6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64" fill="hold">
                                          <p:stCondLst>
                                            <p:cond delay="12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64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64" fill="hold">
                                          <p:stCondLst>
                                            <p:cond delay="25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9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0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2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4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6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0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319" dur="15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321" dur="15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1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9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7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9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dur="indefinite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0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8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2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500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6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0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4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4"/>
          <p:cNvGrpSpPr/>
          <p:nvPr/>
        </p:nvGrpSpPr>
        <p:grpSpPr>
          <a:xfrm>
            <a:off x="2971440" y="601200"/>
            <a:ext cx="6248520" cy="2220840"/>
            <a:chOff x="2971440" y="601200"/>
            <a:chExt cx="6248520" cy="2220840"/>
          </a:xfrm>
        </p:grpSpPr>
        <p:sp>
          <p:nvSpPr>
            <p:cNvPr id="297" name="弧形 6"/>
            <p:cNvSpPr/>
            <p:nvPr/>
          </p:nvSpPr>
          <p:spPr>
            <a:xfrm rot="10800000">
              <a:off x="29714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弧形 7"/>
            <p:cNvSpPr/>
            <p:nvPr/>
          </p:nvSpPr>
          <p:spPr>
            <a:xfrm rot="10800000">
              <a:off x="499140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弧形 8"/>
            <p:cNvSpPr/>
            <p:nvPr/>
          </p:nvSpPr>
          <p:spPr>
            <a:xfrm rot="10800000">
              <a:off x="6999840" y="601200"/>
              <a:ext cx="2220120" cy="222084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7" dur="indefinite" restart="never" nodeType="tmRoot">
          <p:childTnLst>
            <p:seq>
              <p:cTn id="1388" dur="indefinite" nodeType="mainSeq">
                <p:childTnLst>
                  <p:par>
                    <p:cTn id="1389" fill="hold">
                      <p:stCondLst>
                        <p:cond delay="0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dur="indefinite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1250"/>
                            </p:stCondLst>
                            <p:childTnLst>
                              <p:par>
                                <p:cTn id="1401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1750"/>
                            </p:stCondLst>
                            <p:childTnLst>
                              <p:par>
                                <p:cTn id="14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8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3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3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6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3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8" dur="indefinite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1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4" dur="indefinite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7" dur="indefinite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9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1" dur="indefinite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4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6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dur="indefinite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6" dur="indefinite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dur="indefinite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8" dur="indefinite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dur="indefinite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4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0" dur="indefinite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dur="indefinite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6" dur="indefinite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8" dur="indefinite" restart="never" nodeType="tmRoot">
          <p:childTnLst>
            <p:seq>
              <p:cTn id="1549" dur="indefinite" nodeType="mainSeq">
                <p:childTnLst>
                  <p:par>
                    <p:cTn id="1550" fill="hold">
                      <p:stCondLst>
                        <p:cond delay="0"/>
                      </p:stCondLst>
                      <p:childTnLst>
                        <p:par>
                          <p:cTn id="1551" fill="hold">
                            <p:stCondLst>
                              <p:cond delay="0"/>
                            </p:stCondLst>
                            <p:childTnLst>
                              <p:par>
                                <p:cTn id="15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4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4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6" dur="9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9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87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1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5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5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9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500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3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500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7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500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1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500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fill="hold">
                      <p:stCondLst>
                        <p:cond delay="0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1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7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4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7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3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2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5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5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9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3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1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0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0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0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3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1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1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1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1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72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7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7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9" dur="indefinite" restart="never" nodeType="tmRoot">
          <p:childTnLst>
            <p:seq>
              <p:cTn id="1730" dur="indefinite" nodeType="mainSeq">
                <p:childTnLst>
                  <p:par>
                    <p:cTn id="1731" fill="hold">
                      <p:stCondLst>
                        <p:cond delay="0"/>
                      </p:stCondLst>
                      <p:childTnLst>
                        <p:par>
                          <p:cTn id="1732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2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7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5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9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1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9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8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1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2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76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0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4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8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1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6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组合 5"/>
          <p:cNvGrpSpPr/>
          <p:nvPr/>
        </p:nvGrpSpPr>
        <p:grpSpPr>
          <a:xfrm>
            <a:off x="752400" y="1268280"/>
            <a:ext cx="1324080" cy="4686480"/>
            <a:chOff x="752400" y="1268280"/>
            <a:chExt cx="1324080" cy="4686480"/>
          </a:xfrm>
        </p:grpSpPr>
        <p:sp>
          <p:nvSpPr>
            <p:cNvPr id="372" name="直接连接符 6"/>
            <p:cNvSpPr/>
            <p:nvPr/>
          </p:nvSpPr>
          <p:spPr>
            <a:xfrm>
              <a:off x="1414800" y="1268280"/>
              <a:ext cx="0" cy="33577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弧形 7"/>
            <p:cNvSpPr/>
            <p:nvPr/>
          </p:nvSpPr>
          <p:spPr>
            <a:xfrm>
              <a:off x="752400" y="463104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9"/>
          <p:cNvGrpSpPr/>
          <p:nvPr/>
        </p:nvGrpSpPr>
        <p:grpSpPr>
          <a:xfrm>
            <a:off x="2155680" y="1268280"/>
            <a:ext cx="1324080" cy="2976840"/>
            <a:chOff x="2155680" y="1268280"/>
            <a:chExt cx="1324080" cy="2976840"/>
          </a:xfrm>
        </p:grpSpPr>
        <p:sp>
          <p:nvSpPr>
            <p:cNvPr id="376" name="直接连接符 10"/>
            <p:cNvSpPr/>
            <p:nvPr/>
          </p:nvSpPr>
          <p:spPr>
            <a:xfrm>
              <a:off x="2818080" y="1268280"/>
              <a:ext cx="0" cy="16480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弧形 11"/>
            <p:cNvSpPr/>
            <p:nvPr/>
          </p:nvSpPr>
          <p:spPr>
            <a:xfrm>
              <a:off x="2155680" y="292140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组合 13"/>
          <p:cNvGrpSpPr/>
          <p:nvPr/>
        </p:nvGrpSpPr>
        <p:grpSpPr>
          <a:xfrm>
            <a:off x="3684600" y="1268280"/>
            <a:ext cx="1324080" cy="3706920"/>
            <a:chOff x="3684600" y="1268280"/>
            <a:chExt cx="1324080" cy="3706920"/>
          </a:xfrm>
        </p:grpSpPr>
        <p:sp>
          <p:nvSpPr>
            <p:cNvPr id="380" name="直接连接符 14"/>
            <p:cNvSpPr/>
            <p:nvPr/>
          </p:nvSpPr>
          <p:spPr>
            <a:xfrm>
              <a:off x="4347000" y="1268280"/>
              <a:ext cx="0" cy="237816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弧形 15"/>
            <p:cNvSpPr/>
            <p:nvPr/>
          </p:nvSpPr>
          <p:spPr>
            <a:xfrm>
              <a:off x="3684600" y="3651840"/>
              <a:ext cx="1324080" cy="132336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组合 17"/>
          <p:cNvGrpSpPr/>
          <p:nvPr/>
        </p:nvGrpSpPr>
        <p:grpSpPr>
          <a:xfrm>
            <a:off x="5079960" y="1279440"/>
            <a:ext cx="1324080" cy="2502000"/>
            <a:chOff x="5079960" y="1279440"/>
            <a:chExt cx="1324080" cy="2502000"/>
          </a:xfrm>
        </p:grpSpPr>
        <p:sp>
          <p:nvSpPr>
            <p:cNvPr id="384" name="直接连接符 18"/>
            <p:cNvSpPr/>
            <p:nvPr/>
          </p:nvSpPr>
          <p:spPr>
            <a:xfrm>
              <a:off x="5742360" y="1279440"/>
              <a:ext cx="0" cy="11728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弧形 19"/>
            <p:cNvSpPr/>
            <p:nvPr/>
          </p:nvSpPr>
          <p:spPr>
            <a:xfrm>
              <a:off x="5079960" y="2457720"/>
              <a:ext cx="1324080" cy="132372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9" dur="indefinite" restart="never" nodeType="tmRoot">
          <p:childTnLst>
            <p:seq>
              <p:cTn id="1800" dur="indefinite" nodeType="mainSeq">
                <p:childTnLst>
                  <p:par>
                    <p:cTn id="1801" fill="hold">
                      <p:stCondLst>
                        <p:cond delay="0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9" dur="19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0" dur="indefinite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5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6" dur="9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8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3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4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dur="indefinite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7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8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9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1" dur="indefinite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8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4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dur="indefinite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8" dur="indefinite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0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9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85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5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1" dur="indefinite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9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7" dur="indefinite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868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86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8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7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0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99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dur="indefinite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8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9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0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2" dur="indefinite" restart="never" nodeType="tmRoot">
          <p:childTnLst>
            <p:seq>
              <p:cTn id="1903" dur="indefinite" nodeType="mainSeq">
                <p:childTnLst>
                  <p:par>
                    <p:cTn id="1904" fill="hold">
                      <p:stCondLst>
                        <p:cond delay="0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8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1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3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4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0" dur="9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4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5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6" dur="9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1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2" dur="500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5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50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9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0" dur="500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3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7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500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dur="indefinite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1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2" dur="500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5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6" dur="500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8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9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0" dur="500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弦形 10"/>
          <p:cNvSpPr/>
          <p:nvPr/>
        </p:nvSpPr>
        <p:spPr>
          <a:xfrm>
            <a:off x="8426520" y="3129120"/>
            <a:ext cx="2922480" cy="2922480"/>
          </a:xfrm>
          <a:prstGeom prst="pi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空心弧 11"/>
          <p:cNvSpPr/>
          <p:nvPr/>
        </p:nvSpPr>
        <p:spPr>
          <a:xfrm rot="5400000">
            <a:off x="8609760" y="3310560"/>
            <a:ext cx="2555640" cy="2557440"/>
          </a:xfrm>
          <a:prstGeom prst="blockArc">
            <a:avLst>
              <a:gd name="adj1" fmla="val 10800000"/>
              <a:gd name="adj2" fmla="val 0"/>
              <a:gd name="adj3" fmla="val 11699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弧形 12"/>
          <p:cNvSpPr/>
          <p:nvPr/>
        </p:nvSpPr>
        <p:spPr>
          <a:xfrm rot="10800000">
            <a:off x="8772480" y="3503520"/>
            <a:ext cx="2232000" cy="2232000"/>
          </a:xfrm>
          <a:prstGeom prst="pie">
            <a:avLst/>
          </a:pr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4"/>
          <p:cNvSpPr/>
          <p:nvPr/>
        </p:nvSpPr>
        <p:spPr>
          <a:xfrm>
            <a:off x="877176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方正兰亭特黑简体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2" dur="indefinite" restart="never" nodeType="tmRoot">
          <p:childTnLst>
            <p:seq>
              <p:cTn id="1973" dur="indefinite" nodeType="mainSeq">
                <p:childTnLst>
                  <p:par>
                    <p:cTn id="1974" fill="hold">
                      <p:stCondLst>
                        <p:cond delay="0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983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84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8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5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7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0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1" dur="indefinite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dur="indefinite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1" dur="indefinite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dur="indefinite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0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2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4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7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8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9" dur="9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5" dur="9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0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1" dur="50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3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4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5" dur="500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8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9" dur="500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2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3" dur="500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6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50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9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0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1" dur="500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4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7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8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9" dur="500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"/>
          <p:cNvGrpSpPr/>
          <p:nvPr/>
        </p:nvGrpSpPr>
        <p:grpSpPr>
          <a:xfrm>
            <a:off x="5625000" y="4426920"/>
            <a:ext cx="3873240" cy="1766160"/>
            <a:chOff x="5625000" y="4426920"/>
            <a:chExt cx="3873240" cy="1766160"/>
          </a:xfrm>
        </p:grpSpPr>
        <p:sp>
          <p:nvSpPr>
            <p:cNvPr id="70" name="文本框 5"/>
            <p:cNvSpPr/>
            <p:nvPr/>
          </p:nvSpPr>
          <p:spPr>
            <a:xfrm>
              <a:off x="6897600" y="509040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弧形 6"/>
            <p:cNvSpPr/>
            <p:nvPr/>
          </p:nvSpPr>
          <p:spPr>
            <a:xfrm rot="2700000">
              <a:off x="5883840" y="4685040"/>
              <a:ext cx="1248480" cy="124920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弦形 7"/>
            <p:cNvSpPr/>
            <p:nvPr/>
          </p:nvSpPr>
          <p:spPr>
            <a:xfrm>
              <a:off x="5807160" y="4605480"/>
              <a:ext cx="1402200" cy="1401480"/>
            </a:xfrm>
            <a:prstGeom prst="pie">
              <a:avLst/>
            </a:prstGeom>
            <a:solidFill>
              <a:srgbClr val="e9118c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72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38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prstGeom prst="donut">
              <a:avLst>
                <a:gd name="adj" fmla="val 1103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41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prstGeom prst="donut">
              <a:avLst>
                <a:gd name="adj" fmla="val 1134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fill="hold">
                      <p:stCondLst>
                        <p:cond delay="0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3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7" dur="indefinite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3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8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2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8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1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4" dur="indefinite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6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7" dur="indefinite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9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2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8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9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1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2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5" dur="indefinite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7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8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1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7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9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3" dur="indefinite" restart="never" nodeType="tmRoot">
          <p:childTnLst>
            <p:seq>
              <p:cTn id="2174" dur="indefinite" nodeType="mainSeq">
                <p:childTnLst>
                  <p:par>
                    <p:cTn id="2175" fill="hold">
                      <p:stCondLst>
                        <p:cond delay="0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9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1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2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4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5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6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7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2" dur="indefinite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4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5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9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0" dur="indefinite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dur="indefinite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0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2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dur="indefinite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7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8" dur="indefinite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1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4" dur="indefinite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2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dur="indefinite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0" dur="indefinite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5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6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3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9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2" dur="indefinite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8" dur="indefinite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4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4" dur="indefinite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55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文本框 3"/>
          <p:cNvSpPr/>
          <p:nvPr/>
        </p:nvSpPr>
        <p:spPr>
          <a:xfrm>
            <a:off x="44640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兰亭特黑简体"/>
                <a:ea typeface="方正兰亭特黑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000"/>
                            </p:stCondLst>
                            <p:childTnLst>
                              <p:par>
                                <p:cTn id="190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3500"/>
                            </p:stCondLst>
                            <p:childTnLst>
                              <p:par>
                                <p:cTn id="194" dur="indefinite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8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3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6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21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22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222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1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23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9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8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dur="indefinite" nodeType="withEffect" fill="hold" presetClass="exit" presetID="2" presetSubtype="8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6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心圆 6"/>
          <p:cNvSpPr/>
          <p:nvPr/>
        </p:nvSpPr>
        <p:spPr>
          <a:xfrm>
            <a:off x="3952800" y="812880"/>
            <a:ext cx="3797280" cy="3797280"/>
          </a:xfrm>
          <a:prstGeom prst="donut">
            <a:avLst>
              <a:gd name="adj" fmla="val 7249"/>
            </a:avLst>
          </a:pr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同心圆 7"/>
          <p:cNvSpPr/>
          <p:nvPr/>
        </p:nvSpPr>
        <p:spPr>
          <a:xfrm>
            <a:off x="4667400" y="1514520"/>
            <a:ext cx="2395440" cy="2394000"/>
          </a:xfrm>
          <a:prstGeom prst="donut">
            <a:avLst>
              <a:gd name="adj" fmla="val 16018"/>
            </a:avLst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同心圆 9"/>
          <p:cNvSpPr/>
          <p:nvPr/>
        </p:nvSpPr>
        <p:spPr>
          <a:xfrm>
            <a:off x="3808440" y="655560"/>
            <a:ext cx="4113360" cy="4111560"/>
          </a:xfrm>
          <a:prstGeom prst="donut">
            <a:avLst>
              <a:gd name="adj" fmla="val 3754"/>
            </a:avLst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1"/>
          <p:cNvSpPr/>
          <p:nvPr/>
        </p:nvSpPr>
        <p:spPr>
          <a:xfrm>
            <a:off x="8996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2"/>
          <p:cNvSpPr/>
          <p:nvPr/>
        </p:nvSpPr>
        <p:spPr>
          <a:xfrm>
            <a:off x="910944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方正兰亭特黑简体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9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84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5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6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7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8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4400"/>
                            </p:stCondLst>
                            <p:childTnLst>
                              <p:par>
                                <p:cTn id="39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4401"/>
                            </p:stCondLst>
                            <p:childTnLst>
                              <p:par>
                                <p:cTn id="39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弦形 3"/>
          <p:cNvSpPr/>
          <p:nvPr/>
        </p:nvSpPr>
        <p:spPr>
          <a:xfrm>
            <a:off x="4384800" y="1035000"/>
            <a:ext cx="3422520" cy="3421080"/>
          </a:xfrm>
          <a:prstGeom prst="pi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9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dc:language>en-US</dc:language>
  <cp:lastModifiedBy>YANGS</cp:lastModifiedBy>
  <dcterms:modified xsi:type="dcterms:W3CDTF">2015-01-06T15:39:39Z</dcterms:modified>
  <cp:revision>9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