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25E9-E20A-401A-BF12-E62E5656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C891-A14C-4419-A0F4-FEB711E8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D53E-AFE2-4C96-BB46-4CE0A676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DB86-72BB-4035-9901-BD751183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46F8-F699-4DF4-A9B8-A364B21F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E71B-3183-4D91-BF9B-D6EBEDC4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F0F-AF33-4EDE-9D1C-BF668D7B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B969-0BDB-4C50-9FFA-683D1A71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885B-CB05-40F5-9CBD-EA684C74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62FE-800C-4C8C-8B9C-4D456D0D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A02C-D9F6-4845-9E87-6C20733D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E843-7BDD-4D19-B034-9BB53A49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D04C-6B90-4FC0-BDFD-609AFA3AECEC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4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9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50" name="8 Rectángulo" descr=""/>
              <p:cNvPicPr/>
              <p:nvPr/>
            </p:nvPicPr>
            <p:blipFill>
              <a:blip r:embed="rId4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Imagen 2" descr="C:\Users\Design\Documents\Edu\Product Launch\LCD.png"/>
            <p:cNvPicPr/>
            <p:nvPr/>
          </p:nvPicPr>
          <p:blipFill>
            <a:blip r:embed="rId5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Imagen 3" descr="C:\Users\Design\Documents\Edu\Product Launch\magic_wand.png"/>
            <p:cNvPicPr/>
            <p:nvPr/>
          </p:nvPicPr>
          <p:blipFill>
            <a:blip r:embed="rId6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ABOUT </a:t>
            </a:r>
            <a:r>
              <a:rPr b="1" lang="es-HN" sz="44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pic>
        <p:nvPicPr>
          <p:cNvPr id="63" name="3 CuadroTexto" descr=""/>
          <p:cNvPicPr/>
          <p:nvPr/>
        </p:nvPicPr>
        <p:blipFill>
          <a:blip r:embed="rId4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4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浪漫雅圆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9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7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74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78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80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YOUR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8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88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29 CuadroTexto"/>
          <p:cNvSpPr/>
          <p:nvPr/>
        </p:nvSpPr>
        <p:spPr>
          <a:xfrm>
            <a:off x="420804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95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9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103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09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1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15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16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2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22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2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n 2" descr="C:\Users\Design\Documents\Edu\Product Launch\bgservices.png"/>
          <p:cNvPicPr/>
          <p:nvPr/>
        </p:nvPicPr>
        <p:blipFill>
          <a:blip r:embed="rId10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6" name="Imagen 2" descr="C:\Users\Design\Documents\Edu\Product Launch\bgservices.png"/>
          <p:cNvPicPr/>
          <p:nvPr/>
        </p:nvPicPr>
        <p:blipFill>
          <a:blip r:embed="rId11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7" name="Imagen 2" descr="C:\Users\Design\Documents\Edu\Product Launch\bgservices.png"/>
          <p:cNvPicPr/>
          <p:nvPr/>
        </p:nvPicPr>
        <p:blipFill>
          <a:blip r:embed="rId12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2" descr="C:\Users\Design\Documents\Edu\Product Launch\bgservices.png"/>
          <p:cNvPicPr/>
          <p:nvPr/>
        </p:nvPicPr>
        <p:blipFill>
          <a:blip r:embed="rId13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3" descr="C:\Users\Design\Documents\Edu\Product Launch\icons\database_check.png"/>
          <p:cNvPicPr/>
          <p:nvPr/>
        </p:nvPicPr>
        <p:blipFill>
          <a:blip r:embed="rId14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4" descr="C:\Users\Design\Documents\Edu\Product Launch\shadown 2.png"/>
          <p:cNvPicPr/>
          <p:nvPr/>
        </p:nvPicPr>
        <p:blipFill>
          <a:blip r:embed="rId15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1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4" descr="C:\Users\Design\Documents\Edu\Product Launch\shadown 2.png"/>
          <p:cNvPicPr/>
          <p:nvPr/>
        </p:nvPicPr>
        <p:blipFill>
          <a:blip r:embed="rId16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4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n 4" descr="C:\Users\Design\Documents\Edu\Product Launch\shadown 2.png"/>
          <p:cNvPicPr/>
          <p:nvPr/>
        </p:nvPicPr>
        <p:blipFill>
          <a:blip r:embed="rId17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4" descr="C:\Users\Design\Documents\Edu\Product Launch\shadown 2.png"/>
          <p:cNvPicPr/>
          <p:nvPr/>
        </p:nvPicPr>
        <p:blipFill>
          <a:blip r:embed="rId18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40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5" descr="C:\Users\Design\Documents\Edu\Product Launch\icons\presentation.png"/>
          <p:cNvPicPr/>
          <p:nvPr/>
        </p:nvPicPr>
        <p:blipFill>
          <a:blip r:embed="rId19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6" descr="C:\Users\Design\Documents\Edu\Product Launch\icons\color_wheel.png"/>
          <p:cNvPicPr/>
          <p:nvPr/>
        </p:nvPicPr>
        <p:blipFill>
          <a:blip r:embed="rId20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8" descr="C:\Users\Design\Documents\Edu\Product Launch\icons\web.png"/>
          <p:cNvPicPr/>
          <p:nvPr/>
        </p:nvPicPr>
        <p:blipFill>
          <a:blip r:embed="rId21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4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50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18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2" name="19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53" name="20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5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49 Objeto" descr=""/>
          <p:cNvPicPr/>
          <p:nvPr/>
        </p:nvPicPr>
        <p:blipFill>
          <a:blip r:embed="rId10"/>
          <a:stretch/>
        </p:blipFill>
        <p:spPr>
          <a:xfrm>
            <a:off x="-158760" y="1846440"/>
            <a:ext cx="6675480" cy="4019400"/>
          </a:xfrm>
          <a:prstGeom prst="rect">
            <a:avLst/>
          </a:prstGeom>
          <a:ln w="0">
            <a:noFill/>
          </a:ln>
        </p:spPr>
      </p:pic>
      <p:sp>
        <p:nvSpPr>
          <p:cNvPr id="162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128520" y="1611360"/>
            <a:ext cx="6048360" cy="425772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72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18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78" name="19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79" name="20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8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97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CONTAC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03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04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20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1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14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18" name="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21" name="49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" descr="C:\Users\Design\Documents\Edu\Product Launch\logo.png"/>
          <p:cNvPicPr/>
          <p:nvPr/>
        </p:nvPicPr>
        <p:blipFill>
          <a:blip r:embed="rId2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228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5:02Z</dcterms:modified>
  <cp:revision>3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