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D24-EA7E-4682-B96E-4636D2F3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AD53-C12C-4B17-A272-02E1C13E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83BF-F786-4969-AE23-DC42FF65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94DE-24A5-4C79-A767-92ACDABFA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D54-3977-4D83-B9FE-3B1218D8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A2F-CC8B-4FCF-815A-B251E2E5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D5C-32CF-4F76-AC74-2F733720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E9D8-14DD-49AD-8DD0-BEB85874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8D12-7CC7-4080-BEA9-920904EAF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160F-6E5C-4546-B254-AE6EDBB6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AB8-FB21-42D0-B90E-7A5D04E1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1467-F500-48F2-BC4A-C97C6B555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C5AA-EE60-4C60-B9C7-0124DAE9A6F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071880" y="385776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00"/>
                </a:solidFill>
                <a:uFillTx/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00280" y="4714920"/>
            <a:ext cx="414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43549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642672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2283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428364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2140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61408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/>
          <p:cNvSpPr/>
          <p:nvPr/>
        </p:nvSpPr>
        <p:spPr>
          <a:xfrm>
            <a:off x="28548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30690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54266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4266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5500800" y="2571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92608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7121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119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6069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4426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6"/>
          <p:cNvSpPr/>
          <p:nvPr/>
        </p:nvSpPr>
        <p:spPr>
          <a:xfrm>
            <a:off x="578376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9260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264060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64084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杨光</cp:lastModifiedBy>
  <dcterms:modified xsi:type="dcterms:W3CDTF">2014-09-06T14:30:08Z</dcterms:modified>
  <cp:revision>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