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EB9-3802-4886-A52F-F671E8C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702-2535-40A9-8A4F-D7DCC81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6AC-ED9E-40B0-842C-3FD05287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403-F548-4975-BD88-7E91A47C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E52-34DD-4053-B4B7-E413305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04E-5929-4828-A2C3-C23C523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1FA-58B9-4EC5-AC36-B160969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594-8A26-4CB1-B76E-555D2431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DAC-551D-482A-9A63-37E6BB6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172-F6D1-4162-8182-1B01457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0A9-E5FD-4888-A04C-45FC0E8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588-2FB9-4CF7-9CEE-7174C50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2DCF-EFE0-428E-9372-614AB8FF1C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E0A-987B-4A8E-8CCB-083D8DF110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8"/>
          <p:cNvSpPr/>
          <p:nvPr/>
        </p:nvSpPr>
        <p:spPr>
          <a:xfrm>
            <a:off x="1107360" y="3521160"/>
            <a:ext cx="69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的生产流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1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32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33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3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6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41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46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49" name="直接箭头连接符 30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5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52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3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55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3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258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9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79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82" name="直接箭头连接符 18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83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9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285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92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93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94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9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8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00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8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03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21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06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19" name="直接箭头连接符 34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2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2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5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5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6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6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Users\iamisis\Desktop\图片1.png"/>
          <p:cNvPicPr/>
          <p:nvPr/>
        </p:nvPicPr>
        <p:blipFill>
          <a:blip r:embed="rId6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373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95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3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3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3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4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Administrator\Desktop\对勾.png"/>
          <p:cNvPicPr/>
          <p:nvPr/>
        </p:nvPicPr>
        <p:blipFill>
          <a:blip r:embed="rId6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16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17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18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2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13 CuadroTexto"/>
          <p:cNvSpPr/>
          <p:nvPr/>
        </p:nvSpPr>
        <p:spPr>
          <a:xfrm>
            <a:off x="766188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3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0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6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597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1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05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2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13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组合 31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22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35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25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8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28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41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31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44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34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3 CuadroTexto"/>
          <p:cNvSpPr/>
          <p:nvPr/>
        </p:nvSpPr>
        <p:spPr>
          <a:xfrm>
            <a:off x="8243640" y="4816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21"/>
          <p:cNvSpPr/>
          <p:nvPr/>
        </p:nvSpPr>
        <p:spPr>
          <a:xfrm>
            <a:off x="3436200" y="177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8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8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6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iamisis\Desktop\964b2e4e98c270f3d0c86a3c.jpg"/>
          <p:cNvPicPr/>
          <p:nvPr/>
        </p:nvPicPr>
        <p:blipFill>
          <a:blip r:embed="rId7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9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9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0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0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17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18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19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www.tuweimei.comComp_10783851_QD0pL2fbu4Czmg2COkwX13qtD9JN38YK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33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3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iamisis\Desktop\崔老师的PPT\培训02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4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5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5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iamisis\Desktop\图片1.pn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www.tuweimei.comComp_10410381_VJW8cYTeX0nAHfLOmrS2Ufq23wyNA9RW.jpg"/>
          <p:cNvPicPr/>
          <p:nvPr/>
        </p:nvPicPr>
        <p:blipFill>
          <a:blip r:embed="rId6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4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3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178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82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grpSp>
        <p:nvGrpSpPr>
          <p:cNvPr id="197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98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2" descr="optaros-homepage-raisethebar-thumb.gif"/>
          <p:cNvPicPr/>
          <p:nvPr/>
        </p:nvPicPr>
        <p:blipFill>
          <a:blip r:embed="rId6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01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8:37:57Z</dcterms:created>
  <dc:creator>Administrator</dc:creator>
  <dc:description/>
  <cp:keywords/>
  <dc:language>en-US</dc:language>
  <cp:lastModifiedBy>许敏斌</cp:lastModifiedBy>
  <dcterms:modified xsi:type="dcterms:W3CDTF">2016-03-26T07:40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