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D882-FF8A-431F-990E-F8DE298E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FE9-E485-4AB7-A24E-153AABBF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BAD-B4D1-4F40-B04F-F7298CD9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6EF-0996-4B59-ACE8-B6989BDF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37DC-1071-4FFA-92B9-FDC41F0C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04A0-5B08-450B-8CFD-8D865374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4BF4-2EDF-40C6-B225-A0DF2A45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8620-C44E-41D6-839D-8F7E16DD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8A4B-585C-486D-A6AF-739CA886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D351-1F86-4DBE-AC3D-78B6BD36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E7F5-AAA0-4FAB-A03F-B9D53BCD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46C-FEB7-4F42-982F-D3C8359D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9659-A0B3-42B3-8755-0DF7B194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1E98-F345-4137-940A-F7223A24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1A15-54C7-486D-B303-D952D88F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D7E0-CA2C-40C1-A8BE-387C03C2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D64B-F2F5-4F72-9F71-CAD8D069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1BA86-87AA-4F67-93B9-D5238AA0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3721B-AD3E-4CF4-9510-E7C16FDF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48413-3A5E-4527-96E6-9D7F58C1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F07B1-337F-4338-A851-64B24201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6C48B-452E-42BB-88FA-2203EA81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CE8-E406-4BDC-946B-463E5DB1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7FF5-00F2-40F4-9F78-749DF185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EEE9-F05B-4E60-A2AB-65CD48F3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44A5E-F905-4A09-84EC-757A1337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3C53C-9317-49AB-BF8C-49D830D1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7C2EA-C948-4677-A41D-2A79ECDB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244D-A45A-43A2-89FC-6A5FF383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4FAB5-9695-4B03-A465-CB4412BC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9DDD2-5EA7-40D5-8390-2C3DDF69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7EA8F-D3CE-4AEE-AB4C-0F105D6A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9B8D7-E306-4678-9F9B-083980CF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B02-1630-451F-8917-8D5AC152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7339B-9C87-4D8A-8B93-5317DC55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FC884-F260-4C3A-9604-A7DABA45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3395A-44CD-4E23-8AC4-8C1392CA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3F377-6CA9-42B9-B8F7-08928638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AE5C7-C603-4825-8065-A6A8BF3D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43BFB-FB2E-41FD-8897-F94E0C34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2DD2D-C45E-4797-B078-4BD3D7A6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CEB00-E15F-4839-9B39-10546DCD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068E0-F0D5-4FB6-8A46-F587F71F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F5D-C1A5-46AE-A2C0-B0CE322B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C4A1-F6A6-4FE5-9B64-B153564D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24F-7B4A-47E1-9A2F-7F2F446B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BDD-4D96-4424-A725-262BE57F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E020-BB06-4098-BFEF-B24B7E80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8740-C1C8-4D32-94D3-D78713AAC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CAC9-C5D0-456D-B101-B1300A100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46B1-CB97-48EF-9711-561F30D28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3510-7592-45C5-A4D1-DAA8CE646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hyperlink" Target="http://www.51pptmoban.com/" TargetMode="External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8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31"/>
          <p:cNvGrpSpPr/>
          <p:nvPr/>
        </p:nvGrpSpPr>
        <p:grpSpPr>
          <a:xfrm>
            <a:off x="826920" y="1390680"/>
            <a:ext cx="7410600" cy="1030320"/>
            <a:chOff x="826920" y="1390680"/>
            <a:chExt cx="7410600" cy="1030320"/>
          </a:xfrm>
        </p:grpSpPr>
        <p:sp>
          <p:nvSpPr>
            <p:cNvPr id="170" name="WordArt 29"/>
            <p:cNvSpPr txBox="1"/>
            <p:nvPr/>
          </p:nvSpPr>
          <p:spPr>
            <a:xfrm>
              <a:off x="4683240" y="1390680"/>
              <a:ext cx="346212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c0c0c0">
                        <a:alpha val="50000"/>
                      </a:srgbClr>
                    </a:solidFill>
                    <a:miter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굴림"/>
                </a:rPr>
                <a:t>Presentation SOLUTION</a:t>
              </a:r>
              <a:endParaRPr b="1" lang="en-US" sz="1800" spc="1" strike="noStrike">
                <a:ln w="3240">
                  <a:solidFill>
                    <a:srgbClr val="c0c0c0">
                      <a:alpha val="50000"/>
                    </a:srgbClr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굴림"/>
                <a:ea typeface="굴림"/>
              </a:endParaRPr>
            </a:p>
          </p:txBody>
        </p:sp>
        <p:sp>
          <p:nvSpPr>
            <p:cNvPr id="171" name="WordArt 30"/>
            <p:cNvSpPr txBox="1"/>
            <p:nvPr/>
          </p:nvSpPr>
          <p:spPr>
            <a:xfrm>
              <a:off x="826920" y="1811160"/>
              <a:ext cx="74106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000000">
                        <a:alpha val="50000"/>
                      </a:srgbClr>
                    </a:solidFill>
                    <a:miter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80000"/>
                      </a:srgbClr>
                    </a:outerShdw>
                  </a:effectLst>
                  <a:latin typeface="굴림"/>
                </a:rPr>
                <a:t>BIZPPT TEMPLATES</a:t>
              </a:r>
              <a:endParaRPr b="1" i="1" lang="en-US" sz="1800" spc="1" strike="noStrike">
                <a:ln w="15840">
                  <a:solidFill>
                    <a:srgbClr val="000000">
                      <a:alpha val="50000"/>
                    </a:srgbClr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굴림"/>
                <a:ea typeface="굴림"/>
              </a:endParaRPr>
            </a:p>
          </p:txBody>
        </p:sp>
      </p:grpSp>
      <p:pic>
        <p:nvPicPr>
          <p:cNvPr id="172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63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514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5" name="Picture 515" descr="보고순서 copy"/>
            <p:cNvPicPr/>
            <p:nvPr/>
          </p:nvPicPr>
          <p:blipFill>
            <a:blip r:embed="rId2"/>
            <a:srcRect l="4193" t="10686" r="6021" b="8028"/>
            <a:stretch/>
          </p:blipFill>
          <p:spPr>
            <a:xfrm>
              <a:off x="5335560" y="1557360"/>
              <a:ext cx="2228760" cy="5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AutoShape 516"/>
            <p:cNvSpPr/>
            <p:nvPr/>
          </p:nvSpPr>
          <p:spPr>
            <a:xfrm>
              <a:off x="4956120" y="229536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AutoShape 518"/>
            <p:cNvSpPr/>
            <p:nvPr/>
          </p:nvSpPr>
          <p:spPr>
            <a:xfrm>
              <a:off x="4956120" y="29368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AutoShape 519"/>
            <p:cNvSpPr/>
            <p:nvPr/>
          </p:nvSpPr>
          <p:spPr>
            <a:xfrm>
              <a:off x="4956120" y="357804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AutoShape 520"/>
            <p:cNvSpPr/>
            <p:nvPr/>
          </p:nvSpPr>
          <p:spPr>
            <a:xfrm>
              <a:off x="4956120" y="422100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AutoShape 521"/>
            <p:cNvSpPr/>
            <p:nvPr/>
          </p:nvSpPr>
          <p:spPr>
            <a:xfrm>
              <a:off x="4956120" y="48625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2" name="Group 522"/>
            <p:cNvGrpSpPr/>
            <p:nvPr/>
          </p:nvGrpSpPr>
          <p:grpSpPr>
            <a:xfrm>
              <a:off x="4443480" y="2295360"/>
              <a:ext cx="476280" cy="474840"/>
              <a:chOff x="4443480" y="2295360"/>
              <a:chExt cx="476280" cy="474840"/>
            </a:xfrm>
          </p:grpSpPr>
          <p:grpSp>
            <p:nvGrpSpPr>
              <p:cNvPr id="183" name="Group 523"/>
              <p:cNvGrpSpPr/>
              <p:nvPr/>
            </p:nvGrpSpPr>
            <p:grpSpPr>
              <a:xfrm>
                <a:off x="4443480" y="2295360"/>
                <a:ext cx="476280" cy="474840"/>
                <a:chOff x="4443480" y="2295360"/>
                <a:chExt cx="476280" cy="474840"/>
              </a:xfrm>
            </p:grpSpPr>
            <p:sp>
              <p:nvSpPr>
                <p:cNvPr id="184" name="AutoShape 524"/>
                <p:cNvSpPr/>
                <p:nvPr/>
              </p:nvSpPr>
              <p:spPr>
                <a:xfrm>
                  <a:off x="4443480" y="229536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85" name="AutoShape 525"/>
                <p:cNvSpPr/>
                <p:nvPr/>
              </p:nvSpPr>
              <p:spPr>
                <a:xfrm>
                  <a:off x="4467240" y="232092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186" name="Picture 526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34324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AutoShape 527"/>
                <p:cNvSpPr/>
                <p:nvPr/>
              </p:nvSpPr>
              <p:spPr>
                <a:xfrm>
                  <a:off x="4479840" y="233352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88" name="Text Box 528"/>
              <p:cNvSpPr/>
              <p:nvPr/>
            </p:nvSpPr>
            <p:spPr>
              <a:xfrm>
                <a:off x="4579920" y="24368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89" name="Group 529"/>
            <p:cNvGrpSpPr/>
            <p:nvPr/>
          </p:nvGrpSpPr>
          <p:grpSpPr>
            <a:xfrm>
              <a:off x="4443480" y="2936880"/>
              <a:ext cx="476280" cy="474480"/>
              <a:chOff x="4443480" y="2936880"/>
              <a:chExt cx="476280" cy="474480"/>
            </a:xfrm>
          </p:grpSpPr>
          <p:grpSp>
            <p:nvGrpSpPr>
              <p:cNvPr id="190" name="Group 530"/>
              <p:cNvGrpSpPr/>
              <p:nvPr/>
            </p:nvGrpSpPr>
            <p:grpSpPr>
              <a:xfrm>
                <a:off x="4443480" y="2936880"/>
                <a:ext cx="476280" cy="474480"/>
                <a:chOff x="4443480" y="2936880"/>
                <a:chExt cx="476280" cy="474480"/>
              </a:xfrm>
            </p:grpSpPr>
            <p:sp>
              <p:nvSpPr>
                <p:cNvPr id="191" name="AutoShape 531"/>
                <p:cNvSpPr/>
                <p:nvPr/>
              </p:nvSpPr>
              <p:spPr>
                <a:xfrm>
                  <a:off x="4443480" y="29368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92" name="AutoShape 532"/>
                <p:cNvSpPr/>
                <p:nvPr/>
              </p:nvSpPr>
              <p:spPr>
                <a:xfrm>
                  <a:off x="4467240" y="2962080"/>
                  <a:ext cx="426960" cy="427320"/>
                </a:xfrm>
                <a:custGeom>
                  <a:avLst/>
                  <a:gdLst>
                    <a:gd name="textAreaLeft" fmla="*/ 8280 w 426960"/>
                    <a:gd name="textAreaRight" fmla="*/ 418680 w 426960"/>
                    <a:gd name="textAreaTop" fmla="*/ 8280 h 427320"/>
                    <a:gd name="textAreaBottom" fmla="*/ 419040 h 427320"/>
                  </a:gdLst>
                  <a:ahLst/>
                  <a:rect l="textAreaLeft" t="textAreaTop" r="textAreaRight" b="textAreaBottom"/>
                  <a:pathLst>
                    <a:path w="21600" h="21618">
                      <a:moveTo>
                        <a:pt x="1445" y="0"/>
                      </a:moveTo>
                      <a:arcTo wR="1445" hR="1445" stAng="16200000" swAng="-5400000"/>
                      <a:lnTo>
                        <a:pt x="0" y="20173"/>
                      </a:lnTo>
                      <a:arcTo wR="1445" hR="1445" stAng="10800000" swAng="-5400000"/>
                      <a:lnTo>
                        <a:pt x="20155" y="21618"/>
                      </a:lnTo>
                      <a:arcTo wR="1445" hR="1445" stAng="5400000" swAng="-5400000"/>
                      <a:lnTo>
                        <a:pt x="21600" y="1445"/>
                      </a:lnTo>
                      <a:arcTo wR="1445" hR="144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193" name="Picture 533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298620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AutoShape 534"/>
                <p:cNvSpPr/>
                <p:nvPr/>
              </p:nvSpPr>
              <p:spPr>
                <a:xfrm>
                  <a:off x="4479840" y="297504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95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96" name="Group 536"/>
            <p:cNvGrpSpPr/>
            <p:nvPr/>
          </p:nvGrpSpPr>
          <p:grpSpPr>
            <a:xfrm>
              <a:off x="4443480" y="3578040"/>
              <a:ext cx="476280" cy="474840"/>
              <a:chOff x="4443480" y="3578040"/>
              <a:chExt cx="476280" cy="474840"/>
            </a:xfrm>
          </p:grpSpPr>
          <p:grpSp>
            <p:nvGrpSpPr>
              <p:cNvPr id="197" name="Group 537"/>
              <p:cNvGrpSpPr/>
              <p:nvPr/>
            </p:nvGrpSpPr>
            <p:grpSpPr>
              <a:xfrm>
                <a:off x="4443480" y="3578040"/>
                <a:ext cx="476280" cy="474840"/>
                <a:chOff x="4443480" y="3578040"/>
                <a:chExt cx="476280" cy="474840"/>
              </a:xfrm>
            </p:grpSpPr>
            <p:sp>
              <p:nvSpPr>
                <p:cNvPr id="198" name="AutoShape 538"/>
                <p:cNvSpPr/>
                <p:nvPr/>
              </p:nvSpPr>
              <p:spPr>
                <a:xfrm>
                  <a:off x="4443480" y="357804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99" name="AutoShape 539"/>
                <p:cNvSpPr/>
                <p:nvPr/>
              </p:nvSpPr>
              <p:spPr>
                <a:xfrm>
                  <a:off x="4467240" y="360360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00" name="Picture 540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362736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AutoShape 541"/>
                <p:cNvSpPr/>
                <p:nvPr/>
              </p:nvSpPr>
              <p:spPr>
                <a:xfrm>
                  <a:off x="4479840" y="361620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2" name="Text Box 542"/>
              <p:cNvSpPr/>
              <p:nvPr/>
            </p:nvSpPr>
            <p:spPr>
              <a:xfrm>
                <a:off x="4579920" y="37148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3" name="Group 543"/>
            <p:cNvGrpSpPr/>
            <p:nvPr/>
          </p:nvGrpSpPr>
          <p:grpSpPr>
            <a:xfrm>
              <a:off x="4443480" y="4221000"/>
              <a:ext cx="476280" cy="474840"/>
              <a:chOff x="4443480" y="4221000"/>
              <a:chExt cx="476280" cy="474840"/>
            </a:xfrm>
          </p:grpSpPr>
          <p:grpSp>
            <p:nvGrpSpPr>
              <p:cNvPr id="204" name="Group 544"/>
              <p:cNvGrpSpPr/>
              <p:nvPr/>
            </p:nvGrpSpPr>
            <p:grpSpPr>
              <a:xfrm>
                <a:off x="4443480" y="4221000"/>
                <a:ext cx="476280" cy="474840"/>
                <a:chOff x="4443480" y="4221000"/>
                <a:chExt cx="476280" cy="474840"/>
              </a:xfrm>
            </p:grpSpPr>
            <p:sp>
              <p:nvSpPr>
                <p:cNvPr id="205" name="AutoShape 545"/>
                <p:cNvSpPr/>
                <p:nvPr/>
              </p:nvSpPr>
              <p:spPr>
                <a:xfrm>
                  <a:off x="4443480" y="422100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6" name="AutoShape 546"/>
                <p:cNvSpPr/>
                <p:nvPr/>
              </p:nvSpPr>
              <p:spPr>
                <a:xfrm>
                  <a:off x="4467240" y="424656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07" name="Picture 547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27032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8" name="AutoShape 548"/>
                <p:cNvSpPr/>
                <p:nvPr/>
              </p:nvSpPr>
              <p:spPr>
                <a:xfrm>
                  <a:off x="4479840" y="425916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9" name="Text Box 549"/>
              <p:cNvSpPr/>
              <p:nvPr/>
            </p:nvSpPr>
            <p:spPr>
              <a:xfrm>
                <a:off x="4579920" y="4354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0" name="Group 550"/>
            <p:cNvGrpSpPr/>
            <p:nvPr/>
          </p:nvGrpSpPr>
          <p:grpSpPr>
            <a:xfrm>
              <a:off x="4443480" y="4862520"/>
              <a:ext cx="476280" cy="474480"/>
              <a:chOff x="4443480" y="4862520"/>
              <a:chExt cx="476280" cy="474480"/>
            </a:xfrm>
          </p:grpSpPr>
          <p:grpSp>
            <p:nvGrpSpPr>
              <p:cNvPr id="211" name="Group 551"/>
              <p:cNvGrpSpPr/>
              <p:nvPr/>
            </p:nvGrpSpPr>
            <p:grpSpPr>
              <a:xfrm>
                <a:off x="4443480" y="4862520"/>
                <a:ext cx="476280" cy="474480"/>
                <a:chOff x="4443480" y="4862520"/>
                <a:chExt cx="476280" cy="474480"/>
              </a:xfrm>
            </p:grpSpPr>
            <p:sp>
              <p:nvSpPr>
                <p:cNvPr id="212" name="AutoShape 552"/>
                <p:cNvSpPr/>
                <p:nvPr/>
              </p:nvSpPr>
              <p:spPr>
                <a:xfrm>
                  <a:off x="4443480" y="48625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3" name="AutoShape 553"/>
                <p:cNvSpPr/>
                <p:nvPr/>
              </p:nvSpPr>
              <p:spPr>
                <a:xfrm>
                  <a:off x="4467240" y="4887720"/>
                  <a:ext cx="426960" cy="427320"/>
                </a:xfrm>
                <a:custGeom>
                  <a:avLst/>
                  <a:gdLst>
                    <a:gd name="textAreaLeft" fmla="*/ 8280 w 426960"/>
                    <a:gd name="textAreaRight" fmla="*/ 418680 w 426960"/>
                    <a:gd name="textAreaTop" fmla="*/ 8280 h 427320"/>
                    <a:gd name="textAreaBottom" fmla="*/ 419040 h 427320"/>
                  </a:gdLst>
                  <a:ahLst/>
                  <a:rect l="textAreaLeft" t="textAreaTop" r="textAreaRight" b="textAreaBottom"/>
                  <a:pathLst>
                    <a:path w="21600" h="21618">
                      <a:moveTo>
                        <a:pt x="1445" y="0"/>
                      </a:moveTo>
                      <a:arcTo wR="1445" hR="1445" stAng="16200000" swAng="-5400000"/>
                      <a:lnTo>
                        <a:pt x="0" y="20173"/>
                      </a:lnTo>
                      <a:arcTo wR="1445" hR="1445" stAng="10800000" swAng="-5400000"/>
                      <a:lnTo>
                        <a:pt x="20155" y="21618"/>
                      </a:lnTo>
                      <a:arcTo wR="1445" hR="1445" stAng="5400000" swAng="-5400000"/>
                      <a:lnTo>
                        <a:pt x="21600" y="1445"/>
                      </a:lnTo>
                      <a:arcTo wR="1445" hR="144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14" name="Picture 554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491004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5" name="AutoShape 555"/>
                <p:cNvSpPr/>
                <p:nvPr/>
              </p:nvSpPr>
              <p:spPr>
                <a:xfrm>
                  <a:off x="4479840" y="49006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6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Group 557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8" name="Group 558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9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AutoShape 560"/>
                <p:cNvSpPr/>
                <p:nvPr/>
              </p:nvSpPr>
              <p:spPr>
                <a:xfrm>
                  <a:off x="4467240" y="5530680"/>
                  <a:ext cx="426960" cy="427320"/>
                </a:xfrm>
                <a:custGeom>
                  <a:avLst/>
                  <a:gdLst>
                    <a:gd name="textAreaLeft" fmla="*/ 8280 w 426960"/>
                    <a:gd name="textAreaRight" fmla="*/ 418680 w 426960"/>
                    <a:gd name="textAreaTop" fmla="*/ 8280 h 427320"/>
                    <a:gd name="textAreaBottom" fmla="*/ 419040 h 427320"/>
                  </a:gdLst>
                  <a:ahLst/>
                  <a:rect l="textAreaLeft" t="textAreaTop" r="textAreaRight" b="textAreaBottom"/>
                  <a:pathLst>
                    <a:path w="21600" h="21618">
                      <a:moveTo>
                        <a:pt x="1445" y="0"/>
                      </a:moveTo>
                      <a:arcTo wR="1445" hR="1445" stAng="16200000" swAng="-5400000"/>
                      <a:lnTo>
                        <a:pt x="0" y="20173"/>
                      </a:lnTo>
                      <a:arcTo wR="1445" hR="1445" stAng="10800000" swAng="-5400000"/>
                      <a:lnTo>
                        <a:pt x="20155" y="21618"/>
                      </a:lnTo>
                      <a:arcTo wR="1445" hR="1445" stAng="5400000" swAng="-5400000"/>
                      <a:lnTo>
                        <a:pt x="21600" y="1445"/>
                      </a:lnTo>
                      <a:arcTo wR="1445" hR="144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21" name="Picture 561" descr="바코드"/>
                <p:cNvPicPr/>
                <p:nvPr/>
              </p:nvPicPr>
              <p:blipFill>
                <a:blip r:embed="rId8"/>
                <a:srcRect l="16802" t="9783" r="20325" b="5978"/>
                <a:stretch/>
              </p:blipFill>
              <p:spPr>
                <a:xfrm>
                  <a:off x="4770360" y="5553000"/>
                  <a:ext cx="8244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2" name="AutoShape 562"/>
                <p:cNvSpPr/>
                <p:nvPr/>
              </p:nvSpPr>
              <p:spPr>
                <a:xfrm>
                  <a:off x="4479840" y="554364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3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224" name="TextBox 2" descr=""/>
          <p:cNvPicPr/>
          <p:nvPr/>
        </p:nvPicPr>
        <p:blipFill>
          <a:blip r:embed="rId9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2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141"/>
          <p:cNvGrpSpPr/>
          <p:nvPr/>
        </p:nvGrpSpPr>
        <p:grpSpPr>
          <a:xfrm>
            <a:off x="1427040" y="2639880"/>
            <a:ext cx="6289560" cy="788760"/>
            <a:chOff x="1427040" y="2639880"/>
            <a:chExt cx="6289560" cy="788760"/>
          </a:xfrm>
        </p:grpSpPr>
        <p:sp>
          <p:nvSpPr>
            <p:cNvPr id="227" name="AutoShape 142"/>
            <p:cNvSpPr/>
            <p:nvPr/>
          </p:nvSpPr>
          <p:spPr>
            <a:xfrm>
              <a:off x="2280960" y="2639880"/>
              <a:ext cx="5435640" cy="78876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28" name="Group 143"/>
            <p:cNvGrpSpPr/>
            <p:nvPr/>
          </p:nvGrpSpPr>
          <p:grpSpPr>
            <a:xfrm>
              <a:off x="1427040" y="2639880"/>
              <a:ext cx="790560" cy="788760"/>
              <a:chOff x="1427040" y="2639880"/>
              <a:chExt cx="790560" cy="788760"/>
            </a:xfrm>
          </p:grpSpPr>
          <p:grpSp>
            <p:nvGrpSpPr>
              <p:cNvPr id="229" name="Group 144"/>
              <p:cNvGrpSpPr/>
              <p:nvPr/>
            </p:nvGrpSpPr>
            <p:grpSpPr>
              <a:xfrm>
                <a:off x="1427040" y="2639880"/>
                <a:ext cx="790560" cy="788760"/>
                <a:chOff x="1427040" y="2639880"/>
                <a:chExt cx="790560" cy="788760"/>
              </a:xfrm>
            </p:grpSpPr>
            <p:sp>
              <p:nvSpPr>
                <p:cNvPr id="230" name="AutoShape 145"/>
                <p:cNvSpPr/>
                <p:nvPr/>
              </p:nvSpPr>
              <p:spPr>
                <a:xfrm>
                  <a:off x="1427040" y="2639880"/>
                  <a:ext cx="790560" cy="7887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1" name="AutoShape 146"/>
                <p:cNvSpPr/>
                <p:nvPr/>
              </p:nvSpPr>
              <p:spPr>
                <a:xfrm>
                  <a:off x="1466640" y="2682720"/>
                  <a:ext cx="709200" cy="709560"/>
                </a:xfrm>
                <a:custGeom>
                  <a:avLst/>
                  <a:gdLst>
                    <a:gd name="textAreaLeft" fmla="*/ 13680 w 709200"/>
                    <a:gd name="textAreaRight" fmla="*/ 695520 w 709200"/>
                    <a:gd name="textAreaTop" fmla="*/ 13680 h 709560"/>
                    <a:gd name="textAreaBottom" fmla="*/ 695880 h 709560"/>
                  </a:gdLst>
                  <a:ahLst/>
                  <a:rect l="textAreaLeft" t="textAreaTop" r="textAreaRight" b="textAreaBottom"/>
                  <a:pathLst>
                    <a:path w="21600" h="21611">
                      <a:moveTo>
                        <a:pt x="1445" y="0"/>
                      </a:moveTo>
                      <a:arcTo wR="1445" hR="1445" stAng="16200000" swAng="-5400000"/>
                      <a:lnTo>
                        <a:pt x="0" y="20166"/>
                      </a:lnTo>
                      <a:arcTo wR="1445" hR="1445" stAng="10800000" swAng="-5400000"/>
                      <a:lnTo>
                        <a:pt x="20155" y="21611"/>
                      </a:lnTo>
                      <a:arcTo wR="1445" hR="1445" stAng="5400000" swAng="-5400000"/>
                      <a:lnTo>
                        <a:pt x="21600" y="1445"/>
                      </a:lnTo>
                      <a:arcTo wR="1445" hR="1445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pic>
              <p:nvPicPr>
                <p:cNvPr id="232" name="Picture 147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2028600" y="2738160"/>
                  <a:ext cx="8208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" name="AutoShape 148"/>
                <p:cNvSpPr/>
                <p:nvPr/>
              </p:nvSpPr>
              <p:spPr>
                <a:xfrm>
                  <a:off x="148716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4" name="Text Box 149"/>
              <p:cNvSpPr/>
              <p:nvPr/>
            </p:nvSpPr>
            <p:spPr>
              <a:xfrm>
                <a:off x="1633320" y="2803320"/>
                <a:ext cx="33912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pic>
        <p:nvPicPr>
          <p:cNvPr id="235" name="TextBox 2" descr=""/>
          <p:cNvPicPr/>
          <p:nvPr/>
        </p:nvPicPr>
        <p:blipFill>
          <a:blip r:embed="rId3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965600" y="4010040"/>
            <a:ext cx="3353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굴림"/>
                <a:hlinkClick r:id="rId4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8" name="Picture 17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logo copy"/>
          <p:cNvPicPr/>
          <p:nvPr/>
        </p:nvPicPr>
        <p:blipFill>
          <a:blip r:embed="rId2"/>
          <a:srcRect l="5485" t="7252" r="13477" b="59952"/>
          <a:stretch/>
        </p:blipFill>
        <p:spPr>
          <a:xfrm>
            <a:off x="7740720" y="115920"/>
            <a:ext cx="1176120" cy="293760"/>
          </a:xfrm>
          <a:prstGeom prst="rect">
            <a:avLst/>
          </a:prstGeom>
          <a:ln w="0">
            <a:noFill/>
          </a:ln>
        </p:spPr>
      </p:pic>
      <p:pic>
        <p:nvPicPr>
          <p:cNvPr id="242" name="TextBox 2" descr=""/>
          <p:cNvPicPr/>
          <p:nvPr/>
        </p:nvPicPr>
        <p:blipFill>
          <a:blip r:embed="rId3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디자인카카오</dc:creator>
  <dc:description/>
  <dc:language>en-US</dc:language>
  <cp:lastModifiedBy>admin</cp:lastModifiedBy>
  <dcterms:modified xsi:type="dcterms:W3CDTF">2012-09-22T14:36:12Z</dcterms:modified>
  <cp:revision>19</cp:revision>
  <dc:subject/>
  <dc:title>슬라이드 1</dc:title>
</cp:coreProperties>
</file>