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6A2-6C3F-43A7-92D4-6EDE381D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C83-E4E3-43C3-8F6F-009379B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828-0D18-4A70-B24E-562F8597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417-134C-4655-9A40-00807C6B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45E4-5BA8-4C0B-A3BB-4ECF3149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9240-D5C0-46D2-B852-84D4FE89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38EA-E331-4654-94B5-87C9656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654-2848-4ED0-AB06-DBFC2CF0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2F43-17A6-4DEC-907F-18F79905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3437-E61A-470C-9936-CA0F7F40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0410-EA8B-4FF4-8E41-A156396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266-DD51-47A5-96FE-531499C4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30B4-73A9-45F5-B27F-7F8D269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62E8-F1C5-413A-A28D-2D5D61A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38A0-9EFA-4893-BCC0-95333A8D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8983-4EF5-4066-AF83-6DA9016C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5B69-AC0B-41F9-9195-DE2AA2E4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3954-D8C1-4AAF-A089-11D8650F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8F25-5BAB-4807-B1B8-56CAA8EB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6FFD-4B56-4073-BD64-D92DC10F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659A-1437-41EB-A335-F3F89AB2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E5BF-8DE5-4E16-B6DD-103A7D5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C2E-2D9E-4A18-A163-266BD9BD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07AF0-5D03-4C69-9892-6AF0B8F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85D7-DAEA-4FB3-8886-C3BD76C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3173-577A-4B4A-9DF1-C5BF2183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EFC4-DACB-4E24-9940-A4D09FC4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1D91-013A-4260-8A5A-553ADA7E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2DCCE-516F-4884-A087-1ECEB2CC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5648E-5E78-4C56-B956-A9395ED5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B989-C295-4F50-8D4D-79910580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09A1C-3781-494C-8A22-EE6B64BE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E009-0F57-4CB0-A6FF-8A08ACB6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D2C-5E90-4A3E-85C9-5BACC373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2790-4C6D-4A59-93B3-A223BBE1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9C25-8FE3-4A68-A841-724B8B04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EF0A7-DDB3-49AE-9929-0D8B0AFA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40EF-93BD-43A1-A692-6D53420E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E253-A0A5-4866-BE3A-930CB158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0B5A2-2505-4961-9E69-88EEC05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37A8-83A4-422C-82E7-06BF2C70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49415-317E-4626-9B81-612116D0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0FCD-F5C5-444F-92C5-F1A9AB38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1DA-6289-4957-8D90-4F7DBF5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FF8-A3B2-4C69-8750-9889D4B1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08F-D2BD-4226-AAB7-767C054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F7D-8068-48C5-B3B2-6A00B38D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AFE-43A3-461E-9405-367BE38E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F2F8-EE5B-4D0F-B343-7F5802C5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70B8-6CED-440C-9AA3-5FE150294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6A04-367A-4653-8BB9-48E7DFF0F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3B3B-0BDD-4C85-85F7-82B832B9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hyperlink" Target="http://www.51pptmoban.com/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8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31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70" name="WordArt 29"/>
            <p:cNvSpPr txBox="1"/>
            <p:nvPr/>
          </p:nvSpPr>
          <p:spPr>
            <a:xfrm>
              <a:off x="4683240" y="1390680"/>
              <a:ext cx="346212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굴림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171" name="WordArt 30"/>
            <p:cNvSpPr txBox="1"/>
            <p:nvPr/>
          </p:nvSpPr>
          <p:spPr>
            <a:xfrm>
              <a:off x="826920" y="1811160"/>
              <a:ext cx="7410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굴림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</p:grpSp>
      <p:pic>
        <p:nvPicPr>
          <p:cNvPr id="17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63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14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5" name="Picture 515" descr="보고순서 copy"/>
            <p:cNvPicPr/>
            <p:nvPr/>
          </p:nvPicPr>
          <p:blipFill>
            <a:blip r:embed="rId2"/>
            <a:srcRect l="4193" t="10686" r="6021" b="8028"/>
            <a:stretch/>
          </p:blipFill>
          <p:spPr>
            <a:xfrm>
              <a:off x="5335560" y="1557360"/>
              <a:ext cx="222876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516"/>
            <p:cNvSpPr/>
            <p:nvPr/>
          </p:nvSpPr>
          <p:spPr>
            <a:xfrm>
              <a:off x="4956120" y="229536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AutoShape 518"/>
            <p:cNvSpPr/>
            <p:nvPr/>
          </p:nvSpPr>
          <p:spPr>
            <a:xfrm>
              <a:off x="4956120" y="29368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AutoShape 519"/>
            <p:cNvSpPr/>
            <p:nvPr/>
          </p:nvSpPr>
          <p:spPr>
            <a:xfrm>
              <a:off x="4956120" y="357804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AutoShape 520"/>
            <p:cNvSpPr/>
            <p:nvPr/>
          </p:nvSpPr>
          <p:spPr>
            <a:xfrm>
              <a:off x="4956120" y="422100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AutoShape 521"/>
            <p:cNvSpPr/>
            <p:nvPr/>
          </p:nvSpPr>
          <p:spPr>
            <a:xfrm>
              <a:off x="4956120" y="48625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2" name="Group 522"/>
            <p:cNvGrpSpPr/>
            <p:nvPr/>
          </p:nvGrpSpPr>
          <p:grpSpPr>
            <a:xfrm>
              <a:off x="4443480" y="2295360"/>
              <a:ext cx="476280" cy="474840"/>
              <a:chOff x="4443480" y="2295360"/>
              <a:chExt cx="476280" cy="474840"/>
            </a:xfrm>
          </p:grpSpPr>
          <p:grpSp>
            <p:nvGrpSpPr>
              <p:cNvPr id="183" name="Group 523"/>
              <p:cNvGrpSpPr/>
              <p:nvPr/>
            </p:nvGrpSpPr>
            <p:grpSpPr>
              <a:xfrm>
                <a:off x="4443480" y="2295360"/>
                <a:ext cx="476280" cy="474840"/>
                <a:chOff x="4443480" y="2295360"/>
                <a:chExt cx="476280" cy="474840"/>
              </a:xfrm>
            </p:grpSpPr>
            <p:sp>
              <p:nvSpPr>
                <p:cNvPr id="184" name="AutoShape 524"/>
                <p:cNvSpPr/>
                <p:nvPr/>
              </p:nvSpPr>
              <p:spPr>
                <a:xfrm>
                  <a:off x="4443480" y="229536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5" name="AutoShape 525"/>
                <p:cNvSpPr/>
                <p:nvPr/>
              </p:nvSpPr>
              <p:spPr>
                <a:xfrm>
                  <a:off x="4467240" y="232092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86" name="Picture 526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3432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AutoShape 527"/>
                <p:cNvSpPr/>
                <p:nvPr/>
              </p:nvSpPr>
              <p:spPr>
                <a:xfrm>
                  <a:off x="4479840" y="233352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8" name="Text Box 528"/>
              <p:cNvSpPr/>
              <p:nvPr/>
            </p:nvSpPr>
            <p:spPr>
              <a:xfrm>
                <a:off x="4579920" y="2436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9" name="Group 529"/>
            <p:cNvGrpSpPr/>
            <p:nvPr/>
          </p:nvGrpSpPr>
          <p:grpSpPr>
            <a:xfrm>
              <a:off x="4443480" y="2936880"/>
              <a:ext cx="476280" cy="474480"/>
              <a:chOff x="4443480" y="2936880"/>
              <a:chExt cx="476280" cy="474480"/>
            </a:xfrm>
          </p:grpSpPr>
          <p:grpSp>
            <p:nvGrpSpPr>
              <p:cNvPr id="190" name="Group 530"/>
              <p:cNvGrpSpPr/>
              <p:nvPr/>
            </p:nvGrpSpPr>
            <p:grpSpPr>
              <a:xfrm>
                <a:off x="4443480" y="2936880"/>
                <a:ext cx="476280" cy="474480"/>
                <a:chOff x="4443480" y="2936880"/>
                <a:chExt cx="476280" cy="474480"/>
              </a:xfrm>
            </p:grpSpPr>
            <p:sp>
              <p:nvSpPr>
                <p:cNvPr id="191" name="AutoShape 531"/>
                <p:cNvSpPr/>
                <p:nvPr/>
              </p:nvSpPr>
              <p:spPr>
                <a:xfrm>
                  <a:off x="4443480" y="29368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2" name="AutoShape 532"/>
                <p:cNvSpPr/>
                <p:nvPr/>
              </p:nvSpPr>
              <p:spPr>
                <a:xfrm>
                  <a:off x="4467240" y="29620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93" name="Picture 533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29862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534"/>
                <p:cNvSpPr/>
                <p:nvPr/>
              </p:nvSpPr>
              <p:spPr>
                <a:xfrm>
                  <a:off x="4479840" y="29750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95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6" name="Group 536"/>
            <p:cNvGrpSpPr/>
            <p:nvPr/>
          </p:nvGrpSpPr>
          <p:grpSpPr>
            <a:xfrm>
              <a:off x="4443480" y="3578040"/>
              <a:ext cx="476280" cy="474840"/>
              <a:chOff x="4443480" y="3578040"/>
              <a:chExt cx="476280" cy="474840"/>
            </a:xfrm>
          </p:grpSpPr>
          <p:grpSp>
            <p:nvGrpSpPr>
              <p:cNvPr id="197" name="Group 537"/>
              <p:cNvGrpSpPr/>
              <p:nvPr/>
            </p:nvGrpSpPr>
            <p:grpSpPr>
              <a:xfrm>
                <a:off x="4443480" y="3578040"/>
                <a:ext cx="476280" cy="474840"/>
                <a:chOff x="4443480" y="3578040"/>
                <a:chExt cx="476280" cy="474840"/>
              </a:xfrm>
            </p:grpSpPr>
            <p:sp>
              <p:nvSpPr>
                <p:cNvPr id="198" name="AutoShape 538"/>
                <p:cNvSpPr/>
                <p:nvPr/>
              </p:nvSpPr>
              <p:spPr>
                <a:xfrm>
                  <a:off x="4443480" y="357804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9" name="AutoShape 539"/>
                <p:cNvSpPr/>
                <p:nvPr/>
              </p:nvSpPr>
              <p:spPr>
                <a:xfrm>
                  <a:off x="4467240" y="360360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0" name="Picture 540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36273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AutoShape 541"/>
                <p:cNvSpPr/>
                <p:nvPr/>
              </p:nvSpPr>
              <p:spPr>
                <a:xfrm>
                  <a:off x="4479840" y="361620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2" name="Text Box 542"/>
              <p:cNvSpPr/>
              <p:nvPr/>
            </p:nvSpPr>
            <p:spPr>
              <a:xfrm>
                <a:off x="4579920" y="3714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3" name="Group 543"/>
            <p:cNvGrpSpPr/>
            <p:nvPr/>
          </p:nvGrpSpPr>
          <p:grpSpPr>
            <a:xfrm>
              <a:off x="4443480" y="4221000"/>
              <a:ext cx="476280" cy="474840"/>
              <a:chOff x="4443480" y="4221000"/>
              <a:chExt cx="476280" cy="474840"/>
            </a:xfrm>
          </p:grpSpPr>
          <p:grpSp>
            <p:nvGrpSpPr>
              <p:cNvPr id="204" name="Group 544"/>
              <p:cNvGrpSpPr/>
              <p:nvPr/>
            </p:nvGrpSpPr>
            <p:grpSpPr>
              <a:xfrm>
                <a:off x="4443480" y="4221000"/>
                <a:ext cx="476280" cy="474840"/>
                <a:chOff x="4443480" y="4221000"/>
                <a:chExt cx="476280" cy="474840"/>
              </a:xfrm>
            </p:grpSpPr>
            <p:sp>
              <p:nvSpPr>
                <p:cNvPr id="205" name="AutoShape 545"/>
                <p:cNvSpPr/>
                <p:nvPr/>
              </p:nvSpPr>
              <p:spPr>
                <a:xfrm>
                  <a:off x="4443480" y="422100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AutoShape 546"/>
                <p:cNvSpPr/>
                <p:nvPr/>
              </p:nvSpPr>
              <p:spPr>
                <a:xfrm>
                  <a:off x="4467240" y="424656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7" name="Picture 547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27032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AutoShape 548"/>
                <p:cNvSpPr/>
                <p:nvPr/>
              </p:nvSpPr>
              <p:spPr>
                <a:xfrm>
                  <a:off x="4479840" y="425916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9" name="Text Box 549"/>
              <p:cNvSpPr/>
              <p:nvPr/>
            </p:nvSpPr>
            <p:spPr>
              <a:xfrm>
                <a:off x="4579920" y="4354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0" name="Group 550"/>
            <p:cNvGrpSpPr/>
            <p:nvPr/>
          </p:nvGrpSpPr>
          <p:grpSpPr>
            <a:xfrm>
              <a:off x="4443480" y="4862520"/>
              <a:ext cx="476280" cy="474480"/>
              <a:chOff x="4443480" y="4862520"/>
              <a:chExt cx="476280" cy="474480"/>
            </a:xfrm>
          </p:grpSpPr>
          <p:grpSp>
            <p:nvGrpSpPr>
              <p:cNvPr id="211" name="Group 551"/>
              <p:cNvGrpSpPr/>
              <p:nvPr/>
            </p:nvGrpSpPr>
            <p:grpSpPr>
              <a:xfrm>
                <a:off x="4443480" y="4862520"/>
                <a:ext cx="476280" cy="474480"/>
                <a:chOff x="4443480" y="4862520"/>
                <a:chExt cx="476280" cy="474480"/>
              </a:xfrm>
            </p:grpSpPr>
            <p:sp>
              <p:nvSpPr>
                <p:cNvPr id="212" name="AutoShape 552"/>
                <p:cNvSpPr/>
                <p:nvPr/>
              </p:nvSpPr>
              <p:spPr>
                <a:xfrm>
                  <a:off x="4443480" y="48625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AutoShape 553"/>
                <p:cNvSpPr/>
                <p:nvPr/>
              </p:nvSpPr>
              <p:spPr>
                <a:xfrm>
                  <a:off x="4467240" y="488772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14" name="Picture 554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49100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AutoShape 555"/>
                <p:cNvSpPr/>
                <p:nvPr/>
              </p:nvSpPr>
              <p:spPr>
                <a:xfrm>
                  <a:off x="4479840" y="49006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Group 557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8" name="Group 558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9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AutoShape 560"/>
                <p:cNvSpPr/>
                <p:nvPr/>
              </p:nvSpPr>
              <p:spPr>
                <a:xfrm>
                  <a:off x="4467240" y="55306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21" name="Picture 561" descr="바코드"/>
                <p:cNvPicPr/>
                <p:nvPr/>
              </p:nvPicPr>
              <p:blipFill>
                <a:blip r:embed="rId8"/>
                <a:srcRect l="16802" t="9783" r="20325" b="5978"/>
                <a:stretch/>
              </p:blipFill>
              <p:spPr>
                <a:xfrm>
                  <a:off x="4770360" y="55530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AutoShape 562"/>
                <p:cNvSpPr/>
                <p:nvPr/>
              </p:nvSpPr>
              <p:spPr>
                <a:xfrm>
                  <a:off x="4479840" y="55436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3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24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41"/>
          <p:cNvGrpSpPr/>
          <p:nvPr/>
        </p:nvGrpSpPr>
        <p:grpSpPr>
          <a:xfrm>
            <a:off x="1427040" y="2639880"/>
            <a:ext cx="6289560" cy="788760"/>
            <a:chOff x="1427040" y="2639880"/>
            <a:chExt cx="6289560" cy="788760"/>
          </a:xfrm>
        </p:grpSpPr>
        <p:sp>
          <p:nvSpPr>
            <p:cNvPr id="227" name="AutoShape 142"/>
            <p:cNvSpPr/>
            <p:nvPr/>
          </p:nvSpPr>
          <p:spPr>
            <a:xfrm>
              <a:off x="2280960" y="2639880"/>
              <a:ext cx="543564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8" name="Group 143"/>
            <p:cNvGrpSpPr/>
            <p:nvPr/>
          </p:nvGrpSpPr>
          <p:grpSpPr>
            <a:xfrm>
              <a:off x="1427040" y="2639880"/>
              <a:ext cx="790560" cy="788760"/>
              <a:chOff x="1427040" y="2639880"/>
              <a:chExt cx="790560" cy="788760"/>
            </a:xfrm>
          </p:grpSpPr>
          <p:grpSp>
            <p:nvGrpSpPr>
              <p:cNvPr id="229" name="Group 144"/>
              <p:cNvGrpSpPr/>
              <p:nvPr/>
            </p:nvGrpSpPr>
            <p:grpSpPr>
              <a:xfrm>
                <a:off x="1427040" y="2639880"/>
                <a:ext cx="790560" cy="788760"/>
                <a:chOff x="1427040" y="2639880"/>
                <a:chExt cx="790560" cy="788760"/>
              </a:xfrm>
            </p:grpSpPr>
            <p:sp>
              <p:nvSpPr>
                <p:cNvPr id="230" name="AutoShape 145"/>
                <p:cNvSpPr/>
                <p:nvPr/>
              </p:nvSpPr>
              <p:spPr>
                <a:xfrm>
                  <a:off x="1427040" y="2639880"/>
                  <a:ext cx="790560" cy="7887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1" name="AutoShape 146"/>
                <p:cNvSpPr/>
                <p:nvPr/>
              </p:nvSpPr>
              <p:spPr>
                <a:xfrm>
                  <a:off x="1466640" y="2682720"/>
                  <a:ext cx="709200" cy="709560"/>
                </a:xfrm>
                <a:custGeom>
                  <a:avLst/>
                  <a:gdLst>
                    <a:gd name="textAreaLeft" fmla="*/ 13680 w 709200"/>
                    <a:gd name="textAreaRight" fmla="*/ 695520 w 709200"/>
                    <a:gd name="textAreaTop" fmla="*/ 13680 h 709560"/>
                    <a:gd name="textAreaBottom" fmla="*/ 695880 h 709560"/>
                  </a:gdLst>
                  <a:ahLst/>
                  <a:rect l="textAreaLeft" t="textAreaTop" r="textAreaRight" b="textAreaBottom"/>
                  <a:pathLst>
                    <a:path w="21600" h="21611">
                      <a:moveTo>
                        <a:pt x="1445" y="0"/>
                      </a:moveTo>
                      <a:arcTo wR="1445" hR="1445" stAng="16200000" swAng="-5400000"/>
                      <a:lnTo>
                        <a:pt x="0" y="20166"/>
                      </a:lnTo>
                      <a:arcTo wR="1445" hR="1445" stAng="10800000" swAng="-5400000"/>
                      <a:lnTo>
                        <a:pt x="20155" y="21611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32" name="Picture 147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2028600" y="2738160"/>
                  <a:ext cx="8208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AutoShape 148"/>
                <p:cNvSpPr/>
                <p:nvPr/>
              </p:nvSpPr>
              <p:spPr>
                <a:xfrm>
                  <a:off x="148716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4" name="Text Box 149"/>
              <p:cNvSpPr/>
              <p:nvPr/>
            </p:nvSpPr>
            <p:spPr>
              <a:xfrm>
                <a:off x="1633320" y="2803320"/>
                <a:ext cx="33912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35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65600" y="401004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Picture 17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logo copy"/>
          <p:cNvPicPr/>
          <p:nvPr/>
        </p:nvPicPr>
        <p:blipFill>
          <a:blip r:embed="rId2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디자인카카오</dc:creator>
  <dc:description/>
  <dc:language>en-US</dc:language>
  <cp:lastModifiedBy>admin</cp:lastModifiedBy>
  <dcterms:modified xsi:type="dcterms:W3CDTF">2012-09-22T14:36:12Z</dcterms:modified>
  <cp:revision>19</cp:revision>
  <dc:subject/>
  <dc:title>슬라이드 1</dc:title>
</cp:coreProperties>
</file>