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0FB-71EB-40DC-A48F-76BC4B03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1BB-0281-46C7-8356-77EE22CE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608-886A-4761-A4C9-7734C5CC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247-03A3-487B-A74F-ABA8E14F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72A9-EA74-455E-B25C-E8E7A5FF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136A-063D-4B87-9723-A7F819C4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F51C-CFD8-4DF3-A3FE-3678D972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EBBF-7E51-4F31-B61D-17859DBB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F821-83BC-4137-9B8A-203C35B7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6108-39DA-4487-8518-04ECA9FF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758C-55C0-426B-8656-CCE21F33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3C0-717B-4A34-B424-0EBCF7B9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3EFF-19D9-4A64-9E62-3C94507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494A-0CA2-4F7B-9C16-BA25B0B0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F1B8-AC99-4454-AE46-6B7D411C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103E-42C3-476C-BE70-72CAB0F0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DFDB-56DF-420D-9B30-FAF217A1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CFE2-21C9-4956-81BE-0548A8D0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D562-E1BB-41C0-98BE-06DFF602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43FBC-CBCB-4C9E-A8D9-D27DCD3C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316D-D563-4FF3-84E1-28B418F7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FAF2-D523-448B-B5AF-2B74B76F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074-8F0A-417F-881F-44C5308D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80B6-0A3E-45E7-9AFB-98011608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B5C4-0034-42D6-A85B-72B1B59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5EFF-EB8F-4823-ACFE-C0A360F8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4877-2453-451A-AE6C-E1F170B8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0C1D-03C4-4F50-B091-A85B2FA1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E76D-7294-4F1E-9FE2-0A319FD4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4B71-B5EA-4EBF-B808-23B7FF04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1E5-6EE1-4B0E-8175-40469A86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0EC-CC70-49EA-9AFC-1AAB62E1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7E0-7B44-4060-9D3D-C4E70FFA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62C-00AF-4885-9EC3-44BBC59F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0E3-E6CD-49A7-997A-89444EE8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13B-9C23-40C6-B055-D30AC55A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5D8-27A6-49D9-9E0C-B6713A01D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4583-A379-41B6-A708-AC30951F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8692-14FD-40D7-882E-EC5289EB3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75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76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Puzzle2"/>
              <p:cNvSpPr/>
              <p:nvPr/>
            </p:nvSpPr>
            <p:spPr>
              <a:xfrm>
                <a:off x="4043880" y="3446640"/>
                <a:ext cx="2772360" cy="2124360"/>
              </a:xfrm>
              <a:prstGeom prst="pie">
                <a:avLst/>
              </a:pr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Puzzle4"/>
              <p:cNvSpPr/>
              <p:nvPr/>
            </p:nvSpPr>
            <p:spPr>
              <a:xfrm>
                <a:off x="2972880" y="3420360"/>
                <a:ext cx="1676160" cy="2708280"/>
              </a:xfrm>
              <a:prstGeom prst="pi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2635200" y="3191040"/>
            <a:ext cx="1447920" cy="195408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 rot="7200000">
            <a:off x="4326840" y="2110680"/>
            <a:ext cx="1365120" cy="20714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88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 rot="7200000">
              <a:off x="3112920" y="2765160"/>
              <a:ext cx="1505160" cy="80640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 rot="7200000">
              <a:off x="4186080" y="1838160"/>
              <a:ext cx="622440" cy="11397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Freeform 9"/>
          <p:cNvSpPr/>
          <p:nvPr/>
        </p:nvSpPr>
        <p:spPr>
          <a:xfrm rot="14400000">
            <a:off x="4440600" y="3963960"/>
            <a:ext cx="1365480" cy="2071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93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 rot="14400000">
              <a:off x="4921920" y="3654720"/>
              <a:ext cx="1504800" cy="804600"/>
            </a:xfrm>
            <a:prstGeom prst="pie">
              <a:avLst/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"/>
            <p:cNvSpPr/>
            <p:nvPr/>
          </p:nvSpPr>
          <p:spPr>
            <a:xfrm rot="14400000">
              <a:off x="5743440" y="4408200"/>
              <a:ext cx="549360" cy="1139760"/>
            </a:xfrm>
            <a:prstGeom prst="pie">
              <a:avLst/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97" name="Freeform 15"/>
            <p:cNvSpPr/>
            <p:nvPr/>
          </p:nvSpPr>
          <p:spPr>
            <a:xfrm>
              <a:off x="2627280" y="4395960"/>
              <a:ext cx="581400" cy="109980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3151440" y="4718520"/>
              <a:ext cx="1596600" cy="77688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05" name="Freeform 4"/>
            <p:cNvSpPr/>
            <p:nvPr/>
          </p:nvSpPr>
          <p:spPr>
            <a:xfrm>
              <a:off x="2751480" y="3836160"/>
              <a:ext cx="4464720" cy="140544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>
              <a:off x="3587400" y="2346480"/>
              <a:ext cx="3619440" cy="178632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1959120" y="2742840"/>
              <a:ext cx="1977840" cy="2013120"/>
            </a:xfrm>
            <a:prstGeom prst="pie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09" name="Freeform 8"/>
            <p:cNvSpPr/>
            <p:nvPr/>
          </p:nvSpPr>
          <p:spPr>
            <a:xfrm>
              <a:off x="2686680" y="3720960"/>
              <a:ext cx="4529880" cy="1368720"/>
            </a:xfrm>
            <a:prstGeom prst="pie">
              <a:avLst/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>
              <a:off x="3534840" y="2270160"/>
              <a:ext cx="3672000" cy="1739520"/>
            </a:xfrm>
            <a:prstGeom prst="pie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1882800" y="2656080"/>
              <a:ext cx="2006280" cy="1960200"/>
            </a:xfrm>
            <a:prstGeom prst="pi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4"/>
          <p:cNvSpPr/>
          <p:nvPr/>
        </p:nvSpPr>
        <p:spPr>
          <a:xfrm>
            <a:off x="2378160" y="3760920"/>
            <a:ext cx="1900080" cy="137628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5"/>
          <p:cNvSpPr/>
          <p:nvPr/>
        </p:nvSpPr>
        <p:spPr>
          <a:xfrm>
            <a:off x="4297320" y="3695760"/>
            <a:ext cx="366840" cy="156204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6"/>
          <p:cNvSpPr/>
          <p:nvPr/>
        </p:nvSpPr>
        <p:spPr>
          <a:xfrm flipH="1">
            <a:off x="4696560" y="3760920"/>
            <a:ext cx="1900440" cy="1376280"/>
          </a:xfrm>
          <a:prstGeom prst="pie">
            <a:avLst/>
          </a:pr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22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1955880" y="277344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26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3881520" y="277344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29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"/>
            <p:cNvSpPr/>
            <p:nvPr/>
          </p:nvSpPr>
          <p:spPr>
            <a:xfrm>
              <a:off x="5851440" y="2782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"/>
          <p:cNvSpPr/>
          <p:nvPr/>
        </p:nvSpPr>
        <p:spPr>
          <a:xfrm flipH="1">
            <a:off x="2082240" y="4460760"/>
            <a:ext cx="1717560" cy="538200"/>
          </a:xfrm>
          <a:prstGeom prst="pie">
            <a:avLst/>
          </a:pr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4"/>
          <p:cNvSpPr/>
          <p:nvPr/>
        </p:nvSpPr>
        <p:spPr>
          <a:xfrm flipH="1">
            <a:off x="3363840" y="4951440"/>
            <a:ext cx="1743120" cy="658800"/>
          </a:xfrm>
          <a:prstGeom prst="pie">
            <a:avLst/>
          </a:pr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5"/>
          <p:cNvSpPr/>
          <p:nvPr/>
        </p:nvSpPr>
        <p:spPr>
          <a:xfrm flipH="1">
            <a:off x="6614280" y="2868480"/>
            <a:ext cx="324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6"/>
          <p:cNvSpPr/>
          <p:nvPr/>
        </p:nvSpPr>
        <p:spPr>
          <a:xfrm flipH="1">
            <a:off x="5569920" y="2687760"/>
            <a:ext cx="657000" cy="63180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"/>
          <p:cNvSpPr/>
          <p:nvPr/>
        </p:nvSpPr>
        <p:spPr>
          <a:xfrm flipH="1">
            <a:off x="6375240" y="2552760"/>
            <a:ext cx="1067040" cy="62856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"/>
          <p:cNvSpPr/>
          <p:nvPr/>
        </p:nvSpPr>
        <p:spPr>
          <a:xfrm flipH="1">
            <a:off x="6770520" y="2868480"/>
            <a:ext cx="154080" cy="1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9"/>
          <p:cNvSpPr/>
          <p:nvPr/>
        </p:nvSpPr>
        <p:spPr>
          <a:xfrm flipH="1">
            <a:off x="6614280" y="2865600"/>
            <a:ext cx="163800" cy="12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0"/>
          <p:cNvSpPr/>
          <p:nvPr/>
        </p:nvSpPr>
        <p:spPr>
          <a:xfrm flipH="1">
            <a:off x="4572000" y="2824200"/>
            <a:ext cx="712800" cy="49068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1"/>
          <p:cNvSpPr/>
          <p:nvPr/>
        </p:nvSpPr>
        <p:spPr>
          <a:xfrm flipH="1">
            <a:off x="5811840" y="3092400"/>
            <a:ext cx="15840" cy="223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2"/>
          <p:cNvSpPr/>
          <p:nvPr/>
        </p:nvSpPr>
        <p:spPr>
          <a:xfrm flipH="1">
            <a:off x="5330880" y="3067200"/>
            <a:ext cx="1154160" cy="50004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3"/>
          <p:cNvSpPr/>
          <p:nvPr/>
        </p:nvSpPr>
        <p:spPr>
          <a:xfrm flipH="1">
            <a:off x="3960720" y="3247920"/>
            <a:ext cx="1222560" cy="58572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4"/>
          <p:cNvSpPr/>
          <p:nvPr/>
        </p:nvSpPr>
        <p:spPr>
          <a:xfrm flipH="1">
            <a:off x="4932360" y="3535200"/>
            <a:ext cx="55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>
            <a:off x="4384800" y="3994200"/>
            <a:ext cx="15840" cy="31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6"/>
          <p:cNvSpPr/>
          <p:nvPr/>
        </p:nvSpPr>
        <p:spPr>
          <a:xfrm flipH="1">
            <a:off x="4109400" y="3940200"/>
            <a:ext cx="104760" cy="37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7"/>
          <p:cNvSpPr/>
          <p:nvPr/>
        </p:nvSpPr>
        <p:spPr>
          <a:xfrm flipH="1">
            <a:off x="3365640" y="3946680"/>
            <a:ext cx="1738080" cy="92052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8"/>
          <p:cNvSpPr/>
          <p:nvPr/>
        </p:nvSpPr>
        <p:spPr>
          <a:xfrm flipH="1">
            <a:off x="6387480" y="2546280"/>
            <a:ext cx="772920" cy="16668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9"/>
          <p:cNvSpPr/>
          <p:nvPr/>
        </p:nvSpPr>
        <p:spPr>
          <a:xfrm flipH="1">
            <a:off x="5573880" y="2682720"/>
            <a:ext cx="653760" cy="2430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0"/>
          <p:cNvSpPr/>
          <p:nvPr/>
        </p:nvSpPr>
        <p:spPr>
          <a:xfrm flipH="1">
            <a:off x="6443640" y="2805120"/>
            <a:ext cx="1008000" cy="19224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1"/>
          <p:cNvSpPr/>
          <p:nvPr/>
        </p:nvSpPr>
        <p:spPr>
          <a:xfrm flipH="1">
            <a:off x="4572000" y="2819520"/>
            <a:ext cx="714240" cy="2952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2"/>
          <p:cNvSpPr/>
          <p:nvPr/>
        </p:nvSpPr>
        <p:spPr>
          <a:xfrm flipH="1">
            <a:off x="5333400" y="3060720"/>
            <a:ext cx="1152360" cy="2919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3"/>
          <p:cNvSpPr/>
          <p:nvPr/>
        </p:nvSpPr>
        <p:spPr>
          <a:xfrm flipH="1">
            <a:off x="3960720" y="3206880"/>
            <a:ext cx="1222560" cy="3888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4"/>
          <p:cNvSpPr/>
          <p:nvPr/>
        </p:nvSpPr>
        <p:spPr>
          <a:xfrm flipH="1">
            <a:off x="3044880" y="3498840"/>
            <a:ext cx="154080" cy="3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5"/>
          <p:cNvSpPr/>
          <p:nvPr/>
        </p:nvSpPr>
        <p:spPr>
          <a:xfrm flipH="1">
            <a:off x="2251800" y="3595680"/>
            <a:ext cx="1739880" cy="736560"/>
          </a:xfrm>
          <a:prstGeom prst="pie">
            <a:avLst/>
          </a:pr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6"/>
          <p:cNvSpPr/>
          <p:nvPr/>
        </p:nvSpPr>
        <p:spPr>
          <a:xfrm flipH="1">
            <a:off x="2252520" y="3460680"/>
            <a:ext cx="1719360" cy="5367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27"/>
          <p:cNvSpPr/>
          <p:nvPr/>
        </p:nvSpPr>
        <p:spPr>
          <a:xfrm flipH="1">
            <a:off x="3363840" y="3902040"/>
            <a:ext cx="1743120" cy="65880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63" name="Freeform 29"/>
            <p:cNvSpPr/>
            <p:nvPr/>
          </p:nvSpPr>
          <p:spPr>
            <a:xfrm flipH="1">
              <a:off x="1118520" y="5315040"/>
              <a:ext cx="2197080" cy="933120"/>
            </a:xfrm>
            <a:prstGeom prst="pie">
              <a:avLst/>
            </a:pr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flipH="1">
              <a:off x="2723400" y="4305240"/>
              <a:ext cx="165240" cy="41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flipH="1">
              <a:off x="1119240" y="4419360"/>
              <a:ext cx="2233440" cy="11304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flipH="1">
              <a:off x="1118520" y="4267080"/>
              <a:ext cx="2197080" cy="93348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Freeform 33"/>
          <p:cNvSpPr/>
          <p:nvPr/>
        </p:nvSpPr>
        <p:spPr>
          <a:xfrm>
            <a:off x="5651640" y="1843200"/>
            <a:ext cx="517320" cy="14745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69" name="Freeform 35"/>
            <p:cNvSpPr/>
            <p:nvPr/>
          </p:nvSpPr>
          <p:spPr>
            <a:xfrm>
              <a:off x="1884240" y="2484360"/>
              <a:ext cx="759960" cy="255204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2248560" y="2904120"/>
              <a:ext cx="206640" cy="552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72" name="Freeform 38"/>
            <p:cNvSpPr/>
            <p:nvPr/>
          </p:nvSpPr>
          <p:spPr>
            <a:xfrm>
              <a:off x="4765680" y="1843200"/>
              <a:ext cx="374400" cy="1132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>
              <a:off x="4898160" y="2010960"/>
              <a:ext cx="87480" cy="20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75" name="Freeform 41"/>
            <p:cNvSpPr/>
            <p:nvPr/>
          </p:nvSpPr>
          <p:spPr>
            <a:xfrm>
              <a:off x="3863880" y="2309760"/>
              <a:ext cx="726840" cy="22143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>
              <a:off x="4125600" y="2618280"/>
              <a:ext cx="167400" cy="44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43"/>
          <p:cNvSpPr/>
          <p:nvPr/>
        </p:nvSpPr>
        <p:spPr>
          <a:xfrm>
            <a:off x="6608880" y="1733400"/>
            <a:ext cx="398520" cy="9399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 flipH="1">
            <a:off x="4832280" y="2846520"/>
            <a:ext cx="3168720" cy="2895480"/>
          </a:xfrm>
          <a:prstGeom prst="pie">
            <a:avLst/>
          </a:pr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48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6"/>
            <p:cNvSpPr/>
            <p:nvPr/>
          </p:nvSpPr>
          <p:spPr>
            <a:xfrm rot="16200000">
              <a:off x="3194640" y="2084040"/>
              <a:ext cx="1557000" cy="13539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9"/>
            <p:cNvSpPr/>
            <p:nvPr/>
          </p:nvSpPr>
          <p:spPr>
            <a:xfrm rot="16200000">
              <a:off x="1843200" y="2083320"/>
              <a:ext cx="1557000" cy="1351800"/>
            </a:xfrm>
            <a:prstGeom prst="hexagon">
              <a:avLst>
                <a:gd name="adj" fmla="val 28826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"/>
            <p:cNvSpPr/>
            <p:nvPr/>
          </p:nvSpPr>
          <p:spPr>
            <a:xfrm rot="16200000">
              <a:off x="1843920" y="438408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49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49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prstGeom prst="pie">
                <a:avLst/>
              </a:pr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prstGeom prst="pie">
                <a:avLst/>
              </a:pr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prstGeom prst="pie">
                <a:avLst/>
              </a:pr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0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prstGeom prst="pie">
                <a:avLst/>
              </a:pr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prstGeom prst="pie">
                <a:avLst/>
              </a:pr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prstGeom prst="pie">
                <a:avLst/>
              </a:pr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0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prstGeom prst="pie">
                <a:avLst/>
              </a:pr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prstGeom prst="pie">
                <a:avLst/>
              </a:pr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prstGeom prst="pie">
                <a:avLst/>
              </a:pr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0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prstGeom prst="pie">
                <a:avLst/>
              </a:pr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prstGeom prst="pie">
                <a:avLst/>
              </a:pr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prstGeom prst="pie">
            <a:avLst/>
          </a:pr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prstGeom prst="pie">
            <a:avLst/>
          </a:pr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824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882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09080"/>
            <a:chOff x="1100160" y="1905120"/>
            <a:chExt cx="1879200" cy="190908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8440" y="19069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9" name="Oval 5"/>
            <p:cNvGrpSpPr/>
            <p:nvPr/>
          </p:nvGrpSpPr>
          <p:grpSpPr>
            <a:xfrm>
              <a:off x="1100160" y="1905120"/>
              <a:ext cx="1874880" cy="1825200"/>
              <a:chOff x="1100160" y="1905120"/>
              <a:chExt cx="1874880" cy="1825200"/>
            </a:xfrm>
          </p:grpSpPr>
          <p:pic>
            <p:nvPicPr>
              <p:cNvPr id="260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512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1380960" y="217404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Freeform 6"/>
            <p:cNvSpPr/>
            <p:nvPr/>
          </p:nvSpPr>
          <p:spPr>
            <a:xfrm>
              <a:off x="1301400" y="1944000"/>
              <a:ext cx="14598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7"/>
            <p:cNvGrpSpPr/>
            <p:nvPr/>
          </p:nvGrpSpPr>
          <p:grpSpPr>
            <a:xfrm>
              <a:off x="1240920" y="3160440"/>
              <a:ext cx="1640880" cy="653760"/>
              <a:chOff x="1240920" y="3160440"/>
              <a:chExt cx="1640880" cy="653760"/>
            </a:xfrm>
          </p:grpSpPr>
          <p:grpSp>
            <p:nvGrpSpPr>
              <p:cNvPr id="264" name="Group 8"/>
              <p:cNvGrpSpPr/>
              <p:nvPr/>
            </p:nvGrpSpPr>
            <p:grpSpPr>
              <a:xfrm>
                <a:off x="1527120" y="3160440"/>
                <a:ext cx="1354680" cy="613440"/>
                <a:chOff x="1527120" y="3160440"/>
                <a:chExt cx="1354680" cy="613440"/>
              </a:xfrm>
            </p:grpSpPr>
            <p:sp>
              <p:nvSpPr>
                <p:cNvPr id="265" name="AutoShape 9"/>
                <p:cNvSpPr/>
                <p:nvPr/>
              </p:nvSpPr>
              <p:spPr>
                <a:xfrm flipH="1" flipV="1" rot="3964800">
                  <a:off x="2266200" y="297468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0"/>
                <p:cNvSpPr/>
                <p:nvPr/>
              </p:nvSpPr>
              <p:spPr>
                <a:xfrm flipH="1" flipV="1" rot="4780200">
                  <a:off x="2114280" y="30351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11"/>
                <p:cNvSpPr/>
                <p:nvPr/>
              </p:nvSpPr>
              <p:spPr>
                <a:xfrm flipH="1" flipV="1" rot="5076000">
                  <a:off x="2020680" y="30481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12"/>
                <p:cNvSpPr/>
                <p:nvPr/>
              </p:nvSpPr>
              <p:spPr>
                <a:xfrm flipH="1" flipV="1" rot="5608200">
                  <a:off x="1907640" y="30585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13"/>
              <p:cNvGrpSpPr/>
              <p:nvPr/>
            </p:nvGrpSpPr>
            <p:grpSpPr>
              <a:xfrm>
                <a:off x="1240920" y="3170160"/>
                <a:ext cx="1352520" cy="644040"/>
                <a:chOff x="1240920" y="3170160"/>
                <a:chExt cx="1352520" cy="644040"/>
              </a:xfrm>
            </p:grpSpPr>
            <p:sp>
              <p:nvSpPr>
                <p:cNvPr id="270" name="AutoShape 14"/>
                <p:cNvSpPr/>
                <p:nvPr/>
              </p:nvSpPr>
              <p:spPr>
                <a:xfrm flipH="1" flipV="1" rot="5317800">
                  <a:off x="1980000" y="305892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5"/>
                <p:cNvSpPr/>
                <p:nvPr/>
              </p:nvSpPr>
              <p:spPr>
                <a:xfrm flipH="1" flipV="1" rot="6133800">
                  <a:off x="1815120" y="30571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16"/>
                <p:cNvSpPr/>
                <p:nvPr/>
              </p:nvSpPr>
              <p:spPr>
                <a:xfrm flipH="1" flipV="1" rot="6429000">
                  <a:off x="1724760" y="30330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7"/>
                <p:cNvSpPr/>
                <p:nvPr/>
              </p:nvSpPr>
              <p:spPr>
                <a:xfrm flipH="1" flipV="1" rot="6961200">
                  <a:off x="1616040" y="30002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18"/>
          <p:cNvGrpSpPr/>
          <p:nvPr/>
        </p:nvGrpSpPr>
        <p:grpSpPr>
          <a:xfrm>
            <a:off x="1147680" y="4260960"/>
            <a:ext cx="1879200" cy="1913040"/>
            <a:chOff x="1147680" y="4260960"/>
            <a:chExt cx="1879200" cy="1913040"/>
          </a:xfrm>
        </p:grpSpPr>
        <p:pic>
          <p:nvPicPr>
            <p:cNvPr id="275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55960" y="4266720"/>
              <a:ext cx="187092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Oval 20"/>
            <p:cNvGrpSpPr/>
            <p:nvPr/>
          </p:nvGrpSpPr>
          <p:grpSpPr>
            <a:xfrm>
              <a:off x="1147680" y="4260960"/>
              <a:ext cx="1874880" cy="1825200"/>
              <a:chOff x="1147680" y="4260960"/>
              <a:chExt cx="1874880" cy="1825200"/>
            </a:xfrm>
          </p:grpSpPr>
          <p:pic>
            <p:nvPicPr>
              <p:cNvPr id="277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1427400" y="453276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21"/>
            <p:cNvSpPr/>
            <p:nvPr/>
          </p:nvSpPr>
          <p:spPr>
            <a:xfrm>
              <a:off x="1348920" y="4303800"/>
              <a:ext cx="14598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22"/>
            <p:cNvGrpSpPr/>
            <p:nvPr/>
          </p:nvGrpSpPr>
          <p:grpSpPr>
            <a:xfrm>
              <a:off x="1288440" y="5520240"/>
              <a:ext cx="1640880" cy="653760"/>
              <a:chOff x="1288440" y="5520240"/>
              <a:chExt cx="1640880" cy="653760"/>
            </a:xfrm>
          </p:grpSpPr>
          <p:grpSp>
            <p:nvGrpSpPr>
              <p:cNvPr id="281" name="Group 23"/>
              <p:cNvGrpSpPr/>
              <p:nvPr/>
            </p:nvGrpSpPr>
            <p:grpSpPr>
              <a:xfrm>
                <a:off x="1574640" y="5520240"/>
                <a:ext cx="1354680" cy="613440"/>
                <a:chOff x="1574640" y="5520240"/>
                <a:chExt cx="1354680" cy="613440"/>
              </a:xfrm>
            </p:grpSpPr>
            <p:sp>
              <p:nvSpPr>
                <p:cNvPr id="282" name="AutoShape 24"/>
                <p:cNvSpPr/>
                <p:nvPr/>
              </p:nvSpPr>
              <p:spPr>
                <a:xfrm flipH="1" flipV="1" rot="3964800">
                  <a:off x="2313720" y="533448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25"/>
                <p:cNvSpPr/>
                <p:nvPr/>
              </p:nvSpPr>
              <p:spPr>
                <a:xfrm flipH="1" flipV="1" rot="4780200">
                  <a:off x="2161800" y="53949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26"/>
                <p:cNvSpPr/>
                <p:nvPr/>
              </p:nvSpPr>
              <p:spPr>
                <a:xfrm flipH="1" flipV="1" rot="5076000">
                  <a:off x="2068200" y="54079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27"/>
                <p:cNvSpPr/>
                <p:nvPr/>
              </p:nvSpPr>
              <p:spPr>
                <a:xfrm flipH="1" flipV="1" rot="5608200">
                  <a:off x="1955160" y="54183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28"/>
              <p:cNvGrpSpPr/>
              <p:nvPr/>
            </p:nvGrpSpPr>
            <p:grpSpPr>
              <a:xfrm>
                <a:off x="1288440" y="5529960"/>
                <a:ext cx="1352520" cy="644040"/>
                <a:chOff x="1288440" y="5529960"/>
                <a:chExt cx="1352520" cy="644040"/>
              </a:xfrm>
            </p:grpSpPr>
            <p:sp>
              <p:nvSpPr>
                <p:cNvPr id="287" name="AutoShape 29"/>
                <p:cNvSpPr/>
                <p:nvPr/>
              </p:nvSpPr>
              <p:spPr>
                <a:xfrm flipH="1" flipV="1" rot="5317800">
                  <a:off x="2027520" y="541872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30"/>
                <p:cNvSpPr/>
                <p:nvPr/>
              </p:nvSpPr>
              <p:spPr>
                <a:xfrm flipH="1" flipV="1" rot="6133800">
                  <a:off x="1862640" y="541692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31"/>
                <p:cNvSpPr/>
                <p:nvPr/>
              </p:nvSpPr>
              <p:spPr>
                <a:xfrm flipH="1" flipV="1" rot="6429000">
                  <a:off x="1772280" y="539280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32"/>
                <p:cNvSpPr/>
                <p:nvPr/>
              </p:nvSpPr>
              <p:spPr>
                <a:xfrm flipH="1" flipV="1" rot="6961200">
                  <a:off x="1663560" y="5360040"/>
                  <a:ext cx="2365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92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6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300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7"/>
          <p:cNvSpPr/>
          <p:nvPr/>
        </p:nvSpPr>
        <p:spPr>
          <a:xfrm rot="16200000">
            <a:off x="2903400" y="4801680"/>
            <a:ext cx="1622520" cy="968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8"/>
          <p:cNvSpPr/>
          <p:nvPr/>
        </p:nvSpPr>
        <p:spPr>
          <a:xfrm rot="16200000">
            <a:off x="3469320" y="3452760"/>
            <a:ext cx="314280" cy="10972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49"/>
          <p:cNvSpPr/>
          <p:nvPr/>
        </p:nvSpPr>
        <p:spPr>
          <a:xfrm flipH="1" rot="16200000">
            <a:off x="2862000" y="2237760"/>
            <a:ext cx="1623960" cy="96804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8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36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43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2538360" y="276228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4"/>
          <p:cNvSpPr/>
          <p:nvPr/>
        </p:nvSpPr>
        <p:spPr>
          <a:xfrm>
            <a:off x="4457880" y="269712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5"/>
          <p:cNvSpPr/>
          <p:nvPr/>
        </p:nvSpPr>
        <p:spPr>
          <a:xfrm flipH="1">
            <a:off x="4857840" y="27622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58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2262240" y="164952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62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>
              <a:off x="4041720" y="164952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65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>
              <a:off x="5829120" y="1658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cp:keywords/>
  <dc:language>en-US</dc:language>
  <cp:lastModifiedBy>Microsoft</cp:lastModifiedBy>
  <dcterms:modified xsi:type="dcterms:W3CDTF">2016-04-20T05:03:3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