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63172-EF3C-4980-BCF3-2E5F48D7E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EA749-7BD1-49C4-BB76-05D4DEA381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997CA-2B22-47D5-8ACE-3F8CF2CB29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56619-5609-49C5-A59A-1F7768687B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9A3F5-6B05-43C0-A670-9746540493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65FDC-B718-4F7F-9F36-D059965C21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D1FE7-AF50-4303-83CA-81BA43CACF1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8E79A-FC82-4932-8856-C5B6924159F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5A7B0-D119-4E68-A1E7-0F11E6F6E33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DEF49-5EAB-4CD3-90F8-4DAFF9FE24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E865C-BAF3-494C-8CC2-F58042BE89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450CC-D020-4EEE-BB67-BE5568C99C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8" descr="bg2"/>
          <p:cNvPicPr/>
          <p:nvPr/>
        </p:nvPicPr>
        <p:blipFill>
          <a:blip r:embed="rId2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8841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37153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DF3AB6F-7474-49D1-8E91-261CD4A7513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bg3"/>
          <p:cNvPicPr/>
          <p:nvPr/>
        </p:nvPicPr>
        <p:blipFill>
          <a:blip r:embed="rId2"/>
          <a:stretch/>
        </p:blipFill>
        <p:spPr>
          <a:xfrm>
            <a:off x="-17640" y="-27000"/>
            <a:ext cx="918072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2a5682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1" descr="bg1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8841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37153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39280" y="5157360"/>
            <a:ext cx="8207640" cy="40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68360" y="40053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单击此处添加标题文字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9963C929-0DEF-4613-8C9C-CB7A52229497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85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202" name="Group 86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203" name="Rectangle 87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88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89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90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1"/>
              <p:cNvSpPr/>
              <p:nvPr/>
            </p:nvSpPr>
            <p:spPr>
              <a:xfrm>
                <a:off x="4562280" y="1341360"/>
                <a:ext cx="1025640" cy="576360"/>
              </a:xfrm>
              <a:prstGeom prst="rect">
                <a:avLst/>
              </a:prstGeom>
              <a:solidFill>
                <a:srgbClr val="bf59b8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92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884183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93"/>
              <p:cNvSpPr/>
              <p:nvPr/>
            </p:nvSpPr>
            <p:spPr>
              <a:xfrm>
                <a:off x="6613560" y="1341360"/>
                <a:ext cx="1025280" cy="576360"/>
              </a:xfrm>
              <a:prstGeom prst="rect">
                <a:avLst/>
              </a:prstGeom>
              <a:solidFill>
                <a:srgbClr val="37153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94"/>
              <p:cNvSpPr/>
              <p:nvPr/>
            </p:nvSpPr>
            <p:spPr>
              <a:xfrm>
                <a:off x="7638840" y="1341360"/>
                <a:ext cx="1025640" cy="576360"/>
              </a:xfrm>
              <a:prstGeom prst="rect">
                <a:avLst/>
              </a:prstGeom>
              <a:solidFill>
                <a:srgbClr val="d99fd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95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212" name="Rectangle 96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97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98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99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00"/>
              <p:cNvSpPr/>
              <p:nvPr/>
            </p:nvSpPr>
            <p:spPr>
              <a:xfrm>
                <a:off x="456228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1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02"/>
              <p:cNvSpPr/>
              <p:nvPr/>
            </p:nvSpPr>
            <p:spPr>
              <a:xfrm>
                <a:off x="661356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103"/>
              <p:cNvSpPr/>
              <p:nvPr/>
            </p:nvSpPr>
            <p:spPr>
              <a:xfrm>
                <a:off x="763884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"/>
          <p:cNvSpPr txBox="1"/>
          <p:nvPr/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00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内容占位符 3" descr=""/>
          <p:cNvPicPr/>
          <p:nvPr/>
        </p:nvPicPr>
        <p:blipFill>
          <a:blip r:embed="rId1"/>
          <a:stretch/>
        </p:blipFill>
        <p:spPr>
          <a:xfrm>
            <a:off x="-36360" y="0"/>
            <a:ext cx="3781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6200" y="1125360"/>
            <a:ext cx="82076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682560" y="469440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nordridesign.com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Administrator</cp:lastModifiedBy>
  <dcterms:modified xsi:type="dcterms:W3CDTF">2016-03-25T21:41:37Z</dcterms:modified>
  <cp:revision>270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