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0AB-A992-43B4-B8E1-33B766CD2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C7F-B9A0-4AEC-A02E-BC65207C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1858D-708D-460D-94D7-4F9B1A79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0482B-CD58-4E08-AA6A-4601D9A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2D515-B580-4312-9BF3-9E1AAE30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AE4819-C78D-43A2-9C5B-66703612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6D166-D2DA-4233-BD40-8A748B3E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5E3AC-2E3E-4CB9-A3DC-DEE0CB67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B4B9E-7526-4BF6-94E7-C2CE1CF7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CAE71-BD90-4D32-AD26-006E676F1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4D573F-C622-45E5-ACB5-86F3633F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790B7-2EB2-43A1-8892-8293763D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65E-CBD9-4745-8CFC-4013D0EC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CBD213-CEB4-4D9F-A8FD-9F5BDA47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FB7BBD-165B-427C-AA05-8B75F8C4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88D6A1-410C-4860-B143-2D54BDEAB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8AA9D-C963-4D96-BFFD-ACAF7D89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A9A983-BA8B-4A59-B4E2-21222959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3FC0C-4A44-4363-96A3-9D7A6621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37540-2807-4259-9A7F-9C4AC163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C710F8-D38F-466C-96E4-6ED4BD56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1FA867-F86E-4370-90B1-43576B81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8B6EC-1580-44E3-A5BD-A7E06837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D2B9-8B79-4FD9-98C8-364A8292A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C1E454-D512-4860-923B-7A8104C11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B13A49-9E6B-4D13-A3B8-CDD4BB46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1919AA-F233-41BD-AF93-F486AC31D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426A2D-CBD6-4F6E-B806-F3945E8E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64C1E-BFBA-479E-AF0F-D3084E2D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A3949-6A0C-4996-B24B-D6EEA667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95E1D-F871-43F8-B50A-4772CFDEE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8828EF-6140-4814-8FFF-67D18CD9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D768A-3B23-42A3-A627-A3128F07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F6E8CC-C013-4D63-B1FC-A08010D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EB13-84B3-484F-BA59-A0EDA130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F9AD5-B5DE-4C5D-B2E5-211D861A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393BA-23B3-418C-A365-07B571FD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114C1-EDE9-4AC4-9E40-EDE8D230C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A5105-3167-44E4-B243-47BA8FA44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F1C0DA-EAC8-47C1-AC4C-131964C4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C6BA9-BE5D-4308-8BA4-61B9B2B2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EB7B04-5F53-47E5-9B5E-AF2005A5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01AB9-C92B-446D-A37C-45DDD4BA9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EB8DFD-CDF4-44D8-BB72-7D87C408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47B3B-A2E0-44A3-BB8E-7579085A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1152-AA84-47A2-8865-E5EEA2C08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B32FA-34F1-4BBD-B8D1-EE13B83B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B490A-1A15-4939-A788-03F3E22B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D2B034-8E8D-4B9A-A9D3-4CFC942A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8E83DB-ADAB-4B2F-848F-C6BEAA133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F419A-BF9E-401A-AB8A-FE341F01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75F86-0360-43A8-A152-4909D5D4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AC7A4-7F46-4522-99C5-A22C6E44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CFCBE-F60E-4FEE-91DF-D97E900C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885A7-2734-40C6-ABBA-B668D7B3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BF3634-1D38-4B74-974D-9A434F114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6171-9D7F-4854-AD76-C5CAC0E2E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754442-BA3C-408A-A5B3-A461F4D2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E7AEB8-0D3C-43E0-B200-B3891E4A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42884E-9E38-45FC-B949-F82225B5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0EF854-6766-44A0-BEB8-2883E392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A3263-7510-4D24-AA9E-288829D6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12322E-2BF3-4C32-9C72-66001204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8B2261-E20F-484F-9F04-24F191D9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70B-2EB7-4338-9FA3-1A364883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C0E9-A7AC-45EF-BCCE-40E8382B1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09A3-E696-4F66-A9F3-853AEF8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6DEE-1D1D-45E3-BC36-2B8C686D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25F-FE42-4864-9AEA-BA0E07E4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63F6-0C2A-425C-AE3A-839F2392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3233-48E9-45A5-9AF8-DE175CAC3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6344-2395-41B6-AE62-8CE8E1C5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52F5-EEEC-42A6-8552-7818CD278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8A5C-1713-48DA-B222-EC4973912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47B35-8F7A-40AA-ABFA-FC679219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CAFF0C-78FF-4C73-9395-7EF485C5A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E5583-E3D5-4A40-8E18-ADD107D8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2A33A-3CEB-4330-A3A7-C3EF3414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B1DB3-91F2-404B-9674-23188791B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2EE8-A3D6-411A-B325-78ACE1B5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F17F2-0E6C-42E4-B3FA-2FC28623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69258-993D-451F-83E6-EAFA9203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7AF4F-1F8F-418A-A1DF-54921B6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83AC-2B10-4217-9F5F-E4BA1CEA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604CB-A920-4257-956C-874DEFA0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32E17-0EE2-4A97-8CCB-0A52D7DE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A3D0D-FE1A-4390-B4A5-E7698D00C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60EF5-7D4D-484A-A757-CF1CA63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CD51E-B04C-4164-92CB-513140E4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0C272-DA1E-4D4C-997F-756F9983E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72C2-E97C-4186-9396-682C24618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67B2C-45CB-497A-9905-3D9CDDF67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2DB13-7D5A-408F-BE2D-0E5DB6FF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4565B-F3F0-44F4-AE01-EED2821B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A8267-AD08-4BFC-9CF5-A01E4306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E363D-B4A6-4589-9E2B-A43715DB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3E12C-EF9F-48D3-BF34-69617518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E4A3E-1FA5-4C1A-8193-1DC62F8B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4EDD-49E7-40B6-B1D5-5A5BE091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CB5A-E3BE-421F-A1AB-EFD0ACCB8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00D4E-0376-4836-8675-DD7B0326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AD26-D2B8-4B61-AD63-8A34C0BC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D947AE-7E87-4AB9-B890-091A21A2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33499-A349-43D0-8FCC-905BE1705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77D1-4080-4564-B7DE-D92E2FAC7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E865A-AC87-474B-8D40-307C923E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D94E5-E893-49B9-BCD2-47F8BC4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44A7A-6C93-4D36-BA82-F0DD9F62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FED90-E29E-4127-B060-890281AA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EF62A-ACC3-460F-9681-E45CCAA3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9D87A-C663-42DB-A339-B58597AD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4BD2E-9797-4B94-B093-FB229C1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2E4B-6278-48FF-941B-DA97AD68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7EFCCB-EFFF-4133-8737-551F2EE2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6F89-0341-4ECA-8317-4B71B8DA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9240F2-BE44-424A-8627-445B3B102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AD9D3-7778-46EC-9E3C-A78DCCD5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2C52F-D82B-47C9-92B1-E211A77D5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8D87A-831F-49C4-BC49-1C27B245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FB50-283D-4930-A890-33C9D9D2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7E857-4AFD-4767-892A-1EB9B3279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943D2-8EA0-487B-94A0-1702F9EB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BEAF84-B2B6-46AE-99DE-7B031CA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BA03-2934-425B-BEA9-21025D5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2301D-17C9-4630-B163-398233B0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AE119-86F7-44A3-8F66-F92D7DBC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4C6D-DB4C-4B36-8C49-7CDCBE18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D648-5CB4-44B7-A2A6-B4DF872F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1AB65-00C4-4295-BC34-538623F50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3216F-45DB-4C87-B227-4A2E026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1325-CC62-4050-BCD6-4EF91C22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5B0F0-1626-4CEE-B516-A7BB99B6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F2AC0-1D5C-4D1D-801B-DD79A973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32779-EAD0-4394-A5E0-3278B142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DFDC-02D2-48FA-A1F4-C9839A0F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9CD6D-7B7C-4A87-9266-3C9AA5A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D1F9B-A26E-4777-B074-83AA57BE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47582-33DF-4B90-B134-69BFB46B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7167E-E915-4552-B465-0C0EC79A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411804-EFAE-486B-B2D1-227CC748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E57F9-A52F-4ED4-821C-7A736238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BFD2F-E706-47F3-97BB-EC2F55CA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1C2C3-B8BC-4D5F-A618-347C4C2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1BED6B-749C-4F6C-A0E1-A34ACC0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9AB92-B0FA-4F41-8578-7372E1BF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323F-15B4-401C-948D-539122E3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240A4A-23A6-4C2A-81DE-63411553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50E7D-916E-40AA-82AD-F90D9D90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2A851-5F44-4617-B6A6-200B1D26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010D7-CEBA-4BB6-BCEE-40139786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A991C-6685-49BC-8ACB-7EC0F32A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3ECB5-ECCF-4385-BF20-885C7087E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01297-8F19-4A18-B6EF-ED5FA486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4B5A9-3A32-49CF-AE34-B5705E8B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5BED72-F97F-477A-918D-97D07645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B7259-F3E0-4853-A8AC-F8FA416D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5B35-AD93-48D6-A723-692D7D34479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5C0-914F-4171-A910-62E2328C6E2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57D-49CB-4F8F-9102-A9976983EAC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5AAA-973F-4766-AFBF-D57B541D922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77E3-AB1A-40C0-B147-FDE23ABDA66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4E55-83DC-483D-B9A9-F6BCD6D0F9F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B799E-31DC-4AA8-BB7B-9D86C2F263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2FC0-9657-4A18-A294-F62C8C7801D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CA80-BF96-4AB7-AAFB-3C2FDDC57E2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6DE7-BD45-497C-931B-9B6F35950FD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F6AD-D854-40D2-9B73-4350614AEB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962A-E157-4026-8858-D2A1DC38A0D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39FD-9CAD-4427-ADE4-D76402C61B5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544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545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586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592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595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6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598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602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3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6"/>
            <p:cNvSpPr/>
            <p:nvPr/>
          </p:nvSpPr>
          <p:spPr>
            <a:xfrm rot="4260000">
              <a:off x="6292440" y="71496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609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41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46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7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651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667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4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5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685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688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702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9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0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xiazai/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word/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ziliao/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fanwen/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723" name="Picture 5" descr="header_bg"/>
            <p:cNvPicPr/>
            <p:nvPr/>
          </p:nvPicPr>
          <p:blipFill>
            <a:blip r:embed="rId7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 rot="2460000">
              <a:off x="985680" y="94932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8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729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742" name="Picture 24" descr="header_bg"/>
            <p:cNvPicPr/>
            <p:nvPr/>
          </p:nvPicPr>
          <p:blipFill>
            <a:blip r:embed="rId8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angel</cp:lastModifiedBy>
  <dcterms:modified xsi:type="dcterms:W3CDTF">2015-12-11T01:09:44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