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DD7D3-3BDE-4695-AF75-AC29CEE316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7160"/>
            <a:ext cx="7772400" cy="4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43640"/>
            <a:ext cx="83822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8C354-03CF-42E7-951E-81AF49C340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7160"/>
            <a:ext cx="7772400" cy="4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43640"/>
            <a:ext cx="40903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743640"/>
            <a:ext cx="40903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A90F5-76D7-44B0-B31D-27E4E7F31F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7160"/>
            <a:ext cx="7772400" cy="4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43640"/>
            <a:ext cx="2698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743640"/>
            <a:ext cx="2698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743640"/>
            <a:ext cx="2698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0C0E5-65F6-4937-B5D4-BC50AD1D81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160"/>
            <a:ext cx="7772400" cy="4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A2490-3799-45D3-9913-D45BEAAA8C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160"/>
            <a:ext cx="7772400" cy="4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89DB9-4B0A-462B-B548-B7D8E5E75E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7160"/>
            <a:ext cx="7772400" cy="4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A9D12-D085-48C9-9EC4-A275C82C21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160"/>
            <a:ext cx="7772400" cy="4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5D777-99DA-4160-88C9-276D402ED6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44025-C5AA-4AA7-9849-5211C20175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7160"/>
            <a:ext cx="7772400" cy="4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43640"/>
            <a:ext cx="40903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3EA33-D102-479C-9A85-B72B5CBFE6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7160"/>
            <a:ext cx="7772400" cy="4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743640"/>
            <a:ext cx="40903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7AA82-9D5C-4FAA-BCD6-71091A406C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7160"/>
            <a:ext cx="7772400" cy="4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43640"/>
            <a:ext cx="83822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C1501-5278-44BC-9D25-FA5B23CFE3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162560" y="662904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zh-CN" sz="1400" spc="-1" strike="noStrike">
                <a:solidFill>
                  <a:srgbClr val="00cc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36429-D49F-425F-929B-3BB1CA925DD0}" type="slidenum">
              <a:rPr b="1" i="1" lang="zh-CN" sz="1400" spc="-1" strike="noStrike">
                <a:solidFill>
                  <a:srgbClr val="00cc99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8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0" y="6705360"/>
            <a:ext cx="502920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07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年度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教育部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IBM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精品课程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南京大学计算机科学与技术系</a:t>
            </a:r>
            <a:r>
              <a:rPr b="0" i="1" lang="zh-CN" sz="10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灯片编号占位符 3"/>
          <p:cNvSpPr/>
          <p:nvPr/>
        </p:nvSpPr>
        <p:spPr>
          <a:xfrm>
            <a:off x="7162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D3CF5-621D-491E-8574-8B0DAD4933A9}" type="slidenum">
              <a:rPr b="1" i="1" lang="zh-CN" sz="1400" spc="-1" strike="noStrike">
                <a:solidFill>
                  <a:srgbClr val="00cc99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页脚占位符 4"/>
          <p:cNvSpPr/>
          <p:nvPr/>
        </p:nvSpPr>
        <p:spPr>
          <a:xfrm>
            <a:off x="0" y="6705720"/>
            <a:ext cx="50292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07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年度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教育部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IBM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精品课程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南京大学计算机科学与技术系</a:t>
            </a:r>
            <a:r>
              <a:rPr b="0" i="1" lang="zh-CN" sz="10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80520" y="15228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算法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8-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寻找与函数依赖集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价的最小函数依赖集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152280" y="914400"/>
            <a:ext cx="8915400" cy="556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5000"/>
              </a:lnSpc>
              <a:spcBef>
                <a:spcPts val="10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令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每一个形如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…,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函数依赖替换为如下一组依赖因素为单个属性的函数依赖：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的每一个函数依赖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如下的处理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5000"/>
              </a:lnSpc>
              <a:spcBef>
                <a:spcPts val="10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对决定因素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X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中的每一个属性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B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作如下处理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5000"/>
              </a:lnSpc>
              <a:spcBef>
                <a:spcPts val="1049"/>
              </a:spcBef>
              <a:buClr>
                <a:srgbClr val="3333cc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计算属性集的闭包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(X – B)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5000"/>
              </a:lnSpc>
              <a:spcBef>
                <a:spcPts val="1049"/>
              </a:spcBef>
              <a:buClr>
                <a:srgbClr val="3333cc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如果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A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(X – B)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G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+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则用新的函数依赖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(X – B)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A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替换原来的函数依赖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A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灯片编号占位符 3"/>
          <p:cNvSpPr/>
          <p:nvPr/>
        </p:nvSpPr>
        <p:spPr>
          <a:xfrm>
            <a:off x="7162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B880D-5CDF-4F13-B391-621A92E2C3D9}" type="slidenum">
              <a:rPr b="1" i="1" lang="zh-CN" sz="1400" spc="-1" strike="noStrike">
                <a:solidFill>
                  <a:srgbClr val="00cc99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页脚占位符 4"/>
          <p:cNvSpPr/>
          <p:nvPr/>
        </p:nvSpPr>
        <p:spPr>
          <a:xfrm>
            <a:off x="0" y="6705720"/>
            <a:ext cx="50292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07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年度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教育部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IBM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精品课程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zh-CN" sz="1000" spc="-1" strike="noStrike">
                <a:solidFill>
                  <a:srgbClr val="000000"/>
                </a:solidFill>
                <a:latin typeface="Times New Roman"/>
              </a:rPr>
              <a:t>南京大学计算机科学与技术系</a:t>
            </a:r>
            <a:r>
              <a:rPr b="0" i="1" lang="zh-CN" sz="10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931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算法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8-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寻找与函数依赖集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价的最小函数依赖集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1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152280" y="990720"/>
            <a:ext cx="89154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的每一个函数依赖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如下处理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5000"/>
              </a:lnSpc>
              <a:spcBef>
                <a:spcPts val="1049"/>
              </a:spcBef>
              <a:buClr>
                <a:srgbClr val="3333cc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令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N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:=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G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 –  {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A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} 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5000"/>
              </a:lnSpc>
              <a:spcBef>
                <a:spcPts val="1049"/>
              </a:spcBef>
              <a:buClr>
                <a:srgbClr val="3333cc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计算属性集的闭包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N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+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5000"/>
              </a:lnSpc>
              <a:spcBef>
                <a:spcPts val="1049"/>
              </a:spcBef>
              <a:buClr>
                <a:srgbClr val="3333cc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如果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A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宋体"/>
              </a:rPr>
              <a:t>N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+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,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那么从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G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中删去函数依赖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A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每一组形如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决定因素相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函数依赖合并为一个函数依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…,A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3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kw</cp:lastModifiedBy>
  <dcterms:modified xsi:type="dcterms:W3CDTF">2011-10-31T05:40:02Z</dcterms:modified>
  <cp:revision>874</cp:revision>
  <dc:subject/>
  <dc:title>PowerPoint Presentation</dc:title>
</cp:coreProperties>
</file>