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2D04-C9D4-4B06-ACDC-182264F5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EBA7-C5D1-4E76-8170-8DFA35F9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CE03-DE73-4804-BDDB-054471DE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8380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83808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4A91-5BF6-4B1E-98F2-CE5F4C65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9F6-72F9-4480-8D2E-95FA82DD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F04F-CFD5-4BCD-A1CB-8206A70A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8525-572F-4D96-9763-4FF25194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8F46-982D-42B2-94A8-4EEB360F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C47B-1564-48E9-A795-11572D24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991E-A239-44D8-8A32-BCFFF1D4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395-2C77-4BDE-AF51-F5EC349A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838080"/>
            <a:ext cx="40158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402F-09A3-4BE4-B52F-1F9F23F0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66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66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2A2C-0599-496E-A282-482A9F997439}" type="datetime">
              <a: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62904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3B93-7C50-4C90-B61E-8D177A1A4968}" type="slidenum">
              <a:rPr b="1" i="1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4114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宋体"/>
              </a:rPr>
              <a:t>Minimal Cover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宋体"/>
              </a:rPr>
              <a:t>(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最小覆盖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宋体"/>
              </a:rPr>
              <a:t>)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宋体"/>
              </a:rPr>
              <a:t>(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宋体"/>
              </a:rPr>
              <a:t>最小函数依赖集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宋体"/>
              </a:rPr>
              <a:t>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lgorithm: Minimal Cov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lgorithm 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Minimal Cover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(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最小覆盖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4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 minimal set M of FDs that covers a given set F of FDs.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429000"/>
            <a:ext cx="8229600" cy="1905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step 1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: From the set F of FDs, we create an equivalent set H of FDs, with only single attributes on the right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421-B915-4EB7-82AD-09CD0E66535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C5130-0297-48F0-AD14-B0C435D5F4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lgorithm: Minimal Cov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152280" y="685800"/>
            <a:ext cx="9067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step 2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: From the set H of FDs, successively remove individual FDs that are inessential in H.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n FD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 is inessential in a set H of FDs, if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 can be removed from H, with result J, so that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=J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or H=J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at is, removal of the FD from H has no effect on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76360" y="3733920"/>
            <a:ext cx="655308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ED0B-B0E9-427F-947D-3E878FE087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98A6C-5815-4E4F-9367-E43EF9E695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499920"/>
            <a:ext cx="822960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Let: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F = {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→D, D→E, C→F, BC→A, EF→A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}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H = F – {BC→A} = {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→D, D→E, C→F, EF→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}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BC→A is inessential in F because of F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=H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  <a:ea typeface="宋体"/>
              </a:rPr>
              <a:t>+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55308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35F-DA91-4D9C-AB25-89FA2A56C68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C9CE3-10E8-4BAE-845A-A848E5CFCF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lgorithm: Minimal Cov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1049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step 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: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From the set H of FDs, successively replace individual FDs with FDs that have a smaller number of attributes on the left-hand side, as long as the result does not change H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.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6920" y="2819520"/>
            <a:ext cx="746784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D497-08CF-4ECD-BC33-88A2DD25C7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257A6-03F1-4F51-8EA7-11DA35C04B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4076640"/>
            <a:ext cx="8229600" cy="2781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Let: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F = {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C→E, E→B, BCD→A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}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We say B can be removed from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CD→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(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replace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BCD→A</a:t>
            </a:r>
            <a:r>
              <a:rPr b="1" i="1" lang="en-US" sz="2800" spc="-1" strike="noStrike" u="sng">
                <a:solidFill>
                  <a:srgbClr val="3333cc"/>
                </a:solidFill>
                <a:uFillTx/>
                <a:latin typeface="Arial"/>
                <a:ea typeface="宋体"/>
              </a:rPr>
              <a:t> by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CD→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) because: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Let: H = F – {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CD→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} ∪ {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CD→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}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= {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C→E, E→B, CD→A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We have: F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= H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  <a:ea typeface="宋体"/>
              </a:rPr>
              <a:t>+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46784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E08-0C1B-4F41-8859-0A976A29CBC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237AE-E374-46C6-8EE5-CA2C255038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lgorithm: Minimal Cov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宋体"/>
              </a:rPr>
              <a:t>step 4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: From the remaining set of FDs, gather all FDs with equal left-hand sides and use the union rule to create an equivalent set of FDs M where all left-hand sides are unique.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base Principles &amp;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503-11F7-4C00-9BF1-50C0D7E33A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CA535-8B3A-4DA8-B42B-68D5079321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0-18T03:18:28Z</dcterms:modified>
  <cp:revision>714</cp:revision>
  <dc:subject/>
  <dc:title>PowerPoint Presentation</dc:title>
</cp:coreProperties>
</file>