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33F-5347-446B-986A-CC9A68A1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B60-6B71-4621-8364-31C1206F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509-F190-40CE-AEA8-B0C36887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96D-CB58-47D3-9C09-DBE1DBDD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DFA-EAEA-45EF-9DF2-901D6C80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DB4-7C21-4AF0-8E03-DC2BCA7E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D07-E7FE-4AE1-99BA-CD7A683D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F03-6895-4434-A3BC-99C79778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DBE-F875-4F20-9119-00793700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C1A-F255-4497-BB28-C51E746C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C33D-B617-496D-8F22-BBDEE0B8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733-B16D-4FCC-9BB3-C6661C0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49EB-BC7A-4E23-B842-445EF4C767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否逻辑蕴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的所有函数依赖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只要计算属性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上的属性集闭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初始值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一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C, D, 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二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C, D, A,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三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C, D, A, 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因此可以推理得到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逻辑蕴涵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: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   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f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: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B→CDE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B→ABC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(g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AD→E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76520"/>
            <a:ext cx="8686800" cy="4876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否逻辑蕴涵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F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中的所有函数依赖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只要计算属性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在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上的属性集闭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初始值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一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C, D, E, A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第二遍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B</a:t>
            </a:r>
            <a:r>
              <a:rPr b="1" lang="zh-CN" sz="2800" spc="-1" strike="noStrike" baseline="-25000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= {B, C, D, E, A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因此可以推理得到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逻辑蕴涵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f</a:t>
            </a:r>
            <a:r>
              <a:rPr b="1" lang="zh-CN" sz="2800" spc="-1" strike="noStrike" baseline="-25000">
                <a:solidFill>
                  <a:srgbClr val="ff0066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4:03:46Z</dcterms:created>
  <dc:creator>bwy</dc:creator>
  <dc:description/>
  <dc:language>en-US</dc:language>
  <cp:lastModifiedBy>bwy</cp:lastModifiedBy>
  <dcterms:modified xsi:type="dcterms:W3CDTF">2006-12-10T14:26:47Z</dcterms:modified>
  <cp:revision>3</cp:revision>
  <dc:subject/>
  <dc:title>PowerPoint 演示文稿</dc:title>
</cp:coreProperties>
</file>