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479-B45E-4168-9EE4-53598BA5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E5C-25D0-4996-A127-33CEBA1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C8B-F15C-478E-9C5C-038ABE5B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919B-C177-4C1A-9197-9518D908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EF9-E5C3-480D-A6A2-DB457E7F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93B-AB89-4C26-9206-74A5F986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A8A-1AAF-43CB-B530-76841751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E58-CFE5-4508-B616-C4F474E8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2C3-AC62-4D5F-9847-0137B2D6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A11C-B197-43F4-8374-31E3650C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754-D067-4EB6-837D-18ABF31F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36A-DE47-4589-AA41-3E0ECE2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A39C-815D-4ABB-8C03-E1812E5DCD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合并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A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增广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CDAD→C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可以将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简写为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③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ACD→C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和传递规则可以得到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057400"/>
            <a:ext cx="868680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合并规则可以得到：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→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和增广规则可以得到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本身就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函数依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752480"/>
            <a:ext cx="8686800" cy="4800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B→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本身就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函数依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是否逻辑蕴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由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分解规则可以得到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4:03:46Z</dcterms:created>
  <dc:creator>bwy</dc:creator>
  <dc:description/>
  <dc:language>en-US</dc:language>
  <cp:lastModifiedBy>bwy</cp:lastModifiedBy>
  <dcterms:modified xsi:type="dcterms:W3CDTF">2006-12-10T14:12:39Z</dcterms:modified>
  <cp:revision>2</cp:revision>
  <dc:subject/>
  <dc:title>PowerPoint 演示文稿</dc:title>
</cp:coreProperties>
</file>