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8407-2D4F-46B9-8C8D-981309190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4A5D2-473C-4184-9430-011AD3E15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ABE5-6F2D-408F-BD61-69C358419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73680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1C53-8ACB-4153-898C-3EE3669B3E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6F5C-99CF-433B-AE13-2F04AEC8AF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9173-26EF-429D-8700-10C62BC74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0C47-FD7C-4CDA-96E6-C244F8E98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3C883-F4DA-408D-8130-7709BC148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544C-853E-4340-8B85-A6FC54BF8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3651-4D4B-411F-A8FC-4E1FE4435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73680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626D-BE68-4BF0-BF6B-8E2BD46DC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3680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DE12-4B91-4896-A9FA-65A6DFEC3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090F-CD2E-4183-ADED-35DD5D861902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宋体"/>
              </a:rPr>
              <a:t>数据库设计示例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64CE-BCA0-4DEF-A64F-E522B9A6968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628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答：最小函数依赖集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220500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3645000"/>
            <a:ext cx="87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’关系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4920" y="4221000"/>
            <a:ext cx="8748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20000"/>
              </a:lnSpc>
              <a:buClr>
                <a:srgbClr val="ff0000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候选关键字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0000"/>
              </a:buClr>
              <a:buSzPct val="75000"/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可以满足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6" dur="1" fill="hold"/>
                                  <p:tgtEl>
                                    <p:spTgt spid="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EB1-8EE3-46B6-9DC1-F15F969369F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1]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设有一个图书借阅管理数据库，已知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图书的属性有书号（具有唯一性）、书名、出版社名称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读者的属性有借书证号（具有唯一性，每个读者只能有一个借书证号）、姓名、身份证号、住址、电话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出版社的属性有出版社名称（具有唯一性）、地址、联系电话。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其中：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本图书只能有一个出版社出版发行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每个读者可以同时借阅多本图书，也可以在不同时候借阅同一本图书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  <a:ea typeface="宋体"/>
              </a:rPr>
              <a:t>系统需要记录每本图书被借阅的借阅日期和归还日期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800-693E-4C40-B022-7C024DA1C1D3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计得到的关系模式如下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图书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书号，书名，出版社名称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出版社名称，联系电话，地址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3D6-3BC0-4394-9714-6DC51F868F8B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假设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每个读者只有唯一的一个住址，但可以登记多个不同的联系电话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，那么针对上述的‘读者’关系，请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26D5-9AEC-41A9-A0FF-F758F5651B41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→姓名，身份证号，住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身份证号→借书证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借书证号，电话）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	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身份证号，电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不满足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请将其规范化到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NF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读者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姓名，身份证号，住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联系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借书证号，电话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277D-8532-4474-90D1-A07F2CE5CBFA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ase Study 1 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化设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上述的‘借阅’关系做如下的规范化设计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99663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259F-A131-4A1A-8320-4FBDCC82D8D6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914400"/>
            <a:ext cx="8229600" cy="5715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给出该关系模式上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找出该关系模式的候选关键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该关系模式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N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E414-3679-49C0-B9F9-3FBEE655A6B8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68360" y="1521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3573360"/>
            <a:ext cx="9144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凭‘书号’能够唯一确定一本书，那么‘借阅’关系上的函数依赖情况会发生什么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请给出它的最小函数依赖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‘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’关系最高能够满足到第几范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灯片编号占位符 3"/>
          <p:cNvSpPr/>
          <p:nvPr/>
        </p:nvSpPr>
        <p:spPr>
          <a:xfrm>
            <a:off x="72388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4773-6CBD-4A0E-A4F5-E8F2DCFB4C1D}" type="slidenum">
              <a:rPr b="1" i="1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362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68360" y="152100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最小函数依赖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)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→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借阅日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573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如果凭‘书号’能够唯一确定一本书，那么‘借阅’关系上的函数依赖情况会发生什么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920" y="115920"/>
            <a:ext cx="910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借阅”关系的再设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76500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68360" y="4724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书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归还日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)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书证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借阅日期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5950080"/>
            <a:ext cx="87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该关系上的最小函数依赖集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6" dur="1" fill="hold"/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1-02T08:45:04Z</dcterms:modified>
  <cp:revision>637</cp:revision>
  <dc:subject/>
  <dc:title>PowerPoint Presentation</dc:title>
</cp:coreProperties>
</file>