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F807-1BDB-44F2-BEFC-5F89F480C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04AAD-50F3-4318-BDF8-DA45A4DEC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ED3F-5696-4B2E-8662-A587F40F1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00DFB-E8D7-4531-8F7E-8F7C188254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51FC-13C1-4E0F-9D40-D241049977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3EF9-8DB1-46E2-9E75-745FF0B6F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C0FF-1761-49C3-928E-C6139980A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E28D-4805-41CE-AAF2-1374C3A56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103F-C741-4825-AF43-9CFF12D5F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A7CA-72B4-4FE8-9C5B-B5338FA13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DA58-A899-4FB0-80A7-35ED2B257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E4C5-E144-45B5-9C25-31FB8BDB4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7C36-26C2-42E9-A87B-69A2D5F6A4DD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数据库设计示例 </a:t>
            </a: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287D-A1CB-4AE8-B74B-5106DAC44DC5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77336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4920" y="44280"/>
            <a:ext cx="90741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920" y="1916280"/>
            <a:ext cx="9074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上述的设计结果是否存在问题？如何解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4920" y="2709720"/>
            <a:ext cx="9074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3008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存在的问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93840" y="3213000"/>
            <a:ext cx="87501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25568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设立‘发帖’和‘回帖’两个关系，使用不方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568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帖’也应该有创建者的‘用户名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4920" y="4724280"/>
            <a:ext cx="9074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25568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解决办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将两个关系合并成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07C9-E196-4C5E-8B87-93138801033A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916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4920" y="44280"/>
            <a:ext cx="90741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4920" y="2058840"/>
            <a:ext cx="907416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方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可以被设计成如下的两个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4920" y="3284640"/>
            <a:ext cx="907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帖子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 ……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8560" y="4869000"/>
            <a:ext cx="5977080" cy="1800000"/>
          </a:xfrm>
          <a:prstGeom prst="borderCallout2">
            <a:avLst>
              <a:gd name="adj1" fmla="val 18750"/>
              <a:gd name="adj2" fmla="val -8333"/>
              <a:gd name="adj3" fmla="val 6347"/>
              <a:gd name="adj4" fmla="val -1277"/>
              <a:gd name="adj5" fmla="val -32365"/>
              <a:gd name="adj6" fmla="val -7810"/>
            </a:avLst>
          </a:prstGeom>
          <a:noFill/>
          <a:ln w="25560">
            <a:solidFill>
              <a:srgbClr val="ff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需要在这里添加一个外关键字属性，以建立‘帖子’与‘回帖’之间的关系。请给该外键属性起一个合适的名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3B6D-6D2D-4351-B7B3-9A10FA1DB646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916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4920" y="44280"/>
            <a:ext cx="90741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4920" y="2058840"/>
            <a:ext cx="907416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方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可以被设计成如下的两个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24000" y="3357720"/>
            <a:ext cx="8424720" cy="1584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帖子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被回复帖子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964E-28D7-41E1-917D-D7613A1D84D5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9162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4920" y="44280"/>
            <a:ext cx="90741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帖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4920" y="2058840"/>
            <a:ext cx="9074160" cy="12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方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也可以被设计成如下的三个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609480" y="3429000"/>
            <a:ext cx="8066160" cy="180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帖子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34920" y="54936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方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24000" y="1197000"/>
            <a:ext cx="8424720" cy="1584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帖子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被回复帖子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4920" y="3357720"/>
            <a:ext cx="9074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方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09480" y="4005360"/>
            <a:ext cx="8066160" cy="1800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帖子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E9B0-975B-4B8B-9B56-AD3F879FAD4D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4920" y="44280"/>
            <a:ext cx="9074160" cy="676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例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2]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有一个论坛数据库，其信息如下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：用户名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主页，电话，联系地址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帖子：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发帖标题，发帖内容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帖：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回复标题，回复内容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有哪些函数依赖关系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假设将所有属性组织成如下的一个关系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论坛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给出该关系上的最小函数依赖集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给出关系‘论坛’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3NF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的分解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C0C2-6194-4EA9-982B-EABBCDECE9AA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4920" y="43920"/>
            <a:ext cx="90741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：用户名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email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主页，电话，联系地址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帖子：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发帖标题，发帖内容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帖：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回复标题，回复内容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4920" y="1628640"/>
            <a:ext cx="9074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有哪些函数依赖关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4920" y="2205000"/>
            <a:ext cx="9074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‘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用户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 → (email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email)→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→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4920" y="4437000"/>
            <a:ext cx="90741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‘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帖子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’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-4388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5589720"/>
            <a:ext cx="90741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‘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回帖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’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6520" indent="-43884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4920" y="44280"/>
            <a:ext cx="9074160" cy="28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假设将所有属性组织成如下的一个关系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论坛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828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请给出该关系上的最小函数依赖集？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C54B-33C5-426E-B391-FD456D5F8E56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637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4920" y="2779560"/>
            <a:ext cx="90741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‘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用户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→ (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4920" y="443700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‘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帖子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501336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‘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回帖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4920" y="587700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还有哪些函数依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920" y="43920"/>
            <a:ext cx="907416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：论坛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4" marL="228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A51B-D635-40B9-9083-CD4043F49CB0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286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4920" y="1628640"/>
            <a:ext cx="9074160" cy="28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→ (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4920" y="450864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还有哪些函数依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4920" y="5086440"/>
            <a:ext cx="90741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716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4920" y="43920"/>
            <a:ext cx="90741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论坛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9D3B-FA91-45FC-9A82-8020D883663C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197000"/>
            <a:ext cx="90741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2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该关系上的函数依赖集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→ (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372360" y="3573360"/>
            <a:ext cx="2160360" cy="1008000"/>
            <a:chOff x="6372360" y="3573360"/>
            <a:chExt cx="2160360" cy="1008000"/>
          </a:xfrm>
        </p:grpSpPr>
        <p:sp>
          <p:nvSpPr>
            <p:cNvPr id="67" name=""/>
            <p:cNvSpPr/>
            <p:nvPr/>
          </p:nvSpPr>
          <p:spPr>
            <a:xfrm>
              <a:off x="6553080" y="3641400"/>
              <a:ext cx="1979640" cy="87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合并为一个函数依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72360" y="3573360"/>
              <a:ext cx="215640" cy="100800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372360" y="4797360"/>
            <a:ext cx="2160360" cy="1079640"/>
            <a:chOff x="6372360" y="4797360"/>
            <a:chExt cx="2160360" cy="1079640"/>
          </a:xfrm>
        </p:grpSpPr>
        <p:sp>
          <p:nvSpPr>
            <p:cNvPr id="70" name=""/>
            <p:cNvSpPr/>
            <p:nvPr/>
          </p:nvSpPr>
          <p:spPr>
            <a:xfrm>
              <a:off x="6553080" y="4870440"/>
              <a:ext cx="197964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也合并为一个函数依赖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72360" y="4797360"/>
              <a:ext cx="215640" cy="1079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4920" y="43920"/>
            <a:ext cx="90741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论坛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24B2-8C68-4F49-943F-5C3C4F48C64A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5086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4920" y="1052640"/>
            <a:ext cx="90741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最小函数依赖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→ (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4920" y="465300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给出关系‘论坛’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NF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分解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4920" y="43920"/>
            <a:ext cx="90741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论坛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ABB4-9461-40BB-9841-6B63C52FA4E5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50864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4920" y="1052640"/>
            <a:ext cx="90741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最小函数依赖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→ (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4920" y="4653000"/>
            <a:ext cx="90741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的关键字是什么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4920" y="5877000"/>
            <a:ext cx="907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288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4920" y="43920"/>
            <a:ext cx="907416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论坛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8CBC-D64D-4AB2-8CEA-95D5D8672BB3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4920" y="1052640"/>
            <a:ext cx="907416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最小函数依赖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 → (email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联系地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email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→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用户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 → 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关键字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4920" y="4508640"/>
            <a:ext cx="9074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问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3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答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：根据算法可得如下分解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4920" y="5084640"/>
            <a:ext cx="907416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email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主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电话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联系地址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标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户名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帖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复标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回复内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发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I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2" dur="1" fill="hold"/>
                                  <p:tgtEl>
                                    <p:spTgt spid="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1-02T14:13:11Z</dcterms:modified>
  <cp:revision>684</cp:revision>
  <dc:subject/>
  <dc:title>PowerPoint Presentation</dc:title>
</cp:coreProperties>
</file>