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117D-F595-4B22-8E31-56200F5A0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EBCB-8482-4BDC-919F-D7DBFD64D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71B9-2631-46A8-8C24-B223EA727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59A7-F2BC-4E92-ADFF-2F6006A7DB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8ED4-4ED5-466D-B3BC-FAF820611B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84D98-2094-4D4F-B0D3-65185A0FE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68CF1-EEC4-4D52-A0FE-59E00BDC9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2E71-646A-42DE-9199-B076C8801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CE4B-EDA2-402A-9089-DE6D2D88D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10B2-ED37-4D48-A7C2-3610F6CF8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3000-FAB5-44E4-BC10-60AE29E01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E0BD-8590-49F4-8110-CCC945233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E3D9-0FB0-46D6-87B8-7C0C78C0F520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3"/>
          <p:cNvSpPr/>
          <p:nvPr/>
        </p:nvSpPr>
        <p:spPr>
          <a:xfrm>
            <a:off x="7238880" y="636444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BEC3-424B-421F-9DF7-89004C540B97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920" y="3429000"/>
            <a:ext cx="910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上述的分解结果是否满足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50920" y="4076640"/>
            <a:ext cx="87138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系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系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能满足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系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不满足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N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4920" y="44280"/>
            <a:ext cx="90741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U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S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,   {  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920" y="1268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920" y="2492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3213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3280" y="5372280"/>
            <a:ext cx="6300720" cy="1341360"/>
          </a:xfrm>
          <a:prstGeom prst="borderCallout2">
            <a:avLst>
              <a:gd name="adj1" fmla="val 18750"/>
              <a:gd name="adj2" fmla="val -8333"/>
              <a:gd name="adj3" fmla="val 8518"/>
              <a:gd name="adj4" fmla="val -5444"/>
              <a:gd name="adj5" fmla="val -14083"/>
              <a:gd name="adj6" fmla="val -9851"/>
            </a:avLst>
          </a:prstGeom>
          <a:noFill/>
          <a:ln w="25560">
            <a:solidFill>
              <a:srgbClr val="ff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存在着非平凡的多值依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D →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收信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 →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抄送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3"/>
          <p:cNvSpPr/>
          <p:nvPr/>
        </p:nvSpPr>
        <p:spPr>
          <a:xfrm>
            <a:off x="7238880" y="6508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6148-233F-4A1C-A00C-85E5DE47A5E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920" y="44280"/>
            <a:ext cx="8975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规范化设计的最终结果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501336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思考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上述的关系中，有哪些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PRIMARY KEY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OREIGN KEY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之间的引用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4920" y="765000"/>
            <a:ext cx="90741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R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,  {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,  {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813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3"/>
          <p:cNvSpPr/>
          <p:nvPr/>
        </p:nvSpPr>
        <p:spPr>
          <a:xfrm>
            <a:off x="7238880" y="6508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D32B-F8A0-4A74-B3AE-62034776F115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4920" y="836640"/>
            <a:ext cx="907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786240" indent="-393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240" indent="-393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240" indent="-393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R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240" indent="-393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C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24000" y="3141720"/>
            <a:ext cx="8686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 (email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(em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R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R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(em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C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C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REFERENCE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(emai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8C38-926F-4FF9-A8F5-48031139E32D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4920" y="44280"/>
            <a:ext cx="9074160" cy="676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3]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有一个邮件管理数据库，其信息如下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人：用户名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（关键字），电话，联系地址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：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邮件标题，邮件内容，收信人集合，抄送人集合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如果是一封回信，那么除了上述的邮件信息外，还需要增加一个“被回复邮件的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”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如果将上述的所有属性组织成一个关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请问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在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中有哪些函数依赖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给出最小函数依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有哪些候选关键字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给出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3N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的分解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上述的分解结果是否满足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BCN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上述的分解结果是否满足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4N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C797-DDEB-488B-8033-01404DF21C39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4920" y="44280"/>
            <a:ext cx="907416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属性组成如下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，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mail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电话，联系地址，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邮件标题，邮件内容，收信人集合，抄送人集合，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4920" y="2060640"/>
            <a:ext cx="9074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考虑到关系模型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约束，可将上述关系表示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4920" y="4005360"/>
            <a:ext cx="8975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关系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有哪些函数依赖？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给出最小函数依赖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关系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有哪些候选关键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给出关系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3N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的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上述的分解结果是否满足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BCN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上述的分解结果是否满足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4N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9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895F-C272-444A-B414-F59393E26ACC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4920" y="1916280"/>
            <a:ext cx="8975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97440" indent="-39744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关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中有哪些函数依赖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给出最小函数依赖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26920" y="2708280"/>
            <a:ext cx="74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email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826920" y="3500280"/>
            <a:ext cx="74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95280" y="4724280"/>
            <a:ext cx="784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是否还有其他的函数依赖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4920" y="44280"/>
            <a:ext cx="9074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考虑到关系模型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约束，可将上述关系表示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2E17-80DD-4E1E-A570-B10376E2380C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08000" y="1413000"/>
            <a:ext cx="8902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97440" indent="-39744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在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中有哪些函数依赖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给出最小函数依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826920" y="2276640"/>
            <a:ext cx="741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826920" y="2924280"/>
            <a:ext cx="741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826920" y="3573360"/>
            <a:ext cx="741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emai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26920" y="4148280"/>
            <a:ext cx="741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4920" y="44280"/>
            <a:ext cx="90741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5280" y="3228840"/>
            <a:ext cx="8748720" cy="2711160"/>
            <a:chOff x="395280" y="3228840"/>
            <a:chExt cx="8748720" cy="2711160"/>
          </a:xfrm>
        </p:grpSpPr>
        <p:grpSp>
          <p:nvGrpSpPr>
            <p:cNvPr id="62" name=""/>
            <p:cNvGrpSpPr/>
            <p:nvPr/>
          </p:nvGrpSpPr>
          <p:grpSpPr>
            <a:xfrm>
              <a:off x="395280" y="3228840"/>
              <a:ext cx="8748720" cy="2711160"/>
              <a:chOff x="395280" y="3228840"/>
              <a:chExt cx="8748720" cy="2711160"/>
            </a:xfrm>
          </p:grpSpPr>
          <p:sp>
            <p:nvSpPr>
              <p:cNvPr id="63" name=""/>
              <p:cNvSpPr/>
              <p:nvPr/>
            </p:nvSpPr>
            <p:spPr>
              <a:xfrm>
                <a:off x="6732720" y="3228840"/>
                <a:ext cx="215640" cy="1584000"/>
              </a:xfrm>
              <a:custGeom>
                <a:avLst/>
                <a:gdLst>
                  <a:gd name="textAreaLeft" fmla="*/ 0 w 215640"/>
                  <a:gd name="textAreaRight" fmla="*/ 77760 w 215640"/>
                  <a:gd name="textAreaTop" fmla="*/ 41040 h 1584000"/>
                  <a:gd name="textAreaBottom" fmla="*/ 1542960 h 158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5280" y="5419440"/>
                <a:ext cx="8748720" cy="5205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(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邮件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ID) → (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邮件标题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,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邮件内容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, email, 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被回复邮件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ID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946920" y="4020840"/>
                <a:ext cx="852480" cy="1224000"/>
              </a:xfrm>
              <a:custGeom>
                <a:avLst/>
                <a:gdLst/>
                <a:ahLst/>
                <a:rect l="l" t="t" r="r" b="b"/>
                <a:pathLst>
                  <a:path w="537" h="771">
                    <a:moveTo>
                      <a:pt x="0" y="0"/>
                    </a:moveTo>
                    <a:cubicBezTo>
                      <a:pt x="185" y="72"/>
                      <a:pt x="371" y="144"/>
                      <a:pt x="454" y="272"/>
                    </a:cubicBezTo>
                    <a:cubicBezTo>
                      <a:pt x="537" y="400"/>
                      <a:pt x="518" y="585"/>
                      <a:pt x="499" y="77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7524720" y="4073400"/>
              <a:ext cx="15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合并为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5545-98A3-4171-86C3-6237E3A3B436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4920" y="836640"/>
            <a:ext cx="8975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886680" indent="-4431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19177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在关系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中有哪些函数依赖？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给出最小函数依赖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4920" y="2563920"/>
            <a:ext cx="9074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答：最小函数依赖集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F =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email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ADA4-9FFB-48DF-9B77-0102B37318A8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4920" y="44280"/>
            <a:ext cx="89758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4920" y="3284640"/>
            <a:ext cx="9047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有哪些候选关键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68360" y="4365720"/>
            <a:ext cx="849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：有一个候选关键字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收信人，抄送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灯片编号占位符 3"/>
          <p:cNvSpPr/>
          <p:nvPr/>
        </p:nvSpPr>
        <p:spPr>
          <a:xfrm>
            <a:off x="7238880" y="6508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370B-9281-48F7-B93B-75AB55E01F3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4920" y="44280"/>
            <a:ext cx="897588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键字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收信人，抄送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4920" y="4149720"/>
            <a:ext cx="912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给出关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分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4920" y="4797360"/>
            <a:ext cx="9074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4294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9160" indent="-4294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933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3"/>
          <p:cNvSpPr/>
          <p:nvPr/>
        </p:nvSpPr>
        <p:spPr>
          <a:xfrm>
            <a:off x="7238880" y="6508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6FDF-A0B9-4DC1-A356-EFD0A958B034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4920" y="44280"/>
            <a:ext cx="90741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U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(email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{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email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S ( {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邮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收信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抄送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,   {   }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4920" y="3645000"/>
            <a:ext cx="91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上述的分解结果是否满足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68360" y="4576680"/>
            <a:ext cx="8496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系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U, E, S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都能满足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920" y="1268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0" y="2492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920" y="3213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1-02T06:18:23Z</dcterms:modified>
  <cp:revision>663</cp:revision>
  <dc:subject/>
  <dc:title>PowerPoint Presentation</dc:title>
</cp:coreProperties>
</file>