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6123-97A0-4D8A-BFC3-ACCE9CC4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EC6-9F47-4D9F-96C1-952FDF03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8D4-6C93-4A3C-9EE1-08E94058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D7B-910C-4669-AC6C-43C68375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BCA-1B94-48E5-8DA2-206CDD1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E368-A912-4B70-B4D9-08C09708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A5E-6F7F-4BE5-ABAE-042B30B3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F87-61A5-48F9-B2B9-0EB9D87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EAC-F276-4010-965C-9B953C1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E3A-2EB4-421B-881B-19D5111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A4F-84E5-4C1D-AA19-0AC4A23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2CA-2E8A-4695-A7F4-F1F439BA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77120"/>
            <a:ext cx="3962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4231-BEF4-460B-B5F5-372E29D0397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最小函数依赖集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 = {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, AC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, E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08E1-3C7A-4E20-854F-29CF563B1D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–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284004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A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5113440"/>
            <a:ext cx="4038480" cy="620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CEC-C405-462E-AD1E-B198B35BA8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–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84004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E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6000" y="5113440"/>
            <a:ext cx="4038480" cy="620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3B6-E1F1-4558-8BC4-128FE6457D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–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4004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E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9520" y="5113440"/>
            <a:ext cx="4038480" cy="1195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=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因此：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替换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93F-3BDA-4C8E-A8CC-190773A38B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514600" y="907920"/>
            <a:ext cx="4038480" cy="1570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–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708280"/>
            <a:ext cx="4038480" cy="195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E 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4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H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6000" y="4940280"/>
            <a:ext cx="4038480" cy="576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5670720"/>
            <a:ext cx="403848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步骤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最终计算结果就是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EE5-CF53-415B-87C4-7F96C9996B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8840" y="1414440"/>
            <a:ext cx="2621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51280" y="2637000"/>
            <a:ext cx="936720" cy="792000"/>
          </a:xfrm>
          <a:custGeom>
            <a:avLst/>
            <a:gdLst>
              <a:gd name="textAreaLeft" fmla="*/ 146160 w 936720"/>
              <a:gd name="textAreaRight" fmla="*/ 819720 w 93672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46840" y="1917720"/>
            <a:ext cx="2981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135-E810-4F18-959A-2D0047D59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= F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BE1-0F07-40CD-8689-8C958EC602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4120" y="990360"/>
            <a:ext cx="3124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990720"/>
            <a:ext cx="4190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11280" y="3429000"/>
            <a:ext cx="5255640" cy="2346120"/>
            <a:chOff x="611280" y="3429000"/>
            <a:chExt cx="5255640" cy="2346120"/>
          </a:xfrm>
        </p:grpSpPr>
        <p:sp>
          <p:nvSpPr>
            <p:cNvPr id="49" name=""/>
            <p:cNvSpPr/>
            <p:nvPr/>
          </p:nvSpPr>
          <p:spPr>
            <a:xfrm>
              <a:off x="611280" y="4591080"/>
              <a:ext cx="5103360" cy="1184040"/>
            </a:xfrm>
            <a:prstGeom prst="wedgeRoundRectCallout">
              <a:avLst>
                <a:gd name="adj1" fmla="val 29986"/>
                <a:gd name="adj2" fmla="val -115134"/>
                <a:gd name="adj3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使用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Armstrong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公理系统的分解规则，将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fd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Arial"/>
                  <a:ea typeface="宋体"/>
                </a:rPr>
                <a:t>3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分解为依赖因素为单个属性的函数依赖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4200" y="3429000"/>
              <a:ext cx="2412720" cy="228600"/>
            </a:xfrm>
            <a:custGeom>
              <a:avLst/>
              <a:gdLst>
                <a:gd name="textAreaLeft" fmla="*/ 422280 w 2412720"/>
                <a:gd name="textAreaRight" fmla="*/ 1749240 w 24127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D0CE-A582-4726-94DF-C9C9D48EAA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76360" y="990360"/>
            <a:ext cx="5562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将每一个函数依赖都精简为完全函数依赖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这里，只要考虑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不是部分函数依赖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83808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3932280"/>
            <a:ext cx="556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左边的决定因素中，检查其中的每一个属性，判断其是不是多余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527-F0DD-4974-9140-3E2420B2C0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76360" y="9907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先考虑去掉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C } 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068640"/>
            <a:ext cx="5562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计算结果中不含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因此，不能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来代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00800" y="1600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= { C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AE01-134A-4FF9-B6FC-5AAA954C13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76360" y="9907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再考虑去掉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 A } 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1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3068640"/>
            <a:ext cx="556236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计算结果中含有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因此，可以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来代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1600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= { A, C, D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06C-4266-4B37-B6C0-2A5E44D717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065400" y="2637000"/>
            <a:ext cx="2514600" cy="2016000"/>
            <a:chOff x="3065400" y="2637000"/>
            <a:chExt cx="2514600" cy="2016000"/>
          </a:xfrm>
        </p:grpSpPr>
        <p:sp>
          <p:nvSpPr>
            <p:cNvPr id="67" name=""/>
            <p:cNvSpPr/>
            <p:nvPr/>
          </p:nvSpPr>
          <p:spPr>
            <a:xfrm>
              <a:off x="3065400" y="3566880"/>
              <a:ext cx="2514600" cy="1086120"/>
            </a:xfrm>
            <a:prstGeom prst="wedgeRoundRectCallout">
              <a:avLst>
                <a:gd name="adj1" fmla="val 4222"/>
                <a:gd name="adj2" fmla="val -90851"/>
                <a:gd name="adj3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消去 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f</a:t>
              </a:r>
              <a:r>
                <a:rPr b="1" lang="en-US" sz="2800" spc="-1" strike="noStrike" baseline="-25000">
                  <a:solidFill>
                    <a:srgbClr val="3333cc"/>
                  </a:solidFill>
                  <a:latin typeface="Arial"/>
                  <a:ea typeface="宋体"/>
                </a:rPr>
                <a:t>2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 </a:t>
              </a:r>
              <a:r>
                <a:rPr b="1" lang="zh-CN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左边多余的属性</a:t>
              </a:r>
              <a:r>
                <a:rPr b="1" lang="en-US" sz="2800" spc="-1" strike="noStrike">
                  <a:solidFill>
                    <a:srgbClr val="3333cc"/>
                  </a:solidFill>
                  <a:latin typeface="Arial"/>
                  <a:ea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94000" y="2637000"/>
              <a:ext cx="2209680" cy="228240"/>
            </a:xfrm>
            <a:custGeom>
              <a:avLst/>
              <a:gdLst>
                <a:gd name="textAreaLeft" fmla="*/ 386640 w 2209680"/>
                <a:gd name="textAreaRight" fmla="*/ 1602000 w 2209680"/>
                <a:gd name="textAreaTop" fmla="*/ 30600 h 228240"/>
                <a:gd name="textAreaBottom" fmla="*/ 19764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C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69000" y="1052640"/>
            <a:ext cx="3124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F86-8C93-4A62-AA29-6404BCA041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990720"/>
            <a:ext cx="55623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目标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消除冗余的函数依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方法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依次考虑每一个函数依赖，判断在消去该函数依赖后，新的函数依赖集是否与原来的等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196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64C-06B9-4283-AA96-7B88F676D5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14600" y="981000"/>
            <a:ext cx="4038480" cy="1569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考虑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=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–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｛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判断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= 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1)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计算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F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的最小函数依赖集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step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2695680"/>
            <a:ext cx="4038480" cy="2901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判断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蕴涵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可以转化为判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闭包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{A}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S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是否含有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依赖因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C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200" y="1054080"/>
            <a:ext cx="3124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61000" y="1052640"/>
            <a:ext cx="2475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 E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5734080"/>
            <a:ext cx="4038480" cy="574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结论：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≠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F3E-21AF-4721-90D4-D1F99B577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yb</cp:lastModifiedBy>
  <dcterms:modified xsi:type="dcterms:W3CDTF">2009-10-22T12:13:40Z</dcterms:modified>
  <cp:revision>643</cp:revision>
  <dc:subject/>
  <dc:title>PowerPoint Presentation</dc:title>
</cp:coreProperties>
</file>