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BD3-2D01-4A24-9B43-A09846A3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0AC-4285-4B53-8778-0E650490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F84-B93D-4958-9734-9C0BED09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B19-B05E-4484-B1FD-FA075B8B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CA3-8741-4821-9769-72D94F36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83BF-4107-4838-9C35-F529426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D88-1FA1-4CF0-B5CB-CA37DC65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BFA-07DF-4AF7-A195-D4CB7F94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8EC-DD2E-496B-88AD-60E9F82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433-AD9D-40EE-BCB3-6B17773B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110-365B-4FAC-8801-B4107B7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9AA-3BDB-406D-87E3-F9048770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797-786F-468E-B800-6424CF62BE3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279-3E64-49BE-B2EB-C94A365DB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0F6E-7065-47F3-9941-534D3DA053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562752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88D-7F04-480A-BBE2-11455B977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1905120"/>
            <a:ext cx="137160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270-F3F1-4680-ABDC-57B1A51B03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312408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2CE-EBEC-4F6B-92DF-CF061220E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12408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44C-9F5A-41D6-8A1F-4A713A3F11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73392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FC5-5F93-4E26-90C6-44D507CAE1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733920"/>
            <a:ext cx="1752480" cy="0"/>
          </a:xfrm>
          <a:prstGeom prst="line">
            <a:avLst/>
          </a:prstGeom>
          <a:ln w="63360">
            <a:solidFill>
              <a:srgbClr val="00cc99"/>
            </a:solidFill>
            <a:prstDash val="sysDot"/>
            <a:miter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56386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5661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13B-C7F7-455F-A24F-8F43E2EBC9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990720"/>
            <a:ext cx="3124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为在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计算过程中，函数依赖集发生了变化，因此需要返回到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消除冗余的函数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4360" y="2276640"/>
            <a:ext cx="936720" cy="576000"/>
          </a:xfrm>
          <a:prstGeom prst="rightArrow">
            <a:avLst>
              <a:gd name="adj1" fmla="val 50000"/>
              <a:gd name="adj2" fmla="val 406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359-D7A4-454F-9ED9-C30C92E479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3124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990720"/>
            <a:ext cx="3505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6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C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1752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281952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826-ABC1-404C-A669-46DCF8DA9760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530320" y="990360"/>
            <a:ext cx="3505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990720"/>
            <a:ext cx="41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2708280"/>
            <a:ext cx="936360" cy="504720"/>
          </a:xfrm>
          <a:prstGeom prst="rightArrow">
            <a:avLst>
              <a:gd name="adj1" fmla="val 50000"/>
              <a:gd name="adj2" fmla="val 463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5FB-C79B-4D68-AA2C-3781C49599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A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609588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6093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8B5-F20B-4873-BCA1-CE6F3C05B3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434-EE65-4F52-A551-0DAA8216D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2717-4C05-4D3B-82DB-D8F337AB1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251F-BF65-45A7-B90D-2A0ADB94C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6D3-DACB-4EBE-9ED4-AC18EC6B60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934E-FBAD-4FBF-951F-F8FDD75839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 → E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  <a:ea typeface="宋体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 =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B D →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D →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71500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=  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16360" y="5699160"/>
            <a:ext cx="2971800" cy="57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≠  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86C-80C3-4878-A7B0-556246EDC7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8:00Z</dcterms:modified>
  <cp:revision>639</cp:revision>
  <dc:subject/>
  <dc:title>PowerPoint Presentation</dc:title>
</cp:coreProperties>
</file>