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877-B336-4557-B586-D4C26D84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5F5-252C-4D03-A774-88F0D8F4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E8C-CE21-413C-B7E3-8D581AE4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EA3-BF4F-424A-9381-45255213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F8E-C3C4-4C3E-A53B-9DBE6B7A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B6F-4CC6-4F75-9821-D2698BBB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E2B-7055-4C52-98F7-20D0423F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00A-CD49-40B3-9F8F-6E820E51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433-7EE1-4725-9521-02120C1A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E11-C603-411A-8227-D2D24371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B4D-D639-4FAD-BA37-C4F65711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A31-1FCE-44E2-9C66-BCDE2395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ACBA-1DFF-4249-A818-7497CCC64388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70828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b c → d,  a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a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xample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,  a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ive the minimal cover M for the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19640" y="4005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a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773360"/>
            <a:ext cx="8675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1: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    b c → d,      a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941720"/>
            <a:ext cx="867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a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能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3A1-0FF0-4F72-9591-B0686DBC10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84464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a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b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xample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,  a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ive the minimal cover M for the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22560" y="31399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b, c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076640"/>
            <a:ext cx="867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b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2840" indent="-4341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能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943D-F549-4703-8A28-7E9B819C6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4464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去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a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xample 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,  a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ive the minimal cover M for the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2560" y="31399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a, c, b,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02120"/>
            <a:ext cx="820728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a,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一个冗余的函数依赖关系，可以从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删除，则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变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B14-0354-4B6F-A297-990E917B68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92280"/>
            <a:ext cx="8675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3: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只需要考虑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 c → d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处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精简为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转变为下面的函数依赖集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 = { a → b, 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44280"/>
            <a:ext cx="8686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48000" y="2205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c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2708280"/>
            <a:ext cx="8207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2" marL="134388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c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880" indent="-44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不能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来代替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076640"/>
            <a:ext cx="86756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905040" indent="-45252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Arial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c → d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精简为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则将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转变为下面的函数依赖集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 = { a → b,  b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57560" indent="-452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b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50706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  { b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58972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{ b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∴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也不能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来代替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c →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DE3-8116-4AD5-B804-68CEE3FEBB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2421000"/>
            <a:ext cx="8686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tep 3 &amp;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结果为：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a → b,  b c →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129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 = { a → b,  b c → d,  a c → d 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ive the minimal cover M for the set F of FDs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A2A-F2FD-4270-A759-95D24A4D5C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18T03:17:35Z</dcterms:modified>
  <cp:revision>641</cp:revision>
  <dc:subject/>
  <dc:title>PowerPoint Presentation</dc:title>
</cp:coreProperties>
</file>