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505-D507-4198-91BE-2702BE49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D85-66CC-4D65-A8B8-B3BA0D4B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BD5-1200-4545-9A48-14B39574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470-39A4-4811-B14B-C56BBEBB4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954-A879-4020-A5D8-2A1D7722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ECF-0BCF-4547-BA9E-A965013F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3E3-A522-48A1-9EB7-71F08B7C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0F77-A35D-46CD-84D6-CCDD6FEF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A04-3AB1-41CC-BE62-DD636799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131-FBF5-478A-8192-BB821235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04C6-A4E0-433A-A27B-3047DF75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306-09B8-493F-9A40-30809E72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E6F6-AD86-461F-BEFD-96090CA78A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35240" y="4187880"/>
            <a:ext cx="6094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221000"/>
            <a:ext cx="6094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6680" y="76320"/>
          <a:ext cx="3900600" cy="3065040"/>
        </p:xfrm>
        <a:graphic>
          <a:graphicData uri="http://schemas.openxmlformats.org/drawingml/2006/table">
            <a:tbl>
              <a:tblPr/>
              <a:tblGrid>
                <a:gridCol w="912600"/>
                <a:gridCol w="996480"/>
                <a:gridCol w="995040"/>
                <a:gridCol w="996480"/>
              </a:tblGrid>
              <a:tr h="58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2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4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2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684360" y="4187880"/>
            <a:ext cx="28018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 →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132600" y="44280"/>
          <a:ext cx="2903400" cy="3065400"/>
        </p:xfrm>
        <a:graphic>
          <a:graphicData uri="http://schemas.openxmlformats.org/drawingml/2006/table">
            <a:tbl>
              <a:tblPr/>
              <a:tblGrid>
                <a:gridCol w="912960"/>
                <a:gridCol w="993600"/>
                <a:gridCol w="996840"/>
              </a:tblGrid>
              <a:tr h="582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2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3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4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2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132600" y="3747960"/>
          <a:ext cx="2903400" cy="3065760"/>
        </p:xfrm>
        <a:graphic>
          <a:graphicData uri="http://schemas.openxmlformats.org/drawingml/2006/table">
            <a:tbl>
              <a:tblPr/>
              <a:tblGrid>
                <a:gridCol w="1906560"/>
                <a:gridCol w="996840"/>
              </a:tblGrid>
              <a:tr h="582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22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a1,c1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3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a1,c2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45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a2,c1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2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(a2,c3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427640" y="907920"/>
            <a:ext cx="1439640" cy="433440"/>
          </a:xfrm>
          <a:prstGeom prst="rightArrow">
            <a:avLst>
              <a:gd name="adj1" fmla="val 50000"/>
              <a:gd name="adj2" fmla="val 830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64000" y="2349360"/>
            <a:ext cx="432000" cy="3240360"/>
          </a:xfrm>
          <a:custGeom>
            <a:avLst/>
            <a:gdLst>
              <a:gd name="textAreaLeft" fmla="*/ 57600 w 432000"/>
              <a:gd name="textAreaRight" fmla="*/ 374400 w 432000"/>
              <a:gd name="textAreaTop" fmla="*/ 567000 h 3240360"/>
              <a:gd name="textAreaBottom" fmla="*/ 234936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3:27:29Z</dcterms:created>
  <dc:creator>wyb</dc:creator>
  <dc:description/>
  <dc:language>en-US</dc:language>
  <cp:lastModifiedBy>wyb</cp:lastModifiedBy>
  <dcterms:modified xsi:type="dcterms:W3CDTF">2009-10-07T13:34:13Z</dcterms:modified>
  <cp:revision>3</cp:revision>
  <dc:subject/>
  <dc:title>幻灯片 1</dc:title>
</cp:coreProperties>
</file>