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21F-DDD6-4149-9698-C8B51B23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44D-CCF5-4897-8E96-9F0327C0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454-19EC-49B7-9F6F-CC34E5DD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DAA5-1C90-4774-A469-8E63DB37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12C-7A0E-45B4-A6FC-73463330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37F-88C0-43C9-86DC-B5524DFA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EB21-9D79-4D3A-983B-74A8C2AB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1F8-FBBE-43C2-A603-4972E630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2B6-2B22-44CA-8513-DFB4EF01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42E-C11E-4C5E-B432-7F4D6A6A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251-6C2A-4EA4-95DA-B3BA068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BD0-2DAA-4D5A-9C43-CBDAA3FB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BCBB-5E0E-475A-A417-17F63A08DC38}" type="datetime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A095-D33A-436C-A86C-A97DD6313C4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请利用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rmstrong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公理系统证明下面的推导过程是否成立？如果不成立，请给出具体的例子关系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W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 and Z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Y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, W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1C7-5D2C-4CF8-BE0C-0311EA5CA98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5DEE6-35A6-4B45-91FE-60086D47A1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erci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请利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mstro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公理系统证明下面的推导过程是否成立？如果不成立，请给出具体的例子关系。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1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W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2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 and Z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Y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3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, W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4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W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5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6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7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8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 }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9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, 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 }    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YZ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宋体"/>
              </a:rPr>
              <a:t>10. {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XY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Z, Z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  { X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宋体"/>
              </a:rPr>
              <a:t>W }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CB0C-8A1C-4A50-85E3-9F3B7B776F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BF0EE-C3A0-464D-B822-2E091957A9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,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W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反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X, Y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895480"/>
            <a:ext cx="807696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 } and 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自反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876920"/>
            <a:ext cx="807696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, W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,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Y, W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B8A-4DC4-4D0A-B158-37DB2084A20D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7B22E-830C-44ED-9097-A5F79BF2CF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0880"/>
            <a:ext cx="8153280" cy="1524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, X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即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Y, X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815328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Z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W }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 XZ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W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广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Y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, Y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Z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648320"/>
            <a:ext cx="8153280" cy="152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Z }    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Z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传递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Y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并规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, 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Z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2D9-31E4-4365-BA9F-CD281767135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0B641-492C-4AF5-81A2-188F12A666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W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W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828800" y="1066680"/>
          <a:ext cx="3962520" cy="140976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990720"/>
              </a:tblGrid>
              <a:tr h="470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85800" y="365760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, 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Z } 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05120" y="4343400"/>
          <a:ext cx="3885840" cy="2349360"/>
        </p:xfrm>
        <a:graphic>
          <a:graphicData uri="http://schemas.openxmlformats.org/drawingml/2006/table">
            <a:tbl>
              <a:tblPr/>
              <a:tblGrid>
                <a:gridCol w="1294920"/>
                <a:gridCol w="1295640"/>
                <a:gridCol w="1295280"/>
              </a:tblGrid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70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DAF-1455-4A88-A723-91864264CB86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66EF9-E1F5-4F5E-BD0B-63565BFB2A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808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Z,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 }   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{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Y }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09680" y="1066680"/>
          <a:ext cx="4572000" cy="140976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470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85800" y="3581280"/>
            <a:ext cx="7772400" cy="533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{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XY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Z, Z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W }  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  { X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W }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成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4199040"/>
          <a:ext cx="4800600" cy="1409760"/>
        </p:xfrm>
        <a:graphic>
          <a:graphicData uri="http://schemas.openxmlformats.org/drawingml/2006/table">
            <a:tbl>
              <a:tblPr/>
              <a:tblGrid>
                <a:gridCol w="1199880"/>
                <a:gridCol w="1200240"/>
                <a:gridCol w="1200240"/>
                <a:gridCol w="1200240"/>
              </a:tblGrid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6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cc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BC93-0A0D-40DF-B0E5-ED97641399D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0EE3C-FEC6-4E65-A815-8C7642A986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wy</cp:lastModifiedBy>
  <dcterms:modified xsi:type="dcterms:W3CDTF">2007-12-13T02:13:10Z</dcterms:modified>
  <cp:revision>607</cp:revision>
  <dc:subject/>
  <dc:title>PowerPoint Presentation</dc:title>
</cp:coreProperties>
</file>