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FE49-57B7-45A9-A524-6D64A5F41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43640"/>
            <a:ext cx="83822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0D0D-5B7C-4D75-8A59-1CE2EEE6F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4364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4364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F923-2B83-4835-AA1D-767D6D781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4364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4364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4364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9E7D-45C8-4F24-82D3-8F68D87780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BA36-44F1-4062-BC3A-BBE468493D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D8EB-A004-48F0-AD1E-6AB36CCEC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B54B-3498-4C75-8EA4-2919A20E6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3C76-B0C4-404C-82EF-B648BC480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8439-4AD5-4509-BA46-959C43D9E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4364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4DF0-7B11-414D-AF54-40448E5A5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4364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7EA86-E852-4708-BD10-1E7FDF872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43640"/>
            <a:ext cx="83822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847A-FE6B-4647-9577-885E9C727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62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F1E1-3E46-4B45-A026-36F8B7ED495E}" type="slidenum">
              <a:rPr b="1" i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6705360"/>
            <a:ext cx="5029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r>
              <a:rPr b="0" i="1" lang="zh-CN" sz="1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缺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-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2270160"/>
          <a:ext cx="9144000" cy="461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70160"/>
                    <a:ext cx="914400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692280"/>
            <a:ext cx="83822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数据冗余度大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缺点：浪费存储空间，增加了数据更新的时间开销，容易出现修改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E7DD-8934-4BDE-B0AA-129064BF0A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缺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-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2270160"/>
          <a:ext cx="9144000" cy="461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70160"/>
                    <a:ext cx="914400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692280"/>
            <a:ext cx="83822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插入异常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可能有些元组插入操作（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sert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无法执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3D84-A586-46D9-9E72-14D71BE4E3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1220760"/>
          <a:ext cx="9144000" cy="516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0760"/>
                    <a:ext cx="9144000" cy="51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44280"/>
            <a:ext cx="83822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例如：假设允许插入一门尚未有学生选修的课程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104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B, 103)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其结果如下：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30864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该结果关系将违反关于关系的“实体完整性约束”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1198-8ED4-493B-8405-FEF498D487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缺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-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2270160"/>
          <a:ext cx="9144000" cy="461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70160"/>
                    <a:ext cx="914400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692280"/>
            <a:ext cx="83822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删除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异常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可能会连带删除掉一些其它信息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AF43-08B0-446C-A6DD-676A24CC7C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)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删除异常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cont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052640"/>
          <a:ext cx="9144000" cy="461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52640"/>
                    <a:ext cx="914400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4948200"/>
            <a:ext cx="5219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95640" y="1995480"/>
            <a:ext cx="6734160" cy="1802160"/>
          </a:xfrm>
          <a:prstGeom prst="cloudCallout">
            <a:avLst>
              <a:gd name="adj1" fmla="val -31921"/>
              <a:gd name="adj2" fmla="val 109634"/>
            </a:avLst>
          </a:prstGeom>
          <a:solidFill>
            <a:srgbClr val="eaeae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假设需要删除学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03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世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CS, 17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C127-7CCA-4C1D-9D90-7C01275266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)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删除异常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cont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1052640"/>
          <a:ext cx="9144000" cy="461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52640"/>
                    <a:ext cx="9144000" cy="46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0" y="4943520"/>
            <a:ext cx="9144000" cy="647640"/>
          </a:xfrm>
          <a:prstGeom prst="ellipse">
            <a:avLst/>
          </a:prstGeom>
          <a:solidFill>
            <a:srgbClr val="eaeaea">
              <a:alpha val="5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76360" y="1544760"/>
            <a:ext cx="7453440" cy="2076120"/>
          </a:xfrm>
          <a:prstGeom prst="cloudCallout">
            <a:avLst>
              <a:gd name="adj1" fmla="val -27555"/>
              <a:gd name="adj2" fmla="val 110087"/>
            </a:avLst>
          </a:prstGeom>
          <a:solidFill>
            <a:srgbClr val="eaeae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>
              <a:lnSpc>
                <a:spcPct val="13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此需要删除该学生所在的元组，结果会导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1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门课程的信息也一起被删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A06F-1B88-4669-977F-7C80015761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)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删除异常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cont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915840"/>
          <a:ext cx="9144000" cy="488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5840"/>
                    <a:ext cx="914400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0" y="573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结果关系中，再也找不到课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0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信息了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854B-59BA-467C-8D7B-6F5AF40026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方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建立的数据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-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8600" y="898560"/>
          <a:ext cx="3809880" cy="22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898560"/>
                    <a:ext cx="38098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52280" y="3105000"/>
          <a:ext cx="3962520" cy="327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3105000"/>
                    <a:ext cx="39625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572000" y="898560"/>
          <a:ext cx="4343400" cy="5029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898560"/>
                    <a:ext cx="4343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0" y="630864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不会再存在上述的三个方面的缺点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4D42-AECF-4CAF-99E9-6B9AD4EBB5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b</cp:lastModifiedBy>
  <dcterms:modified xsi:type="dcterms:W3CDTF">2009-10-07T06:51:18Z</dcterms:modified>
  <cp:revision>815</cp:revision>
  <dc:subject/>
  <dc:title>PowerPoint Presentation</dc:title>
</cp:coreProperties>
</file>