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3BED-7FD0-4B91-AE6D-6D48C3007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394B-D740-41B9-8B78-6423983AA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3EA9-F6FC-499A-B958-1475144C6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F37D-8778-4692-8E85-04D5FA764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74BF-113E-43B7-A672-45987E4E3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6B32-08AD-4681-9E2F-9405CEC61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8EE3-2D9F-4259-BEE7-8A446D34A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9C62-F1CC-4433-B758-DDA0417C6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B9DD-BFF2-490E-BD70-2D5180601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1756-A391-4915-B97C-0F800ABC1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D023-B156-4348-8F13-BC52C1304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F25D-9ECA-4BF7-9E0C-FAAF59040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920" y="6597360"/>
            <a:ext cx="6121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5DC5-04B1-4EB1-9411-1C1EA9B1891F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。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4641-ACEB-4038-A5D7-1C49D5FA27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360" y="404640"/>
          <a:ext cx="4494240" cy="21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4640"/>
                    <a:ext cx="449424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590920" y="1600200"/>
          <a:ext cx="2743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60020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590920" y="1752480"/>
            <a:ext cx="2819160" cy="366120"/>
            <a:chOff x="2590920" y="1752480"/>
            <a:chExt cx="2819160" cy="366120"/>
          </a:xfrm>
        </p:grpSpPr>
        <p:sp>
          <p:nvSpPr>
            <p:cNvPr id="122" name=""/>
            <p:cNvSpPr/>
            <p:nvPr/>
          </p:nvSpPr>
          <p:spPr>
            <a:xfrm>
              <a:off x="259092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79280" y="2492280"/>
            <a:ext cx="5025960" cy="2595960"/>
            <a:chOff x="179280" y="2492280"/>
            <a:chExt cx="5025960" cy="2595960"/>
          </a:xfrm>
        </p:grpSpPr>
        <p:sp>
          <p:nvSpPr>
            <p:cNvPr id="125" name=""/>
            <p:cNvSpPr/>
            <p:nvPr/>
          </p:nvSpPr>
          <p:spPr>
            <a:xfrm>
              <a:off x="2614680" y="3559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76240" y="2492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81360" y="4168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80" y="3554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7280" y="4468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28880" y="3940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386080" y="4168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56000" y="3157560"/>
            <a:ext cx="2209320" cy="1280520"/>
            <a:chOff x="2556000" y="3157560"/>
            <a:chExt cx="2209320" cy="1280520"/>
          </a:xfrm>
        </p:grpSpPr>
        <p:sp>
          <p:nvSpPr>
            <p:cNvPr id="133" name=""/>
            <p:cNvSpPr/>
            <p:nvPr/>
          </p:nvSpPr>
          <p:spPr>
            <a:xfrm>
              <a:off x="2556000" y="31575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1280" y="40719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1052640"/>
            <a:ext cx="7238880" cy="4784760"/>
            <a:chOff x="468360" y="1052640"/>
            <a:chExt cx="7238880" cy="4784760"/>
          </a:xfrm>
        </p:grpSpPr>
        <p:sp>
          <p:nvSpPr>
            <p:cNvPr id="136" name=""/>
            <p:cNvSpPr/>
            <p:nvPr/>
          </p:nvSpPr>
          <p:spPr>
            <a:xfrm>
              <a:off x="468360" y="12812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7680" y="12812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21240" y="120528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02280" y="495468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7560" y="5472360"/>
              <a:ext cx="609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64240" y="547236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1440" y="478656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2840" y="4177080"/>
              <a:ext cx="685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69160" y="10526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97760" y="2135520"/>
              <a:ext cx="609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2240" y="343080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449748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1ED0-E599-4E10-B489-5DD3CDAC90E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268280"/>
            <a:ext cx="122400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844640"/>
            <a:ext cx="1224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781360"/>
            <a:ext cx="1656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1FBC-02F1-45AB-A250-47B6CE97D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844640"/>
            <a:ext cx="640872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95640" y="2133720"/>
          <a:ext cx="4752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4752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B604-84C7-4E83-A4AB-F04E5E5AD0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349360"/>
            <a:ext cx="792000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2795760"/>
            <a:ext cx="7993080" cy="712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997360"/>
          <a:ext cx="669780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6697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4ADF-187B-427E-9AA7-4883067AC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284640"/>
            <a:ext cx="7920000" cy="712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95640" y="3933720"/>
          <a:ext cx="55432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933720"/>
                    <a:ext cx="55432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3716280"/>
            <a:ext cx="151308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008B-F5E6-489C-B42B-651FE89DBB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1341360"/>
            <a:ext cx="1728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5280" y="1844640"/>
            <a:ext cx="100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5B02-426E-4F61-964A-68890A963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844640"/>
            <a:ext cx="575964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11240" y="380376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240" y="380376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757760" y="382752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7760" y="382752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627280" y="5013360"/>
          <a:ext cx="2743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501336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2631960" y="5175360"/>
            <a:ext cx="2819160" cy="366120"/>
            <a:chOff x="2631960" y="5175360"/>
            <a:chExt cx="2819160" cy="366120"/>
          </a:xfrm>
        </p:grpSpPr>
        <p:sp>
          <p:nvSpPr>
            <p:cNvPr id="78" name=""/>
            <p:cNvSpPr/>
            <p:nvPr/>
          </p:nvSpPr>
          <p:spPr>
            <a:xfrm>
              <a:off x="2631960" y="5175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6720" y="5175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7B5E-B77F-434F-AF86-6259BAECB4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1628640"/>
            <a:ext cx="777564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2060640"/>
            <a:ext cx="280836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-181080" y="285264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85264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152880" y="4005360"/>
          <a:ext cx="617220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2880" y="400536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2627280" y="3429000"/>
            <a:ext cx="3730680" cy="1437840"/>
            <a:chOff x="2627280" y="3429000"/>
            <a:chExt cx="3730680" cy="1437840"/>
          </a:xfrm>
        </p:grpSpPr>
        <p:sp>
          <p:nvSpPr>
            <p:cNvPr id="88" name=""/>
            <p:cNvSpPr/>
            <p:nvPr/>
          </p:nvSpPr>
          <p:spPr>
            <a:xfrm>
              <a:off x="4140000" y="3429000"/>
              <a:ext cx="144792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627280" y="3787200"/>
              <a:ext cx="151272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5600" y="3787560"/>
              <a:ext cx="792360" cy="1079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336840" y="3998880"/>
            <a:ext cx="2747880" cy="439200"/>
            <a:chOff x="3336840" y="3998880"/>
            <a:chExt cx="2747880" cy="439200"/>
          </a:xfrm>
        </p:grpSpPr>
        <p:sp>
          <p:nvSpPr>
            <p:cNvPr id="92" name=""/>
            <p:cNvSpPr/>
            <p:nvPr/>
          </p:nvSpPr>
          <p:spPr>
            <a:xfrm>
              <a:off x="3336840" y="4071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70320" y="39988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" y="115920"/>
            <a:ext cx="9074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F2E3-B7BF-404A-9569-71D82E621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132000" y="4005360"/>
          <a:ext cx="6172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00536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563920"/>
            <a:ext cx="777564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181080" y="2852640"/>
          <a:ext cx="38862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285264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2627280" y="4076640"/>
            <a:ext cx="2881440" cy="942480"/>
            <a:chOff x="2627280" y="4076640"/>
            <a:chExt cx="2881440" cy="942480"/>
          </a:xfrm>
        </p:grpSpPr>
        <p:sp>
          <p:nvSpPr>
            <p:cNvPr id="102" name=""/>
            <p:cNvSpPr/>
            <p:nvPr/>
          </p:nvSpPr>
          <p:spPr>
            <a:xfrm>
              <a:off x="3419640" y="4076640"/>
              <a:ext cx="1447560" cy="76212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627280" y="4436640"/>
              <a:ext cx="8650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4437000"/>
              <a:ext cx="64944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00360" y="46530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27640" y="46530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924360" y="2952000"/>
            <a:ext cx="3095640" cy="1340640"/>
            <a:chOff x="3924360" y="2952000"/>
            <a:chExt cx="3095640" cy="1340640"/>
          </a:xfrm>
        </p:grpSpPr>
        <p:sp>
          <p:nvSpPr>
            <p:cNvPr id="108" name=""/>
            <p:cNvSpPr/>
            <p:nvPr/>
          </p:nvSpPr>
          <p:spPr>
            <a:xfrm>
              <a:off x="3924360" y="2952000"/>
              <a:ext cx="1830240" cy="61956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3280" y="3599640"/>
              <a:ext cx="1836720" cy="61956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572000" y="4005360"/>
              <a:ext cx="614520" cy="287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356000" y="3573000"/>
              <a:ext cx="432000" cy="576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920" y="115920"/>
            <a:ext cx="9074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4030-20BA-4A47-AD33-50DD61E403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7T05:28:13Z</dcterms:modified>
  <cp:revision>715</cp:revision>
  <dc:subject/>
  <dc:title>PowerPoint Presentation</dc:title>
</cp:coreProperties>
</file>