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C1F49-D857-4037-A0AD-40BDCEA231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73680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E4684-DA32-48C8-B9FE-B6AEC0F715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73680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13328-A8F0-4E45-9F33-BAFA93E210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99036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99036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73680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73680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73680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D714A-F077-42E6-8F8E-41A3AE04924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8F36C-3BA9-4E34-BA72-65B7926FD75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9DCE8-36F0-4C93-9B86-EEC059A21F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3F5B4-40C1-46D0-A03F-109CAE42BC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D7481-4BDD-4CED-A1E4-25C7C50654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72C2C-E589-4C6D-9F11-B341B39490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22230-1A5A-47F3-8ADA-F94297C66D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73680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74766-E1AA-4B77-9159-D43730649A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7643D-C857-484C-9F36-0819B36372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9966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9966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9966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buClr>
                <a:srgbClr val="9966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buClr>
                <a:srgbClr val="9966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6477120"/>
            <a:ext cx="1905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8F4E1-E802-42A1-91EE-C7A02494D29F}" type="slidenum">
              <a:rPr b="1" i="1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382240" cy="411480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Times New Roman"/>
                <a:ea typeface="宋体"/>
              </a:rPr>
              <a:t>数据库设计示例 </a:t>
            </a:r>
            <a:r>
              <a:rPr b="1" lang="en-US" sz="4400" spc="-1" strike="noStrike">
                <a:solidFill>
                  <a:srgbClr val="ff0066"/>
                </a:solidFill>
                <a:latin typeface="Times New Roman"/>
                <a:ea typeface="宋体"/>
              </a:rPr>
              <a:t>3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灯片编号占位符 3"/>
          <p:cNvSpPr/>
          <p:nvPr/>
        </p:nvSpPr>
        <p:spPr>
          <a:xfrm>
            <a:off x="7238880" y="64771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66B39-D6C4-4786-958B-26C05CDEE2EA}" type="slidenum">
              <a:rPr b="1" i="1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Case Study 3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[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例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3]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有一个邮件管理数据库，其信息如下：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601"/>
              </a:spcBef>
              <a:buClr>
                <a:srgbClr val="99663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宋体"/>
              </a:rPr>
              <a:t>联系人：用户名，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宋体"/>
              </a:rPr>
              <a:t>email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宋体"/>
              </a:rPr>
              <a:t>（关键字），电话，联系地址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601"/>
              </a:spcBef>
              <a:buClr>
                <a:srgbClr val="99663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宋体"/>
              </a:rPr>
              <a:t>邮件：邮件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宋体"/>
              </a:rPr>
              <a:t>ID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宋体"/>
              </a:rPr>
              <a:t>，邮件标题，邮件内容，收信人集合，抄送人集合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601"/>
              </a:spcBef>
              <a:buClr>
                <a:srgbClr val="99663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宋体"/>
              </a:rPr>
              <a:t>如果是一封回信，那么除了上述的邮件信息外，还需要增加一个“被回复邮件的邮件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宋体"/>
              </a:rPr>
              <a:t>ID”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4572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lvl="1" marL="9144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宋体"/>
                <a:ea typeface="宋体"/>
              </a:rPr>
              <a:t>请用</a:t>
            </a:r>
            <a:r>
              <a:rPr b="1" lang="en-US" sz="2400" spc="-1" strike="noStrike">
                <a:solidFill>
                  <a:srgbClr val="3333cc"/>
                </a:solidFill>
                <a:latin typeface="宋体"/>
                <a:ea typeface="宋体"/>
              </a:rPr>
              <a:t>E-R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  <a:ea typeface="宋体"/>
              </a:rPr>
              <a:t>模型表示该数据库系统的概念模型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250920" y="1628640"/>
            <a:ext cx="2490480" cy="2521080"/>
            <a:chOff x="250920" y="1628640"/>
            <a:chExt cx="2490480" cy="2521080"/>
          </a:xfrm>
        </p:grpSpPr>
        <p:sp>
          <p:nvSpPr>
            <p:cNvPr id="44" name=""/>
            <p:cNvSpPr/>
            <p:nvPr/>
          </p:nvSpPr>
          <p:spPr>
            <a:xfrm>
              <a:off x="1707840" y="2133720"/>
              <a:ext cx="1033560" cy="15112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0" bIns="82800" anchor="t" anchorCtr="1" vert="eaVer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联系人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50920" y="1628640"/>
              <a:ext cx="1223640" cy="505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00ff"/>
                  </a:solidFill>
                  <a:uFillTx/>
                  <a:latin typeface="Arial"/>
                  <a:ea typeface="宋体"/>
                </a:rPr>
                <a:t>emai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50920" y="2276640"/>
              <a:ext cx="1223640" cy="504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用户名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0920" y="2995560"/>
              <a:ext cx="1223640" cy="504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电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50920" y="3645000"/>
              <a:ext cx="1223640" cy="504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地址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474560" y="1916280"/>
              <a:ext cx="431280" cy="43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74560" y="2563920"/>
              <a:ext cx="431280" cy="288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1474560" y="2924280"/>
              <a:ext cx="431280" cy="28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V="1">
              <a:off x="1474560" y="3428640"/>
              <a:ext cx="431280" cy="431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4643280" y="620640"/>
            <a:ext cx="3024360" cy="4537080"/>
            <a:chOff x="4643280" y="620640"/>
            <a:chExt cx="3024360" cy="4537080"/>
          </a:xfrm>
        </p:grpSpPr>
        <p:sp>
          <p:nvSpPr>
            <p:cNvPr id="54" name=""/>
            <p:cNvSpPr/>
            <p:nvPr/>
          </p:nvSpPr>
          <p:spPr>
            <a:xfrm>
              <a:off x="5821920" y="2133720"/>
              <a:ext cx="606960" cy="15112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0" bIns="82800" anchor="t" anchorCtr="1" vert="eaVer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邮 件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435640" y="620640"/>
              <a:ext cx="1297080" cy="504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 u="sng">
                  <a:solidFill>
                    <a:srgbClr val="0000ff"/>
                  </a:solidFill>
                  <a:uFillTx/>
                  <a:latin typeface="Arial"/>
                  <a:ea typeface="宋体"/>
                </a:rPr>
                <a:t>邮件</a:t>
              </a:r>
              <a:r>
                <a:rPr b="1" lang="en-US" sz="2400" spc="-1" strike="noStrike" u="sng">
                  <a:solidFill>
                    <a:srgbClr val="0000ff"/>
                  </a:solidFill>
                  <a:uFillTx/>
                  <a:latin typeface="Arial"/>
                  <a:ea typeface="宋体"/>
                </a:rPr>
                <a:t>I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643280" y="4651200"/>
              <a:ext cx="1440000" cy="505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邮件标题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227640" y="4653000"/>
              <a:ext cx="1440000" cy="504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邮件内容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084720" y="1125360"/>
              <a:ext cx="0" cy="1008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227640" y="3645000"/>
              <a:ext cx="289080" cy="1008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5651640" y="3645000"/>
              <a:ext cx="431640" cy="1008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2556000" y="1421280"/>
            <a:ext cx="3240000" cy="928080"/>
            <a:chOff x="2556000" y="1421280"/>
            <a:chExt cx="3240000" cy="928080"/>
          </a:xfrm>
        </p:grpSpPr>
        <p:sp>
          <p:nvSpPr>
            <p:cNvPr id="62" name=""/>
            <p:cNvSpPr/>
            <p:nvPr/>
          </p:nvSpPr>
          <p:spPr>
            <a:xfrm>
              <a:off x="3276720" y="1421280"/>
              <a:ext cx="1555560" cy="732240"/>
            </a:xfrm>
            <a:prstGeom prst="diamond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发送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2556000" y="1773360"/>
              <a:ext cx="720720" cy="576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859280" y="1773360"/>
              <a:ext cx="936720" cy="576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627280" y="1628640"/>
              <a:ext cx="503280" cy="2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005440" y="1628640"/>
              <a:ext cx="503280" cy="2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  <a:ea typeface="宋体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2556000" y="2472120"/>
            <a:ext cx="3240000" cy="732240"/>
            <a:chOff x="2556000" y="2472120"/>
            <a:chExt cx="3240000" cy="732240"/>
          </a:xfrm>
        </p:grpSpPr>
        <p:sp>
          <p:nvSpPr>
            <p:cNvPr id="68" name=""/>
            <p:cNvSpPr/>
            <p:nvPr/>
          </p:nvSpPr>
          <p:spPr>
            <a:xfrm>
              <a:off x="3276720" y="2472120"/>
              <a:ext cx="1555560" cy="732240"/>
            </a:xfrm>
            <a:prstGeom prst="diamond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接收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556000" y="2852640"/>
              <a:ext cx="720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859280" y="2852640"/>
              <a:ext cx="936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700360" y="2492280"/>
              <a:ext cx="50328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  <a:ea typeface="宋体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932360" y="2492280"/>
              <a:ext cx="50328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  <a:ea typeface="宋体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2556000" y="3429000"/>
            <a:ext cx="3240000" cy="891360"/>
            <a:chOff x="2556000" y="3429000"/>
            <a:chExt cx="3240000" cy="891360"/>
          </a:xfrm>
        </p:grpSpPr>
        <p:sp>
          <p:nvSpPr>
            <p:cNvPr id="74" name=""/>
            <p:cNvSpPr/>
            <p:nvPr/>
          </p:nvSpPr>
          <p:spPr>
            <a:xfrm>
              <a:off x="3276720" y="3588120"/>
              <a:ext cx="1555560" cy="732240"/>
            </a:xfrm>
            <a:prstGeom prst="diamond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抄送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flipV="1">
              <a:off x="2556000" y="3429000"/>
              <a:ext cx="720720" cy="504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V="1">
              <a:off x="4859280" y="3429000"/>
              <a:ext cx="936720" cy="504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556000" y="3860640"/>
              <a:ext cx="503280" cy="2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  <a:ea typeface="宋体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05440" y="3860640"/>
              <a:ext cx="503280" cy="2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  <a:ea typeface="宋体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6443640" y="1987560"/>
            <a:ext cx="2563920" cy="1584360"/>
            <a:chOff x="6443640" y="1987560"/>
            <a:chExt cx="2563920" cy="1584360"/>
          </a:xfrm>
        </p:grpSpPr>
        <p:sp>
          <p:nvSpPr>
            <p:cNvPr id="80" name=""/>
            <p:cNvSpPr/>
            <p:nvPr/>
          </p:nvSpPr>
          <p:spPr>
            <a:xfrm>
              <a:off x="7451640" y="2429280"/>
              <a:ext cx="1555920" cy="732240"/>
            </a:xfrm>
            <a:prstGeom prst="diamond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回复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443640" y="2419200"/>
              <a:ext cx="1800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443640" y="3213000"/>
              <a:ext cx="1800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659640" y="1987560"/>
              <a:ext cx="151128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发送的邮件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659640" y="3213000"/>
              <a:ext cx="151128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回复的邮件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6877080" y="2421000"/>
            <a:ext cx="503280" cy="790560"/>
            <a:chOff x="6877080" y="2421000"/>
            <a:chExt cx="503280" cy="790560"/>
          </a:xfrm>
        </p:grpSpPr>
        <p:sp>
          <p:nvSpPr>
            <p:cNvPr id="86" name=""/>
            <p:cNvSpPr/>
            <p:nvPr/>
          </p:nvSpPr>
          <p:spPr>
            <a:xfrm>
              <a:off x="6877080" y="2421000"/>
              <a:ext cx="50328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877080" y="2924280"/>
              <a:ext cx="50328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  <a:ea typeface="宋体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1835280" y="5877000"/>
            <a:ext cx="55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ER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模型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250920" y="1771560"/>
            <a:ext cx="2490480" cy="2521080"/>
            <a:chOff x="250920" y="1771560"/>
            <a:chExt cx="2490480" cy="2521080"/>
          </a:xfrm>
        </p:grpSpPr>
        <p:sp>
          <p:nvSpPr>
            <p:cNvPr id="90" name=""/>
            <p:cNvSpPr/>
            <p:nvPr/>
          </p:nvSpPr>
          <p:spPr>
            <a:xfrm>
              <a:off x="1707840" y="2276640"/>
              <a:ext cx="1033560" cy="15112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0" bIns="82800" anchor="t" anchorCtr="1" vert="eaVer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联系人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50920" y="1771560"/>
              <a:ext cx="1223640" cy="505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00ff"/>
                  </a:solidFill>
                  <a:uFillTx/>
                  <a:latin typeface="Arial"/>
                  <a:ea typeface="宋体"/>
                </a:rPr>
                <a:t>emai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50920" y="2419560"/>
              <a:ext cx="1223640" cy="504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用户名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50920" y="3138480"/>
              <a:ext cx="1223640" cy="504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电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50920" y="3787920"/>
              <a:ext cx="1223640" cy="504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地址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474560" y="2059200"/>
              <a:ext cx="431280" cy="43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474560" y="2706840"/>
              <a:ext cx="431280" cy="288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1474560" y="3067200"/>
              <a:ext cx="431280" cy="28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V="1">
              <a:off x="1474560" y="3571560"/>
              <a:ext cx="431280" cy="431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4643280" y="763560"/>
            <a:ext cx="3024360" cy="4537080"/>
            <a:chOff x="4643280" y="763560"/>
            <a:chExt cx="3024360" cy="4537080"/>
          </a:xfrm>
        </p:grpSpPr>
        <p:sp>
          <p:nvSpPr>
            <p:cNvPr id="100" name=""/>
            <p:cNvSpPr/>
            <p:nvPr/>
          </p:nvSpPr>
          <p:spPr>
            <a:xfrm>
              <a:off x="5821920" y="2276640"/>
              <a:ext cx="606960" cy="15112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0" bIns="82800" anchor="t" anchorCtr="1" vert="eaVer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邮 件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35640" y="763560"/>
              <a:ext cx="1297080" cy="504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 u="sng">
                  <a:solidFill>
                    <a:srgbClr val="0000ff"/>
                  </a:solidFill>
                  <a:uFillTx/>
                  <a:latin typeface="Arial"/>
                  <a:ea typeface="宋体"/>
                </a:rPr>
                <a:t>邮件</a:t>
              </a:r>
              <a:r>
                <a:rPr b="1" lang="en-US" sz="2400" spc="-1" strike="noStrike" u="sng">
                  <a:solidFill>
                    <a:srgbClr val="0000ff"/>
                  </a:solidFill>
                  <a:uFillTx/>
                  <a:latin typeface="Arial"/>
                  <a:ea typeface="宋体"/>
                </a:rPr>
                <a:t>I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643280" y="4794120"/>
              <a:ext cx="1440000" cy="505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邮件标题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227640" y="4795920"/>
              <a:ext cx="1440000" cy="504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邮件内容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084720" y="1268280"/>
              <a:ext cx="0" cy="1008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227640" y="3787920"/>
              <a:ext cx="289080" cy="1008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V="1">
              <a:off x="5651640" y="3787920"/>
              <a:ext cx="431640" cy="1008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2556000" y="1564200"/>
            <a:ext cx="3240000" cy="928080"/>
            <a:chOff x="2556000" y="1564200"/>
            <a:chExt cx="3240000" cy="928080"/>
          </a:xfrm>
        </p:grpSpPr>
        <p:sp>
          <p:nvSpPr>
            <p:cNvPr id="108" name=""/>
            <p:cNvSpPr/>
            <p:nvPr/>
          </p:nvSpPr>
          <p:spPr>
            <a:xfrm>
              <a:off x="3276720" y="1564200"/>
              <a:ext cx="1555560" cy="732240"/>
            </a:xfrm>
            <a:prstGeom prst="diamond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发送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>
              <a:off x="2556000" y="1916280"/>
              <a:ext cx="720720" cy="576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59280" y="1916280"/>
              <a:ext cx="936720" cy="576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627280" y="1771560"/>
              <a:ext cx="503280" cy="2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  <a:ea typeface="宋体"/>
                </a:rPr>
                <a:t>(0,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005440" y="1771560"/>
              <a:ext cx="503280" cy="2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  <a:ea typeface="宋体"/>
                </a:rPr>
                <a:t>(1,1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2556000" y="2615040"/>
            <a:ext cx="3240000" cy="732240"/>
            <a:chOff x="2556000" y="2615040"/>
            <a:chExt cx="3240000" cy="732240"/>
          </a:xfrm>
        </p:grpSpPr>
        <p:sp>
          <p:nvSpPr>
            <p:cNvPr id="114" name=""/>
            <p:cNvSpPr/>
            <p:nvPr/>
          </p:nvSpPr>
          <p:spPr>
            <a:xfrm>
              <a:off x="3276720" y="2615040"/>
              <a:ext cx="1555560" cy="732240"/>
            </a:xfrm>
            <a:prstGeom prst="diamond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接收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556000" y="2995560"/>
              <a:ext cx="720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859280" y="2995560"/>
              <a:ext cx="936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700360" y="2635200"/>
              <a:ext cx="50328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  <a:ea typeface="宋体"/>
                </a:rPr>
                <a:t>(0,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932360" y="2635200"/>
              <a:ext cx="50328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  <a:ea typeface="宋体"/>
                </a:rPr>
                <a:t>(1,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556000" y="3571920"/>
            <a:ext cx="3240000" cy="891360"/>
            <a:chOff x="2556000" y="3571920"/>
            <a:chExt cx="3240000" cy="891360"/>
          </a:xfrm>
        </p:grpSpPr>
        <p:sp>
          <p:nvSpPr>
            <p:cNvPr id="120" name=""/>
            <p:cNvSpPr/>
            <p:nvPr/>
          </p:nvSpPr>
          <p:spPr>
            <a:xfrm>
              <a:off x="3276720" y="3731040"/>
              <a:ext cx="1555560" cy="732240"/>
            </a:xfrm>
            <a:prstGeom prst="diamond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抄送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 flipV="1">
              <a:off x="2556000" y="3571920"/>
              <a:ext cx="720720" cy="504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4859280" y="3571920"/>
              <a:ext cx="936720" cy="504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56000" y="4003560"/>
              <a:ext cx="503280" cy="2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  <a:ea typeface="宋体"/>
                </a:rPr>
                <a:t>(0,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005440" y="4003560"/>
              <a:ext cx="503280" cy="2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  <a:ea typeface="宋体"/>
                </a:rPr>
                <a:t>(0,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443640" y="2130480"/>
            <a:ext cx="2563920" cy="1584360"/>
            <a:chOff x="6443640" y="2130480"/>
            <a:chExt cx="2563920" cy="1584360"/>
          </a:xfrm>
        </p:grpSpPr>
        <p:sp>
          <p:nvSpPr>
            <p:cNvPr id="126" name=""/>
            <p:cNvSpPr/>
            <p:nvPr/>
          </p:nvSpPr>
          <p:spPr>
            <a:xfrm>
              <a:off x="7451640" y="2572200"/>
              <a:ext cx="1555920" cy="732240"/>
            </a:xfrm>
            <a:prstGeom prst="diamond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回复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443640" y="2562120"/>
              <a:ext cx="1800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443640" y="3355920"/>
              <a:ext cx="1800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659640" y="2130480"/>
              <a:ext cx="151128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发送的邮件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659640" y="3355920"/>
              <a:ext cx="151128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回复的邮件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6877080" y="2563920"/>
            <a:ext cx="503280" cy="790560"/>
            <a:chOff x="6877080" y="2563920"/>
            <a:chExt cx="503280" cy="790560"/>
          </a:xfrm>
        </p:grpSpPr>
        <p:sp>
          <p:nvSpPr>
            <p:cNvPr id="132" name=""/>
            <p:cNvSpPr/>
            <p:nvPr/>
          </p:nvSpPr>
          <p:spPr>
            <a:xfrm>
              <a:off x="6877080" y="2563920"/>
              <a:ext cx="50328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  <a:ea typeface="宋体"/>
                </a:rPr>
                <a:t>(0,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877080" y="3067200"/>
              <a:ext cx="50328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  <a:ea typeface="宋体"/>
                </a:rPr>
                <a:t>(0,1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089000" y="4187880"/>
            <a:ext cx="1033560" cy="1511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82800" anchor="t" anchorCtr="1" vert="eaVer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联系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202720" y="4187880"/>
            <a:ext cx="606960" cy="1511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82800" anchor="t" anchorCtr="1" vert="eaVer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邮 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1936800" y="3473640"/>
            <a:ext cx="3240000" cy="928080"/>
            <a:chOff x="1936800" y="3473640"/>
            <a:chExt cx="3240000" cy="928080"/>
          </a:xfrm>
        </p:grpSpPr>
        <p:sp>
          <p:nvSpPr>
            <p:cNvPr id="137" name=""/>
            <p:cNvSpPr/>
            <p:nvPr/>
          </p:nvSpPr>
          <p:spPr>
            <a:xfrm>
              <a:off x="2657520" y="3473640"/>
              <a:ext cx="1555560" cy="732240"/>
            </a:xfrm>
            <a:prstGeom prst="diamond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发送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1936800" y="3825720"/>
              <a:ext cx="720720" cy="576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240080" y="3825720"/>
              <a:ext cx="936720" cy="576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008080" y="3681000"/>
              <a:ext cx="503280" cy="2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  <a:ea typeface="宋体"/>
                </a:rPr>
                <a:t>(0,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386240" y="3681000"/>
              <a:ext cx="503280" cy="2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  <a:ea typeface="宋体"/>
                </a:rPr>
                <a:t>(1,1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1936800" y="4524840"/>
            <a:ext cx="3240000" cy="732240"/>
            <a:chOff x="1936800" y="4524840"/>
            <a:chExt cx="3240000" cy="732240"/>
          </a:xfrm>
        </p:grpSpPr>
        <p:sp>
          <p:nvSpPr>
            <p:cNvPr id="143" name=""/>
            <p:cNvSpPr/>
            <p:nvPr/>
          </p:nvSpPr>
          <p:spPr>
            <a:xfrm>
              <a:off x="2657520" y="4524840"/>
              <a:ext cx="1555560" cy="732240"/>
            </a:xfrm>
            <a:prstGeom prst="diamond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接收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936800" y="4905360"/>
              <a:ext cx="720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240080" y="4905360"/>
              <a:ext cx="936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081160" y="4545000"/>
              <a:ext cx="50328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  <a:ea typeface="宋体"/>
                </a:rPr>
                <a:t>(0,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313160" y="4545000"/>
              <a:ext cx="50328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  <a:ea typeface="宋体"/>
                </a:rPr>
                <a:t>(1,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1936800" y="5481720"/>
            <a:ext cx="3240000" cy="891360"/>
            <a:chOff x="1936800" y="5481720"/>
            <a:chExt cx="3240000" cy="891360"/>
          </a:xfrm>
        </p:grpSpPr>
        <p:sp>
          <p:nvSpPr>
            <p:cNvPr id="149" name=""/>
            <p:cNvSpPr/>
            <p:nvPr/>
          </p:nvSpPr>
          <p:spPr>
            <a:xfrm>
              <a:off x="2657520" y="5640840"/>
              <a:ext cx="1555560" cy="732240"/>
            </a:xfrm>
            <a:prstGeom prst="diamond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抄送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 flipV="1">
              <a:off x="1936800" y="5481720"/>
              <a:ext cx="720720" cy="504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4240080" y="5481720"/>
              <a:ext cx="936720" cy="504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936800" y="5913360"/>
              <a:ext cx="503280" cy="2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  <a:ea typeface="宋体"/>
                </a:rPr>
                <a:t>(0,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386240" y="5913360"/>
              <a:ext cx="503280" cy="2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  <a:ea typeface="宋体"/>
                </a:rPr>
                <a:t>(0,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5824440" y="4040280"/>
            <a:ext cx="2563920" cy="1584360"/>
            <a:chOff x="5824440" y="4040280"/>
            <a:chExt cx="2563920" cy="1584360"/>
          </a:xfrm>
        </p:grpSpPr>
        <p:sp>
          <p:nvSpPr>
            <p:cNvPr id="155" name=""/>
            <p:cNvSpPr/>
            <p:nvPr/>
          </p:nvSpPr>
          <p:spPr>
            <a:xfrm>
              <a:off x="6832440" y="4482000"/>
              <a:ext cx="1555920" cy="732240"/>
            </a:xfrm>
            <a:prstGeom prst="diamond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回复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824440" y="4471920"/>
              <a:ext cx="1800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824440" y="5265720"/>
              <a:ext cx="1800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040440" y="4040280"/>
              <a:ext cx="151128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发送的邮件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040440" y="5265720"/>
              <a:ext cx="151128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回复的邮件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6257880" y="4473720"/>
            <a:ext cx="503280" cy="790560"/>
            <a:chOff x="6257880" y="4473720"/>
            <a:chExt cx="503280" cy="790560"/>
          </a:xfrm>
        </p:grpSpPr>
        <p:sp>
          <p:nvSpPr>
            <p:cNvPr id="161" name=""/>
            <p:cNvSpPr/>
            <p:nvPr/>
          </p:nvSpPr>
          <p:spPr>
            <a:xfrm>
              <a:off x="6257880" y="4473720"/>
              <a:ext cx="50328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  <a:ea typeface="宋体"/>
                </a:rPr>
                <a:t>(0,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257880" y="4977000"/>
              <a:ext cx="50328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  <a:ea typeface="宋体"/>
                </a:rPr>
                <a:t>(0,1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988920" y="160560"/>
            <a:ext cx="7299360" cy="2899440"/>
            <a:chOff x="988920" y="160560"/>
            <a:chExt cx="7299360" cy="2899440"/>
          </a:xfrm>
        </p:grpSpPr>
        <p:sp>
          <p:nvSpPr>
            <p:cNvPr id="164" name=""/>
            <p:cNvSpPr/>
            <p:nvPr/>
          </p:nvSpPr>
          <p:spPr>
            <a:xfrm>
              <a:off x="988920" y="900000"/>
              <a:ext cx="1033560" cy="15112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0" bIns="82800" anchor="t" anchorCtr="1" vert="eaVer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联系人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102640" y="873000"/>
              <a:ext cx="606960" cy="15112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0" bIns="82800" anchor="t" anchorCtr="1" vert="eaVer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邮 件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1836720" y="160560"/>
              <a:ext cx="3240000" cy="928080"/>
              <a:chOff x="1836720" y="160560"/>
              <a:chExt cx="3240000" cy="928080"/>
            </a:xfrm>
          </p:grpSpPr>
          <p:sp>
            <p:nvSpPr>
              <p:cNvPr id="167" name=""/>
              <p:cNvSpPr/>
              <p:nvPr/>
            </p:nvSpPr>
            <p:spPr>
              <a:xfrm>
                <a:off x="2557440" y="160560"/>
                <a:ext cx="1555560" cy="732240"/>
              </a:xfrm>
              <a:prstGeom prst="diamond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ff"/>
                    </a:solidFill>
                    <a:latin typeface="宋体"/>
                    <a:ea typeface="宋体"/>
                  </a:rPr>
                  <a:t>发送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H="1">
                <a:off x="1836720" y="512640"/>
                <a:ext cx="720720" cy="576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140000" y="512640"/>
                <a:ext cx="936720" cy="576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1908000" y="367920"/>
                <a:ext cx="503280" cy="28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ff"/>
                    </a:solidFill>
                    <a:latin typeface="Arial"/>
                    <a:ea typeface="宋体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4286160" y="367920"/>
                <a:ext cx="503280" cy="28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ff"/>
                    </a:solidFill>
                    <a:latin typeface="Arial"/>
                    <a:ea typeface="宋体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" name=""/>
            <p:cNvGrpSpPr/>
            <p:nvPr/>
          </p:nvGrpSpPr>
          <p:grpSpPr>
            <a:xfrm>
              <a:off x="1836720" y="1211760"/>
              <a:ext cx="3240000" cy="732240"/>
              <a:chOff x="1836720" y="1211760"/>
              <a:chExt cx="3240000" cy="732240"/>
            </a:xfrm>
          </p:grpSpPr>
          <p:sp>
            <p:nvSpPr>
              <p:cNvPr id="173" name=""/>
              <p:cNvSpPr/>
              <p:nvPr/>
            </p:nvSpPr>
            <p:spPr>
              <a:xfrm>
                <a:off x="2557440" y="1211760"/>
                <a:ext cx="1555560" cy="732240"/>
              </a:xfrm>
              <a:prstGeom prst="diamond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ff"/>
                    </a:solidFill>
                    <a:latin typeface="宋体"/>
                    <a:ea typeface="宋体"/>
                  </a:rPr>
                  <a:t>接收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1836720" y="1592280"/>
                <a:ext cx="7207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4140000" y="1592280"/>
                <a:ext cx="9367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1981080" y="1231920"/>
                <a:ext cx="503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ff"/>
                    </a:solidFill>
                    <a:latin typeface="Arial"/>
                    <a:ea typeface="宋体"/>
                  </a:rPr>
                  <a:t>M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4213080" y="1231920"/>
                <a:ext cx="503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ff"/>
                    </a:solidFill>
                    <a:latin typeface="Arial"/>
                    <a:ea typeface="宋体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1836720" y="2168640"/>
              <a:ext cx="3240000" cy="891360"/>
              <a:chOff x="1836720" y="2168640"/>
              <a:chExt cx="3240000" cy="891360"/>
            </a:xfrm>
          </p:grpSpPr>
          <p:sp>
            <p:nvSpPr>
              <p:cNvPr id="179" name=""/>
              <p:cNvSpPr/>
              <p:nvPr/>
            </p:nvSpPr>
            <p:spPr>
              <a:xfrm>
                <a:off x="2557440" y="2327760"/>
                <a:ext cx="1555560" cy="732240"/>
              </a:xfrm>
              <a:prstGeom prst="diamond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ff"/>
                    </a:solidFill>
                    <a:latin typeface="宋体"/>
                    <a:ea typeface="宋体"/>
                  </a:rPr>
                  <a:t>抄送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flipH="1" flipV="1">
                <a:off x="1836720" y="2168640"/>
                <a:ext cx="720720" cy="504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flipV="1">
                <a:off x="4140000" y="2168640"/>
                <a:ext cx="936720" cy="504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836720" y="2600280"/>
                <a:ext cx="503280" cy="28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ff"/>
                    </a:solidFill>
                    <a:latin typeface="Arial"/>
                    <a:ea typeface="宋体"/>
                  </a:rPr>
                  <a:t>M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4286160" y="2600280"/>
                <a:ext cx="503280" cy="28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ff"/>
                    </a:solidFill>
                    <a:latin typeface="Arial"/>
                    <a:ea typeface="宋体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5724360" y="727200"/>
              <a:ext cx="2563920" cy="1584360"/>
              <a:chOff x="5724360" y="727200"/>
              <a:chExt cx="2563920" cy="1584360"/>
            </a:xfrm>
          </p:grpSpPr>
          <p:sp>
            <p:nvSpPr>
              <p:cNvPr id="185" name=""/>
              <p:cNvSpPr/>
              <p:nvPr/>
            </p:nvSpPr>
            <p:spPr>
              <a:xfrm>
                <a:off x="6732360" y="1168920"/>
                <a:ext cx="1555920" cy="732240"/>
              </a:xfrm>
              <a:prstGeom prst="diamond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ff"/>
                    </a:solidFill>
                    <a:latin typeface="宋体"/>
                    <a:ea typeface="宋体"/>
                  </a:rPr>
                  <a:t>回复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724360" y="1158840"/>
                <a:ext cx="1800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5724360" y="1952640"/>
                <a:ext cx="1800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5940360" y="727200"/>
                <a:ext cx="1511280" cy="35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发送的邮件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940360" y="1952640"/>
                <a:ext cx="1511280" cy="35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回复的邮件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6157800" y="1160640"/>
              <a:ext cx="503280" cy="790560"/>
              <a:chOff x="6157800" y="1160640"/>
              <a:chExt cx="503280" cy="790560"/>
            </a:xfrm>
          </p:grpSpPr>
          <p:sp>
            <p:nvSpPr>
              <p:cNvPr id="191" name=""/>
              <p:cNvSpPr/>
              <p:nvPr/>
            </p:nvSpPr>
            <p:spPr>
              <a:xfrm>
                <a:off x="6157800" y="1160640"/>
                <a:ext cx="503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ff"/>
                    </a:solidFill>
                    <a:latin typeface="Arial"/>
                    <a:ea typeface="宋体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6157800" y="1663920"/>
                <a:ext cx="503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ff"/>
                    </a:solidFill>
                    <a:latin typeface="Arial"/>
                    <a:ea typeface="宋体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kw</cp:lastModifiedBy>
  <dcterms:modified xsi:type="dcterms:W3CDTF">2011-11-09T03:48:31Z</dcterms:modified>
  <cp:revision>659</cp:revision>
  <dc:subject/>
  <dc:title>PowerPoint Presentation</dc:title>
</cp:coreProperties>
</file>