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EEC2-ECF5-48D4-8CC0-632AB067C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6E90-ABD1-4059-B0AF-8FD830AA3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3BEF-8E3B-4FF0-B03C-02DE27D82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0ABA-71F0-4CF4-915B-71991AFDBD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836F-6416-4B93-BB65-80AF0D15D0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9F17-4F32-4688-AB14-136318ED7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7519-D543-465E-A158-843BA22DC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E0DD-E96F-4649-8B02-CD8C952B8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22C1-F9E1-4B55-8382-4639F371A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BE73-EBF7-42BA-A166-D204CCB99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5618-746B-4539-AF9E-840671776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6FD3-7F85-467A-80D5-51D6B70E9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88FE-5319-4D80-BC8A-3EC5FFB5F381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数据库设计示例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53C1-8BF0-47B6-BBC8-4027A52FD005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假设需要建立一个关于某旅行社的旅游信息管理系统，其数据库中的信息有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景点的编号（具有唯一性）和名称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旅游线路的编号（具有唯一性）和线路名称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导游的工号（具有唯一性）和姓名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其中：每条线路由多个景点组成，不同线路的景点存在交叉；每条线路有多名导游，但每名导游只负责一条线路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请设计出该数据库的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E-R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模型图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68360" y="1197000"/>
            <a:ext cx="2277720" cy="1511280"/>
            <a:chOff x="468360" y="1197000"/>
            <a:chExt cx="2277720" cy="1511280"/>
          </a:xfrm>
        </p:grpSpPr>
        <p:sp>
          <p:nvSpPr>
            <p:cNvPr id="44" name=""/>
            <p:cNvSpPr/>
            <p:nvPr/>
          </p:nvSpPr>
          <p:spPr>
            <a:xfrm>
              <a:off x="2139120" y="119700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景 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8360" y="1339920"/>
              <a:ext cx="1224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编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70160" y="2060640"/>
              <a:ext cx="1224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92360" y="1627200"/>
              <a:ext cx="43200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692360" y="1987200"/>
              <a:ext cx="43200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859280" y="189000"/>
            <a:ext cx="3024360" cy="2522520"/>
            <a:chOff x="4859280" y="189000"/>
            <a:chExt cx="3024360" cy="2522520"/>
          </a:xfrm>
        </p:grpSpPr>
        <p:sp>
          <p:nvSpPr>
            <p:cNvPr id="50" name=""/>
            <p:cNvSpPr/>
            <p:nvPr/>
          </p:nvSpPr>
          <p:spPr>
            <a:xfrm>
              <a:off x="6037560" y="120024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线 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59280" y="18900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  <a:ea typeface="宋体"/>
                </a:rPr>
                <a:t>线路编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3640" y="19080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线路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443640" y="695520"/>
              <a:ext cx="504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96000" y="695520"/>
              <a:ext cx="50328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771640" y="1538640"/>
            <a:ext cx="3240000" cy="732240"/>
            <a:chOff x="2771640" y="1538640"/>
            <a:chExt cx="3240000" cy="732240"/>
          </a:xfrm>
        </p:grpSpPr>
        <p:sp>
          <p:nvSpPr>
            <p:cNvPr id="56" name=""/>
            <p:cNvSpPr/>
            <p:nvPr/>
          </p:nvSpPr>
          <p:spPr>
            <a:xfrm>
              <a:off x="3492360" y="15386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组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71640" y="191916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74920" y="191916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16000" y="15588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8000" y="15588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580000" y="2781360"/>
            <a:ext cx="1555560" cy="1871280"/>
            <a:chOff x="5580000" y="2781360"/>
            <a:chExt cx="1555560" cy="1871280"/>
          </a:xfrm>
        </p:grpSpPr>
        <p:sp>
          <p:nvSpPr>
            <p:cNvPr id="62" name=""/>
            <p:cNvSpPr/>
            <p:nvPr/>
          </p:nvSpPr>
          <p:spPr>
            <a:xfrm>
              <a:off x="5580000" y="33008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讲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298920" y="400500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6370560" y="278136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2560" y="40784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95640" y="299736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06200" y="609300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模型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788000" y="4628880"/>
            <a:ext cx="3023640" cy="1608480"/>
            <a:chOff x="4788000" y="4628880"/>
            <a:chExt cx="3023640" cy="1608480"/>
          </a:xfrm>
        </p:grpSpPr>
        <p:sp>
          <p:nvSpPr>
            <p:cNvPr id="69" name=""/>
            <p:cNvSpPr/>
            <p:nvPr/>
          </p:nvSpPr>
          <p:spPr>
            <a:xfrm>
              <a:off x="5652720" y="4628880"/>
              <a:ext cx="1295280" cy="59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导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88000" y="5730840"/>
              <a:ext cx="1439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  <a:ea typeface="宋体"/>
                </a:rPr>
                <a:t>工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72000" y="5732640"/>
              <a:ext cx="1439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姓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72000" y="5229360"/>
              <a:ext cx="57600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652720" y="5229360"/>
              <a:ext cx="57456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2-28T08:23:44Z</dcterms:modified>
  <cp:revision>657</cp:revision>
  <dc:subject/>
  <dc:title>PowerPoint Presentation</dc:title>
</cp:coreProperties>
</file>