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4E3F-331C-4E02-93AB-0B245E55D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10C4-7D26-4474-A283-02670B9A7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A22A-515A-4658-8500-1D3C2FE98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292E-3D80-4BAC-A8CF-19F3919A66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9E8F-5166-4242-86B2-2B4F79355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90D8-DD4F-447D-8460-C50CAC52E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94C4-19B7-4E6E-8BDC-25CDA85E9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22BB-5730-4D04-AC80-661B4347B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77B1-B3B7-48B8-A89A-408DCA1E8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49C5-0B08-4702-A40A-72A7C9599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A890-3563-4E1A-8B13-4468E70EF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7B14-3C17-4FEB-A7A7-FB1CFB191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7FD1-A5F0-443E-B9CD-FE8B58F7D34F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5]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假设需要建立一个学校的信息管理系统，其中需要保存的信息有：学生的学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姓名，性别，所在的系和修读的专业；教师的工作证编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姓名，职称和出生日期；课程的编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名称，类别代码和学分数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一门课程可以分若干个班上课，每个班有一个主讲教师；学生在选课时必须确定其所选课程的任课教师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即在由该教师担任主讲任务的班级上听课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系统需要记录学生的选课信息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所选课程以及该课程的主讲教师、选修时间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年份和学期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和成绩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27D3-01BF-41CD-AABD-553A8739E4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模型的设计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-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设计方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0" y="990720"/>
          <a:ext cx="91440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6887-1562-415F-82A4-396E242758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模型的设计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-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设计方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-98280" y="1066680"/>
          <a:ext cx="934236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8280" y="1066680"/>
                    <a:ext cx="93423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AEA6-26ED-4E25-B627-9CF4A98160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26T15:36:11Z</dcterms:modified>
  <cp:revision>630</cp:revision>
  <dc:subject/>
  <dc:title>PowerPoint Presentation</dc:title>
</cp:coreProperties>
</file>