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DDC8-5D8C-49E3-BA91-80D418B98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E807-66C0-4D9C-A3F2-C8C6660F5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AF55-73BA-4973-8C65-2151CFF94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C08B-A191-4881-8C08-7AC6D8E6A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C375-52FD-4AA9-A3B7-C669D6070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8476-3D65-4AED-828C-4AD41ECF3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60A5-2AB7-4DB6-A89C-EA56E2AC0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7858-62EF-410F-8CE5-57F9A8CF2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3803-3D16-4845-A05F-55D21EF8C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312B-2109-412F-9FB9-0687229F8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C1E2-FE55-4369-A901-4A980D430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A1ED-3BFA-4EA8-8D1B-5A9D72A2B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8E54-9667-4F06-8628-61CEA09D3007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B4DD-73CB-43A0-801A-C88A28EB576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Rectangle 1028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每个读者只有唯一的一个住址，但可以登记多个不同的联系电话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那么针对上述的‘读者’关系，请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A428-A04E-4434-A6F6-9ED39E5ED9B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→姓名，身份证号，住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身份证号→借书证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借书证号，电话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身份证号，电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联系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4E4-60BE-4D4E-9D54-BC4B4321DCB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对上述的‘借阅’关系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983E-2972-4441-9C8B-72DB71C86DB2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ED25-DA41-4217-B6CD-BB981B3F0127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]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、出版社名称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（具有唯一性，每个读者只能有一个借书证号）、姓名、身份证号、住址、电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每本图书被借阅的借阅日期和归还日期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模型表示该数据库系统的概念模型，并将其转换成等价的关系模式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9F37-655D-44E8-9018-F1C2434F6CB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4"/>
          <p:cNvGraphicFramePr/>
          <p:nvPr/>
        </p:nvGraphicFramePr>
        <p:xfrm>
          <a:off x="2819520" y="3809880"/>
          <a:ext cx="61722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6172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6"/>
          <p:cNvGraphicFramePr/>
          <p:nvPr/>
        </p:nvGraphicFramePr>
        <p:xfrm>
          <a:off x="2590920" y="1600200"/>
          <a:ext cx="2743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160020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21"/>
          <p:cNvGrpSpPr/>
          <p:nvPr/>
        </p:nvGrpSpPr>
        <p:grpSpPr>
          <a:xfrm>
            <a:off x="2590920" y="1752480"/>
            <a:ext cx="2819160" cy="366120"/>
            <a:chOff x="2590920" y="1752480"/>
            <a:chExt cx="2819160" cy="366120"/>
          </a:xfrm>
        </p:grpSpPr>
        <p:sp>
          <p:nvSpPr>
            <p:cNvPr id="54" name="Text Box 7"/>
            <p:cNvSpPr/>
            <p:nvPr/>
          </p:nvSpPr>
          <p:spPr>
            <a:xfrm>
              <a:off x="259092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449568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8"/>
          <p:cNvGrpSpPr/>
          <p:nvPr/>
        </p:nvGrpSpPr>
        <p:grpSpPr>
          <a:xfrm>
            <a:off x="155520" y="2438280"/>
            <a:ext cx="5025960" cy="2595960"/>
            <a:chOff x="155520" y="2438280"/>
            <a:chExt cx="5025960" cy="2595960"/>
          </a:xfrm>
        </p:grpSpPr>
        <p:sp>
          <p:nvSpPr>
            <p:cNvPr id="57" name="AutoShape 9"/>
            <p:cNvSpPr/>
            <p:nvPr/>
          </p:nvSpPr>
          <p:spPr>
            <a:xfrm>
              <a:off x="2590920" y="3505320"/>
              <a:ext cx="144756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1752480" y="2438280"/>
              <a:ext cx="12956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3657600" y="4114800"/>
              <a:ext cx="1523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155520" y="3500280"/>
              <a:ext cx="183060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533520" y="4414680"/>
              <a:ext cx="183672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1905120" y="388620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 flipV="1">
              <a:off x="2362320" y="4114440"/>
              <a:ext cx="68580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2"/>
          <p:cNvGrpSpPr/>
          <p:nvPr/>
        </p:nvGrpSpPr>
        <p:grpSpPr>
          <a:xfrm>
            <a:off x="2666880" y="3063960"/>
            <a:ext cx="2210040" cy="1280520"/>
            <a:chOff x="2666880" y="3063960"/>
            <a:chExt cx="2210040" cy="1280520"/>
          </a:xfrm>
        </p:grpSpPr>
        <p:sp>
          <p:nvSpPr>
            <p:cNvPr id="65" name="Text Box 19"/>
            <p:cNvSpPr/>
            <p:nvPr/>
          </p:nvSpPr>
          <p:spPr>
            <a:xfrm>
              <a:off x="2666880" y="30639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20"/>
            <p:cNvSpPr/>
            <p:nvPr/>
          </p:nvSpPr>
          <p:spPr>
            <a:xfrm>
              <a:off x="3962520" y="3978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FE46-3DB9-405E-A932-3670EE01AA2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3072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0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073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0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2082"/>
          <p:cNvSpPr/>
          <p:nvPr/>
        </p:nvSpPr>
        <p:spPr>
          <a:xfrm>
            <a:off x="533520" y="3395520"/>
            <a:ext cx="8153280" cy="131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书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出版社名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联系电话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83"/>
          <p:cNvSpPr/>
          <p:nvPr/>
        </p:nvSpPr>
        <p:spPr>
          <a:xfrm>
            <a:off x="533520" y="48909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’和‘出版社’各自转换得到的关系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169-F8FD-4D02-ABA3-F999094F3664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533520" y="3395520"/>
            <a:ext cx="8153280" cy="131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书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出版社名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联系电话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33520" y="48909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’和‘出版社’各自转换得到的关系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7"/>
          <p:cNvGrpSpPr/>
          <p:nvPr/>
        </p:nvGrpSpPr>
        <p:grpSpPr>
          <a:xfrm>
            <a:off x="2590920" y="1600200"/>
            <a:ext cx="2819160" cy="1143000"/>
            <a:chOff x="2590920" y="1600200"/>
            <a:chExt cx="2819160" cy="1143000"/>
          </a:xfrm>
        </p:grpSpPr>
        <p:graphicFrame>
          <p:nvGraphicFramePr>
            <p:cNvPr id="84" name="Object 8"/>
            <p:cNvGraphicFramePr/>
            <p:nvPr/>
          </p:nvGraphicFramePr>
          <p:xfrm>
            <a:off x="2590920" y="1600200"/>
            <a:ext cx="2743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1600200"/>
                      <a:ext cx="2743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9"/>
            <p:cNvGrpSpPr/>
            <p:nvPr/>
          </p:nvGrpSpPr>
          <p:grpSpPr>
            <a:xfrm>
              <a:off x="2590920" y="1752480"/>
              <a:ext cx="2819160" cy="366120"/>
              <a:chOff x="2590920" y="1752480"/>
              <a:chExt cx="2819160" cy="366120"/>
            </a:xfrm>
          </p:grpSpPr>
          <p:sp>
            <p:nvSpPr>
              <p:cNvPr id="87" name="Text Box 10"/>
              <p:cNvSpPr/>
              <p:nvPr/>
            </p:nvSpPr>
            <p:spPr>
              <a:xfrm>
                <a:off x="259092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11"/>
              <p:cNvSpPr/>
              <p:nvPr/>
            </p:nvSpPr>
            <p:spPr>
              <a:xfrm>
                <a:off x="449568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62C2-E8BA-4844-98B5-E99497AA7FC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043"/>
          <p:cNvGrpSpPr/>
          <p:nvPr/>
        </p:nvGrpSpPr>
        <p:grpSpPr>
          <a:xfrm>
            <a:off x="533520" y="3352680"/>
            <a:ext cx="8153280" cy="1830240"/>
            <a:chOff x="533520" y="3352680"/>
            <a:chExt cx="8153280" cy="1830240"/>
          </a:xfrm>
        </p:grpSpPr>
        <p:sp>
          <p:nvSpPr>
            <p:cNvPr id="92" name="Text Box 1035"/>
            <p:cNvSpPr/>
            <p:nvPr/>
          </p:nvSpPr>
          <p:spPr>
            <a:xfrm>
              <a:off x="533520" y="4662360"/>
              <a:ext cx="8153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加入‘出版’联系后的关系模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040"/>
            <p:cNvSpPr/>
            <p:nvPr/>
          </p:nvSpPr>
          <p:spPr>
            <a:xfrm>
              <a:off x="533520" y="3352680"/>
              <a:ext cx="8153280" cy="131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图书（</a:t>
              </a:r>
              <a:r>
                <a:rPr b="1" lang="zh-CN" sz="2800" spc="-1" strike="noStrike" u="sng">
                  <a:solidFill>
                    <a:srgbClr val="3333cc"/>
                  </a:solidFill>
                  <a:uFillTx/>
                  <a:latin typeface="Times New Roman"/>
                  <a:ea typeface="宋体"/>
                </a:rPr>
                <a:t>书号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，书名，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出版社名称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出版社（</a:t>
              </a:r>
              <a:r>
                <a:rPr b="1" lang="zh-CN" sz="2800" spc="-1" strike="noStrike" u="sng">
                  <a:solidFill>
                    <a:srgbClr val="3333cc"/>
                  </a:solidFill>
                  <a:uFillTx/>
                  <a:latin typeface="Times New Roman"/>
                  <a:ea typeface="宋体"/>
                </a:rPr>
                <a:t>出版社名称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，联系电话，地址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Object 1024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25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1044"/>
          <p:cNvGrpSpPr/>
          <p:nvPr/>
        </p:nvGrpSpPr>
        <p:grpSpPr>
          <a:xfrm>
            <a:off x="2590920" y="1600200"/>
            <a:ext cx="2819160" cy="1143000"/>
            <a:chOff x="2590920" y="1600200"/>
            <a:chExt cx="2819160" cy="1143000"/>
          </a:xfrm>
        </p:grpSpPr>
        <p:graphicFrame>
          <p:nvGraphicFramePr>
            <p:cNvPr id="99" name="Object 1026"/>
            <p:cNvGraphicFramePr/>
            <p:nvPr/>
          </p:nvGraphicFramePr>
          <p:xfrm>
            <a:off x="2590920" y="1600200"/>
            <a:ext cx="2743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10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1600200"/>
                      <a:ext cx="2743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1" name="Group 1037"/>
            <p:cNvGrpSpPr/>
            <p:nvPr/>
          </p:nvGrpSpPr>
          <p:grpSpPr>
            <a:xfrm>
              <a:off x="2590920" y="1752480"/>
              <a:ext cx="2819160" cy="366120"/>
              <a:chOff x="2590920" y="1752480"/>
              <a:chExt cx="2819160" cy="366120"/>
            </a:xfrm>
          </p:grpSpPr>
          <p:sp>
            <p:nvSpPr>
              <p:cNvPr id="102" name="Text Box 1038"/>
              <p:cNvSpPr/>
              <p:nvPr/>
            </p:nvSpPr>
            <p:spPr>
              <a:xfrm>
                <a:off x="259092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039"/>
              <p:cNvSpPr/>
              <p:nvPr/>
            </p:nvSpPr>
            <p:spPr>
              <a:xfrm>
                <a:off x="449568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916360" y="1484280"/>
            <a:ext cx="216036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53D7-C801-44E7-80B4-F527A5DBE2A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024"/>
          <p:cNvGraphicFramePr/>
          <p:nvPr/>
        </p:nvGraphicFramePr>
        <p:xfrm>
          <a:off x="1447920" y="533520"/>
          <a:ext cx="6172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3352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" name="Group 1044"/>
          <p:cNvGrpSpPr/>
          <p:nvPr/>
        </p:nvGrpSpPr>
        <p:grpSpPr>
          <a:xfrm>
            <a:off x="533520" y="4233960"/>
            <a:ext cx="8153280" cy="1764720"/>
            <a:chOff x="533520" y="4233960"/>
            <a:chExt cx="8153280" cy="1764720"/>
          </a:xfrm>
        </p:grpSpPr>
        <p:sp>
          <p:nvSpPr>
            <p:cNvPr id="110" name="Text Box 1041"/>
            <p:cNvSpPr/>
            <p:nvPr/>
          </p:nvSpPr>
          <p:spPr>
            <a:xfrm>
              <a:off x="533520" y="4233960"/>
              <a:ext cx="8153280" cy="66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读者（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</a:rPr>
                <a:t>借书证号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，姓名，身份证号，住址，电话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042"/>
            <p:cNvSpPr/>
            <p:nvPr/>
          </p:nvSpPr>
          <p:spPr>
            <a:xfrm>
              <a:off x="533520" y="5334120"/>
              <a:ext cx="81532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读者’实体集转换得到的关系模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6F6-6409-4331-9D17-4BA7F59F640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024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25"/>
          <p:cNvGraphicFramePr/>
          <p:nvPr/>
        </p:nvGraphicFramePr>
        <p:xfrm>
          <a:off x="2819520" y="3809880"/>
          <a:ext cx="61722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809880"/>
                    <a:ext cx="6172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10"/>
          <p:cNvGrpSpPr/>
          <p:nvPr/>
        </p:nvGrpSpPr>
        <p:grpSpPr>
          <a:xfrm>
            <a:off x="155520" y="2438280"/>
            <a:ext cx="5025960" cy="2595960"/>
            <a:chOff x="155520" y="2438280"/>
            <a:chExt cx="5025960" cy="2595960"/>
          </a:xfrm>
        </p:grpSpPr>
        <p:sp>
          <p:nvSpPr>
            <p:cNvPr id="119" name="AutoShape 11"/>
            <p:cNvSpPr/>
            <p:nvPr/>
          </p:nvSpPr>
          <p:spPr>
            <a:xfrm>
              <a:off x="2590920" y="3505320"/>
              <a:ext cx="144756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1752480" y="2438280"/>
              <a:ext cx="12956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3657600" y="4114800"/>
              <a:ext cx="1523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155520" y="3500280"/>
              <a:ext cx="183060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533520" y="4414680"/>
              <a:ext cx="183672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6"/>
            <p:cNvSpPr/>
            <p:nvPr/>
          </p:nvSpPr>
          <p:spPr>
            <a:xfrm>
              <a:off x="1905120" y="388620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7"/>
            <p:cNvSpPr/>
            <p:nvPr/>
          </p:nvSpPr>
          <p:spPr>
            <a:xfrm flipV="1">
              <a:off x="2362320" y="4114440"/>
              <a:ext cx="68580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2666880" y="3063960"/>
            <a:ext cx="2210040" cy="1280520"/>
            <a:chOff x="2666880" y="3063960"/>
            <a:chExt cx="2210040" cy="1280520"/>
          </a:xfrm>
        </p:grpSpPr>
        <p:sp>
          <p:nvSpPr>
            <p:cNvPr id="127" name="Text Box 19"/>
            <p:cNvSpPr/>
            <p:nvPr/>
          </p:nvSpPr>
          <p:spPr>
            <a:xfrm>
              <a:off x="2666880" y="30639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3962520" y="3978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1295280"/>
            <a:ext cx="5715000" cy="1868040"/>
            <a:chOff x="3352680" y="1295280"/>
            <a:chExt cx="5715000" cy="1868040"/>
          </a:xfrm>
        </p:grpSpPr>
        <p:sp>
          <p:nvSpPr>
            <p:cNvPr id="130" name="Text Box 34"/>
            <p:cNvSpPr/>
            <p:nvPr/>
          </p:nvSpPr>
          <p:spPr>
            <a:xfrm>
              <a:off x="3352680" y="1295280"/>
              <a:ext cx="5715000" cy="12618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marL="1243080" indent="-1243080"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借阅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( 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</a:rPr>
                <a:t>借书证号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</a:rPr>
                <a:t>, 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</a:rPr>
                <a:t>书号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,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借阅日期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,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归还日期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3352680" y="2642760"/>
              <a:ext cx="571500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’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联系转换得到的关系模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050920" y="3139920"/>
            <a:ext cx="273708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1F06-7DBF-43A4-9A56-D9708237016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1]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换得到的关系模式如下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书名，出版社名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出版社名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联系电话，地址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姓名，身份证号，住址，电话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借书证号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,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9T15:08:18Z</dcterms:modified>
  <cp:revision>633</cp:revision>
  <dc:subject/>
  <dc:title>PowerPoint Presentation</dc:title>
</cp:coreProperties>
</file>