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9619-7AD4-47B9-831A-BA728AEAC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B6A3-856C-47C5-8300-99C97923D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D455-40B0-44B5-AD96-15FE6EB4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AA52-791A-443D-A33C-ED884BA5C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131B-EFE8-4796-8AC0-7601B7040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2E93-BA94-4880-8D94-5C39CD2AF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773F-F779-478F-B8F9-F6080856B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73E1-18F3-4692-809D-99F5DCDEB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879A-1A89-4A9D-BF1F-9ADC75461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7BD3-047F-4197-8E01-07DE144BB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78F2-5E34-41D8-9D12-BC937255E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AC94-BFC3-46B1-8D2F-0524CC4BA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5CB-3C6F-47A0-A827-6FF4E445A28A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206B-6963-4932-8C87-9AD3A65AF82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假设需要建立一个有关俱乐部篮球联赛的信息管理系统，需要保存的信息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俱乐部的名称（具有唯一性）及其所在城市名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体育馆的名称（具有唯一性）及其地址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篮球运动员的姓名（具有唯一性），出生日期，身高，体重，位置（中锋，前锋或后卫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系统需要记录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场比赛的主队、客队、比赛时间和最终比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一位球员在每一场比赛中的出场时间、得分、篮板数、助攻次数、抢断次数、失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数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犯规次数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技术犯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球员签约俱乐部的时间（开始日期和结束日期）及其球衣号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其中的数据约束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支俱乐部有唯一的一个主体育馆，一个体育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用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支俱乐部的主体育馆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球员可以在不同的时间签约不同的俱乐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请给出该数据库系统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-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模型图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9EB-C38E-4205-89EA-95A515840B22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6DFE-404D-4462-9A2E-50EF1C3692F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27"/>
          <p:cNvGraphicFramePr/>
          <p:nvPr/>
        </p:nvGraphicFramePr>
        <p:xfrm>
          <a:off x="604800" y="200160"/>
          <a:ext cx="2360520" cy="12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200160"/>
                    <a:ext cx="2360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9"/>
          <p:cNvGraphicFramePr/>
          <p:nvPr/>
        </p:nvGraphicFramePr>
        <p:xfrm>
          <a:off x="2444760" y="927000"/>
          <a:ext cx="4135320" cy="6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44760" y="927000"/>
                    <a:ext cx="41353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2"/>
          <p:cNvGraphicFramePr/>
          <p:nvPr/>
        </p:nvGraphicFramePr>
        <p:xfrm>
          <a:off x="2314440" y="1197000"/>
          <a:ext cx="4529160" cy="299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444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4"/>
          <p:cNvGraphicFramePr/>
          <p:nvPr/>
        </p:nvGraphicFramePr>
        <p:xfrm>
          <a:off x="5869080" y="1322280"/>
          <a:ext cx="2754360" cy="2907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5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69080" y="1322280"/>
                    <a:ext cx="2754360" cy="29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35"/>
          <p:cNvGraphicFramePr/>
          <p:nvPr/>
        </p:nvGraphicFramePr>
        <p:xfrm>
          <a:off x="1000080" y="3067200"/>
          <a:ext cx="7097760" cy="3714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00080" y="3067200"/>
                    <a:ext cx="70977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D04F-509F-427A-92A1-447C7D277003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0"/>
            <a:ext cx="8713440" cy="4797000"/>
            <a:chOff x="250920" y="0"/>
            <a:chExt cx="8713440" cy="4797000"/>
          </a:xfrm>
        </p:grpSpPr>
        <p:graphicFrame>
          <p:nvGraphicFramePr>
            <p:cNvPr id="72" name="Object 27"/>
            <p:cNvGraphicFramePr/>
            <p:nvPr/>
          </p:nvGraphicFramePr>
          <p:xfrm>
            <a:off x="459360" y="0"/>
            <a:ext cx="3411360" cy="170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Object 2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9360" y="0"/>
                      <a:ext cx="3411360" cy="17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Object 28"/>
            <p:cNvGraphicFramePr/>
            <p:nvPr/>
          </p:nvGraphicFramePr>
          <p:xfrm>
            <a:off x="4412520" y="93960"/>
            <a:ext cx="4551840" cy="191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5" name="Object 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2520" y="93960"/>
                      <a:ext cx="4551840" cy="191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Object 31"/>
            <p:cNvGraphicFramePr/>
            <p:nvPr/>
          </p:nvGraphicFramePr>
          <p:xfrm>
            <a:off x="250920" y="1808280"/>
            <a:ext cx="3695760" cy="298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Object 3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0920" y="1808280"/>
                      <a:ext cx="369576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Object 33"/>
            <p:cNvGraphicFramePr/>
            <p:nvPr/>
          </p:nvGraphicFramePr>
          <p:xfrm>
            <a:off x="5245560" y="2284920"/>
            <a:ext cx="3411360" cy="2135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9" name="Object 3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45560" y="2284920"/>
                      <a:ext cx="3411360" cy="21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0" y="4797360"/>
            <a:ext cx="9144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以先将四个实体集转换成如下的四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体育馆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地址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俱乐部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城市名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运动员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姓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身高，体重，出生日期，位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比赛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I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日期，比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D456-A393-4E0E-89A3-6089EE07B75D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3640" cy="2272680"/>
            <a:chOff x="0" y="0"/>
            <a:chExt cx="9143640" cy="2272680"/>
          </a:xfrm>
        </p:grpSpPr>
        <p:graphicFrame>
          <p:nvGraphicFramePr>
            <p:cNvPr id="85" name="Object 27"/>
            <p:cNvGraphicFramePr/>
            <p:nvPr/>
          </p:nvGraphicFramePr>
          <p:xfrm>
            <a:off x="0" y="187920"/>
            <a:ext cx="2606040" cy="196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Object 2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7920"/>
                      <a:ext cx="2606040" cy="196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28"/>
            <p:cNvGraphicFramePr/>
            <p:nvPr/>
          </p:nvGraphicFramePr>
          <p:xfrm>
            <a:off x="5666400" y="0"/>
            <a:ext cx="3477240" cy="2205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" name="Object 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66400" y="0"/>
                      <a:ext cx="347724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29"/>
            <p:cNvGraphicFramePr/>
            <p:nvPr/>
          </p:nvGraphicFramePr>
          <p:xfrm>
            <a:off x="2031120" y="1292760"/>
            <a:ext cx="4565520" cy="97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0" name="Object 2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31120" y="1292760"/>
                      <a:ext cx="4565520" cy="97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" name=""/>
          <p:cNvSpPr/>
          <p:nvPr/>
        </p:nvSpPr>
        <p:spPr>
          <a:xfrm>
            <a:off x="539640" y="2708280"/>
            <a:ext cx="8209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两个实体集可以分别被转换成如下的两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体育馆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俱乐部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城市名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4766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于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二元联系，在向关系模型进行转换时可以有三种选择。在这里，考虑到现实世界中的实际情况，可以将联系合并到‘俱乐部’关系中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052640"/>
            <a:ext cx="3384720" cy="1368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DDF-EF32-41D3-854E-83E8B6EDA281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9143640" cy="2272680"/>
            <a:chOff x="0" y="0"/>
            <a:chExt cx="9143640" cy="2272680"/>
          </a:xfrm>
        </p:grpSpPr>
        <p:graphicFrame>
          <p:nvGraphicFramePr>
            <p:cNvPr id="98" name="Object 27"/>
            <p:cNvGraphicFramePr/>
            <p:nvPr/>
          </p:nvGraphicFramePr>
          <p:xfrm>
            <a:off x="0" y="187920"/>
            <a:ext cx="2606040" cy="196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Object 2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7920"/>
                      <a:ext cx="2606040" cy="196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28"/>
            <p:cNvGraphicFramePr/>
            <p:nvPr/>
          </p:nvGraphicFramePr>
          <p:xfrm>
            <a:off x="5666400" y="0"/>
            <a:ext cx="3477240" cy="2205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1" name="Object 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66400" y="0"/>
                      <a:ext cx="347724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Object 29"/>
            <p:cNvGraphicFramePr/>
            <p:nvPr/>
          </p:nvGraphicFramePr>
          <p:xfrm>
            <a:off x="2031120" y="1292760"/>
            <a:ext cx="4565520" cy="97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3" name="Object 2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31120" y="1292760"/>
                      <a:ext cx="4565520" cy="97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" name=""/>
          <p:cNvSpPr/>
          <p:nvPr/>
        </p:nvSpPr>
        <p:spPr>
          <a:xfrm>
            <a:off x="539640" y="2708280"/>
            <a:ext cx="820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终的转换结果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体育馆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俱乐部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城市名称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体育馆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C009-476C-4069-BB98-1359D364386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32"/>
          <p:cNvGraphicFramePr/>
          <p:nvPr/>
        </p:nvGraphicFramePr>
        <p:xfrm>
          <a:off x="2340000" y="1197000"/>
          <a:ext cx="4529160" cy="299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4000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4405320"/>
            <a:ext cx="9144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‘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运动员’与‘俱乐部’之间的‘签约’联系，必须被单独转换成如下的一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签约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名称，姓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球衣号码，开始日期，结束日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E40-6270-46DA-B2E4-74ED804CFD0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35"/>
          <p:cNvGraphicFramePr/>
          <p:nvPr/>
        </p:nvGraphicFramePr>
        <p:xfrm>
          <a:off x="1000080" y="3067200"/>
          <a:ext cx="7097760" cy="37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Object 3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3067200"/>
                    <a:ext cx="70977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79640" y="620640"/>
            <a:ext cx="716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同理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运动员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间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参加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联系，也必须被单独转换成一个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00D8-253F-49B7-A555-899A87590F89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76320"/>
            <a:ext cx="4858560" cy="6781320"/>
            <a:chOff x="0" y="76320"/>
            <a:chExt cx="4858560" cy="6781320"/>
          </a:xfrm>
        </p:grpSpPr>
        <p:graphicFrame>
          <p:nvGraphicFramePr>
            <p:cNvPr id="129" name="Object 28"/>
            <p:cNvGraphicFramePr/>
            <p:nvPr/>
          </p:nvGraphicFramePr>
          <p:xfrm>
            <a:off x="0" y="76320"/>
            <a:ext cx="4492440" cy="189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0" name="Object 2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6320"/>
                      <a:ext cx="4492440" cy="189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33"/>
            <p:cNvGraphicFramePr/>
            <p:nvPr/>
          </p:nvGraphicFramePr>
          <p:xfrm>
            <a:off x="1491840" y="4744440"/>
            <a:ext cx="3366720" cy="2113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2" name="Object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91840" y="4744440"/>
                      <a:ext cx="3366720" cy="211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34"/>
            <p:cNvGraphicFramePr/>
            <p:nvPr/>
          </p:nvGraphicFramePr>
          <p:xfrm>
            <a:off x="187920" y="1706760"/>
            <a:ext cx="3928680" cy="380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4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7920" y="1706760"/>
                      <a:ext cx="3928680" cy="380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"/>
          <p:cNvSpPr/>
          <p:nvPr/>
        </p:nvSpPr>
        <p:spPr>
          <a:xfrm>
            <a:off x="4716360" y="620640"/>
            <a:ext cx="4427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俱乐部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间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个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联系，根据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对多’联系的转换方法，可以被合并到同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关系中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3427560"/>
            <a:ext cx="44276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合并后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关系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赛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主队名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客队名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9T15:42:49Z</dcterms:modified>
  <cp:revision>763</cp:revision>
  <dc:subject/>
  <dc:title>PowerPoint Presentation</dc:title>
</cp:coreProperties>
</file>