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A22D-2CD0-41F2-82A6-1709DA43D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36D1-9FCD-4A6F-9920-10661FA41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AA41-F963-4387-8CDB-293C69455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A6A9-3128-44BB-BB65-81CD95AD6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D1C9-639C-4894-8162-6DA7B97FF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F26C-93EA-480B-BAE1-736439EFF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0771-4E11-439A-AA80-CF0358155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8240-9963-4838-8AC8-6449A505E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91A4-467C-41A0-BEFE-547B5EBB5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85A4-C4F5-4628-8119-72C58740C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EE69-C470-4EE9-A658-4B16E2988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E240-2165-4BA8-9B16-64654C191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9BC-9704-49AF-A22C-A0A3E5C2EF64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D352-D638-4F7B-85C3-736B63ECB70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有一个邮件管理数据库，其信息如下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联系人：用户名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（关键字），电话，联系地址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邮件：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如果是一封回信，那么除了上述的邮件信息外，还需要增加一个“被回复邮件的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628640"/>
            <a:ext cx="2490480" cy="2521080"/>
            <a:chOff x="250920" y="1628640"/>
            <a:chExt cx="2490480" cy="2521080"/>
          </a:xfrm>
        </p:grpSpPr>
        <p:sp>
          <p:nvSpPr>
            <p:cNvPr id="44" name=""/>
            <p:cNvSpPr/>
            <p:nvPr/>
          </p:nvSpPr>
          <p:spPr>
            <a:xfrm>
              <a:off x="1707840" y="213372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1628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2276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2995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364500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74560" y="191628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4560" y="256392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474560" y="292428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74560" y="342864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43280" y="620640"/>
            <a:ext cx="3024360" cy="4537080"/>
            <a:chOff x="4643280" y="620640"/>
            <a:chExt cx="3024360" cy="4537080"/>
          </a:xfrm>
        </p:grpSpPr>
        <p:sp>
          <p:nvSpPr>
            <p:cNvPr id="54" name=""/>
            <p:cNvSpPr/>
            <p:nvPr/>
          </p:nvSpPr>
          <p:spPr>
            <a:xfrm>
              <a:off x="5821920" y="21337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5640" y="62064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46512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7640" y="46530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720" y="112536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7640" y="364500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51640" y="364500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56000" y="1421280"/>
            <a:ext cx="3240000" cy="928080"/>
            <a:chOff x="2556000" y="1421280"/>
            <a:chExt cx="3240000" cy="928080"/>
          </a:xfrm>
        </p:grpSpPr>
        <p:sp>
          <p:nvSpPr>
            <p:cNvPr id="62" name=""/>
            <p:cNvSpPr/>
            <p:nvPr/>
          </p:nvSpPr>
          <p:spPr>
            <a:xfrm>
              <a:off x="3276720" y="1421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56000" y="177336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177336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728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544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56000" y="2472120"/>
            <a:ext cx="3240000" cy="732240"/>
            <a:chOff x="2556000" y="2472120"/>
            <a:chExt cx="3240000" cy="732240"/>
          </a:xfrm>
        </p:grpSpPr>
        <p:sp>
          <p:nvSpPr>
            <p:cNvPr id="68" name=""/>
            <p:cNvSpPr/>
            <p:nvPr/>
          </p:nvSpPr>
          <p:spPr>
            <a:xfrm>
              <a:off x="3276720" y="2472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2852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285264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0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2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6000" y="3429000"/>
            <a:ext cx="3240000" cy="891360"/>
            <a:chOff x="2556000" y="3429000"/>
            <a:chExt cx="3240000" cy="891360"/>
          </a:xfrm>
        </p:grpSpPr>
        <p:sp>
          <p:nvSpPr>
            <p:cNvPr id="74" name=""/>
            <p:cNvSpPr/>
            <p:nvPr/>
          </p:nvSpPr>
          <p:spPr>
            <a:xfrm>
              <a:off x="3276720" y="3588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556000" y="342900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859280" y="342900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5600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1987560"/>
            <a:ext cx="2563920" cy="1584360"/>
            <a:chOff x="6443640" y="1987560"/>
            <a:chExt cx="2563920" cy="1584360"/>
          </a:xfrm>
        </p:grpSpPr>
        <p:sp>
          <p:nvSpPr>
            <p:cNvPr id="80" name=""/>
            <p:cNvSpPr/>
            <p:nvPr/>
          </p:nvSpPr>
          <p:spPr>
            <a:xfrm>
              <a:off x="7451640" y="242928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43640" y="24192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43640" y="3213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9640" y="198756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9640" y="32130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77080" y="2421000"/>
            <a:ext cx="503280" cy="790560"/>
            <a:chOff x="6877080" y="2421000"/>
            <a:chExt cx="503280" cy="790560"/>
          </a:xfrm>
        </p:grpSpPr>
        <p:sp>
          <p:nvSpPr>
            <p:cNvPr id="86" name=""/>
            <p:cNvSpPr/>
            <p:nvPr/>
          </p:nvSpPr>
          <p:spPr>
            <a:xfrm>
              <a:off x="6877080" y="2421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7080" y="2924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3528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90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00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108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114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120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126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132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50608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136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46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154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160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166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172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178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0" y="49417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件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297000"/>
            <a:ext cx="2305080" cy="151272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183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93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01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207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213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219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225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494172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ma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1052640"/>
            <a:ext cx="2736720" cy="2016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230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240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48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254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260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266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272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494172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回复邮件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接受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接受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1773360"/>
            <a:ext cx="2305080" cy="1008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277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287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95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301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307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313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319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494172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回复邮件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抄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抄送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2925720"/>
            <a:ext cx="2305080" cy="1008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27T05:33:36Z</dcterms:modified>
  <cp:revision>661</cp:revision>
  <dc:subject/>
  <dc:title>PowerPoint Presentation</dc:title>
</cp:coreProperties>
</file>