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A225-8587-4799-8AF8-160912AD1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9208-E756-48D0-B30E-037A58C8D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72AC-EBD2-4132-A714-175EF6A71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523C-F402-46D7-96E5-1888199883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B8B3-5A8F-4B1F-8219-36C6F35E63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9F53-8C86-41D5-B24D-6671F39FE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BF6F-111D-4F42-9089-A999BDB72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76F0-565E-46A1-8B9F-B8C248A4C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B959-9518-4F3C-A4C1-2AEFE3175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53F0-352F-42B6-8083-BC2B0BD4E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F077-F6EA-4995-9EA6-D0B5385AD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69A2-2397-48AF-A0FC-D375AA075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BD3B-B4E0-47E4-8411-BD82E9CBEE04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9150-7311-4C5C-94E4-29EB22D74536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假设需要建立一个关于某旅行社的旅游信息管理系统，其数据库中的信息有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景点的编号（具有唯一性）和名称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旅游线路的编号（具有唯一性）和线路名称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导游的工号（具有唯一性）和姓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其中：每条线路由多个景点组成，不同线路的景点存在交叉；每条线路有多名导游，但每名导游只负责一条线路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请设计出该数据库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E-R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模型图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68360" y="1197000"/>
            <a:ext cx="2277720" cy="1511280"/>
            <a:chOff x="468360" y="1197000"/>
            <a:chExt cx="2277720" cy="1511280"/>
          </a:xfrm>
        </p:grpSpPr>
        <p:sp>
          <p:nvSpPr>
            <p:cNvPr id="44" name=""/>
            <p:cNvSpPr/>
            <p:nvPr/>
          </p:nvSpPr>
          <p:spPr>
            <a:xfrm>
              <a:off x="2139120" y="119700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景 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8360" y="1339920"/>
              <a:ext cx="1224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0160" y="2060640"/>
              <a:ext cx="1224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92360" y="1627200"/>
              <a:ext cx="432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692360" y="1987200"/>
              <a:ext cx="43200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859280" y="189000"/>
            <a:ext cx="3024360" cy="2522520"/>
            <a:chOff x="4859280" y="189000"/>
            <a:chExt cx="3024360" cy="2522520"/>
          </a:xfrm>
        </p:grpSpPr>
        <p:sp>
          <p:nvSpPr>
            <p:cNvPr id="50" name=""/>
            <p:cNvSpPr/>
            <p:nvPr/>
          </p:nvSpPr>
          <p:spPr>
            <a:xfrm>
              <a:off x="6037560" y="120024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 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59280" y="18900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线路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3640" y="19080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路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443640" y="695520"/>
              <a:ext cx="504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6000" y="695520"/>
              <a:ext cx="50328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771640" y="1538640"/>
            <a:ext cx="3240000" cy="732240"/>
            <a:chOff x="2771640" y="1538640"/>
            <a:chExt cx="3240000" cy="732240"/>
          </a:xfrm>
        </p:grpSpPr>
        <p:sp>
          <p:nvSpPr>
            <p:cNvPr id="56" name=""/>
            <p:cNvSpPr/>
            <p:nvPr/>
          </p:nvSpPr>
          <p:spPr>
            <a:xfrm>
              <a:off x="3492360" y="15386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组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71640" y="19191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74920" y="19191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1600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800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580000" y="2781360"/>
            <a:ext cx="1555560" cy="1871280"/>
            <a:chOff x="5580000" y="2781360"/>
            <a:chExt cx="1555560" cy="1871280"/>
          </a:xfrm>
        </p:grpSpPr>
        <p:sp>
          <p:nvSpPr>
            <p:cNvPr id="62" name=""/>
            <p:cNvSpPr/>
            <p:nvPr/>
          </p:nvSpPr>
          <p:spPr>
            <a:xfrm>
              <a:off x="5580000" y="33008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讲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298920" y="400500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370560" y="2781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2560" y="40784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95640" y="299736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06200" y="6093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788000" y="4628880"/>
            <a:ext cx="3023640" cy="1608480"/>
            <a:chOff x="4788000" y="4628880"/>
            <a:chExt cx="3023640" cy="1608480"/>
          </a:xfrm>
        </p:grpSpPr>
        <p:sp>
          <p:nvSpPr>
            <p:cNvPr id="69" name=""/>
            <p:cNvSpPr/>
            <p:nvPr/>
          </p:nvSpPr>
          <p:spPr>
            <a:xfrm>
              <a:off x="5652720" y="4628880"/>
              <a:ext cx="1295280" cy="59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导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88000" y="573084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工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72000" y="573264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姓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72000" y="5229360"/>
              <a:ext cx="57600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652720" y="5229360"/>
              <a:ext cx="5745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405080" y="1197000"/>
            <a:ext cx="2277000" cy="1511280"/>
            <a:chOff x="1405080" y="1197000"/>
            <a:chExt cx="2277000" cy="1511280"/>
          </a:xfrm>
        </p:grpSpPr>
        <p:sp>
          <p:nvSpPr>
            <p:cNvPr id="75" name=""/>
            <p:cNvSpPr/>
            <p:nvPr/>
          </p:nvSpPr>
          <p:spPr>
            <a:xfrm>
              <a:off x="3075120" y="119700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景 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05080" y="133992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06520" y="206064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28720" y="1627200"/>
              <a:ext cx="4316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628720" y="1987200"/>
              <a:ext cx="43164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796000" y="189000"/>
            <a:ext cx="3023640" cy="2522520"/>
            <a:chOff x="5796000" y="189000"/>
            <a:chExt cx="3023640" cy="2522520"/>
          </a:xfrm>
        </p:grpSpPr>
        <p:sp>
          <p:nvSpPr>
            <p:cNvPr id="81" name=""/>
            <p:cNvSpPr/>
            <p:nvPr/>
          </p:nvSpPr>
          <p:spPr>
            <a:xfrm>
              <a:off x="6973920" y="120024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 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96000" y="189000"/>
              <a:ext cx="1439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线路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80000" y="19080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路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380000" y="695520"/>
              <a:ext cx="5043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32360" y="695520"/>
              <a:ext cx="5029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708360" y="1538640"/>
            <a:ext cx="3240000" cy="732240"/>
            <a:chOff x="3708360" y="1538640"/>
            <a:chExt cx="3240000" cy="732240"/>
          </a:xfrm>
        </p:grpSpPr>
        <p:sp>
          <p:nvSpPr>
            <p:cNvPr id="87" name=""/>
            <p:cNvSpPr/>
            <p:nvPr/>
          </p:nvSpPr>
          <p:spPr>
            <a:xfrm>
              <a:off x="4429080" y="15386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组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08360" y="19191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1640" y="19191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5272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8472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516720" y="2781360"/>
            <a:ext cx="1555560" cy="1871280"/>
            <a:chOff x="6516720" y="2781360"/>
            <a:chExt cx="1555560" cy="1871280"/>
          </a:xfrm>
        </p:grpSpPr>
        <p:sp>
          <p:nvSpPr>
            <p:cNvPr id="93" name=""/>
            <p:cNvSpPr/>
            <p:nvPr/>
          </p:nvSpPr>
          <p:spPr>
            <a:xfrm>
              <a:off x="6516720" y="33008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讲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235640" y="400500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307280" y="2781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59280" y="40784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32360" y="299736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24360" y="4628880"/>
            <a:ext cx="3024360" cy="1608480"/>
            <a:chOff x="5724360" y="4628880"/>
            <a:chExt cx="3024360" cy="1608480"/>
          </a:xfrm>
        </p:grpSpPr>
        <p:sp>
          <p:nvSpPr>
            <p:cNvPr id="99" name=""/>
            <p:cNvSpPr/>
            <p:nvPr/>
          </p:nvSpPr>
          <p:spPr>
            <a:xfrm>
              <a:off x="6589440" y="4628880"/>
              <a:ext cx="1295640" cy="59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导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24360" y="57308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工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08720" y="5732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姓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08720" y="5229360"/>
              <a:ext cx="5763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89440" y="5229360"/>
              <a:ext cx="5749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95280" y="3314880"/>
            <a:ext cx="5256360" cy="240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先将三个实体集转换成如下的三个关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景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景点编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景点名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线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线路编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线路名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导游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工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姓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692360" y="1052640"/>
            <a:ext cx="2277000" cy="1511280"/>
            <a:chOff x="1692360" y="1052640"/>
            <a:chExt cx="2277000" cy="1511280"/>
          </a:xfrm>
        </p:grpSpPr>
        <p:sp>
          <p:nvSpPr>
            <p:cNvPr id="106" name=""/>
            <p:cNvSpPr/>
            <p:nvPr/>
          </p:nvSpPr>
          <p:spPr>
            <a:xfrm>
              <a:off x="3362400" y="105264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景 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92360" y="119556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93800" y="191628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000" y="1482840"/>
              <a:ext cx="4316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916000" y="1842840"/>
              <a:ext cx="43164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083280" y="44280"/>
            <a:ext cx="3024360" cy="2522520"/>
            <a:chOff x="6083280" y="44280"/>
            <a:chExt cx="3024360" cy="2522520"/>
          </a:xfrm>
        </p:grpSpPr>
        <p:sp>
          <p:nvSpPr>
            <p:cNvPr id="112" name=""/>
            <p:cNvSpPr/>
            <p:nvPr/>
          </p:nvSpPr>
          <p:spPr>
            <a:xfrm>
              <a:off x="7261560" y="105552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 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83280" y="4428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线路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7640" y="4608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路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667640" y="550800"/>
              <a:ext cx="504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20000" y="550800"/>
              <a:ext cx="50328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995640" y="1394280"/>
            <a:ext cx="3240000" cy="732240"/>
            <a:chOff x="3995640" y="1394280"/>
            <a:chExt cx="3240000" cy="732240"/>
          </a:xfrm>
        </p:grpSpPr>
        <p:sp>
          <p:nvSpPr>
            <p:cNvPr id="118" name=""/>
            <p:cNvSpPr/>
            <p:nvPr/>
          </p:nvSpPr>
          <p:spPr>
            <a:xfrm>
              <a:off x="4716360" y="139428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组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95640" y="17748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98920" y="177480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0000" y="14144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72000" y="14144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804000" y="2637000"/>
            <a:ext cx="1555560" cy="1871280"/>
            <a:chOff x="6804000" y="2637000"/>
            <a:chExt cx="1555560" cy="1871280"/>
          </a:xfrm>
        </p:grpSpPr>
        <p:sp>
          <p:nvSpPr>
            <p:cNvPr id="124" name=""/>
            <p:cNvSpPr/>
            <p:nvPr/>
          </p:nvSpPr>
          <p:spPr>
            <a:xfrm>
              <a:off x="6804000" y="315648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讲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522920" y="386064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594560" y="263700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46560" y="39340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9640" y="2853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12000" y="4484520"/>
            <a:ext cx="3023640" cy="1608480"/>
            <a:chOff x="6012000" y="4484520"/>
            <a:chExt cx="3023640" cy="1608480"/>
          </a:xfrm>
        </p:grpSpPr>
        <p:sp>
          <p:nvSpPr>
            <p:cNvPr id="130" name=""/>
            <p:cNvSpPr/>
            <p:nvPr/>
          </p:nvSpPr>
          <p:spPr>
            <a:xfrm>
              <a:off x="6876720" y="4484520"/>
              <a:ext cx="1295280" cy="59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导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12000" y="558648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工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96000" y="558828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姓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6000" y="5085000"/>
              <a:ext cx="57600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876720" y="5085000"/>
              <a:ext cx="5745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8000" y="3027240"/>
            <a:ext cx="5834160" cy="240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组成’联系被单独转换成一个关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组成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景点编号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,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线路编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抄送’联系可以被合并到‘导游’关系中去。转换结果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导游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工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姓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线路编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2-28T08:24:13Z</dcterms:modified>
  <cp:revision>661</cp:revision>
  <dc:subject/>
  <dc:title>PowerPoint Presentation</dc:title>
</cp:coreProperties>
</file>