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AB7E3-8A54-454F-B027-0B30528920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7BFBF-B370-4491-9DF3-96B7957825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69347-F8ED-41F9-B8CE-A7D76CB0B3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2AAC0-B649-463D-A864-9637E30153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A8E44-1A06-4C82-95CD-194B956AB3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BFEF3-1A6F-4D27-AE46-478A1A8D4D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95EE0-CE82-46A7-ABA2-87F2BCAE48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B109A-3050-4814-AB94-99F86BE678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DAB28-4A1C-40D9-A2F0-DBCCE236F8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9B0B5-47FB-45C9-B19E-F8F9F979E4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E07B1-8D5A-44BD-AAC8-B966935ECA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D0934-7D6E-4325-AB77-A88EC614D9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94FB-BB30-4951-93B6-C4E0A5F98D45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[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例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5]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假设需要建立一个学校的信息管理系统，其中需要保存的信息有：学生的学号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具有唯一性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，姓名，性别，所在的系和修读的专业；教师的工作证编号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具有唯一性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，姓名，职称和出生日期；课程的编号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具有唯一性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，名称，类别代码和学分数。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其中：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一门课程可以分若干个班上课，每个班有一个主讲教师；学生在选课时必须确定其所选课程的任课教师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即在由该教师担任主讲任务的班级上听课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，系统需要记录学生的选课信息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所选课程以及该课程的主讲教师、选修时间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年份和学期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和成绩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B02BB-2E02-4A58-90F6-88362A0B97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ER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模型的设计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-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设计方案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1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41" name=""/>
          <p:cNvGraphicFramePr/>
          <p:nvPr/>
        </p:nvGraphicFramePr>
        <p:xfrm>
          <a:off x="0" y="990720"/>
          <a:ext cx="914400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AD0D7-498F-4EDF-B342-C681F6E189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ER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模型的设计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-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设计方案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2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-98280" y="1066680"/>
          <a:ext cx="9342360" cy="518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8280" y="1066680"/>
                    <a:ext cx="934236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BB8CE-7B62-479D-A40E-7DC0DF951B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kw</cp:lastModifiedBy>
  <dcterms:modified xsi:type="dcterms:W3CDTF">2011-10-27T05:16:44Z</dcterms:modified>
  <cp:revision>630</cp:revision>
  <dc:subject/>
  <dc:title>PowerPoint Presentation</dc:title>
</cp:coreProperties>
</file>