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01169-3F41-40BC-AA1B-D95E98456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E114-25AE-4FFD-B293-A4405E73F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E21A-BD3F-4BAB-99C7-A3ECC4CC8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6B0F9-9BCC-4BC7-A181-ADB388B467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E544-BBDB-4791-9092-6C353268DD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6EAB-EA6B-49C0-933F-DE2CE806B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F96AC-B217-431E-BF0D-1E8425E29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B007-DEFA-440A-923C-DB28159E8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5478-ADF7-4E5F-AFF8-47068F6B5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7A74F-B986-4C6A-86E8-029F09DE8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E3F9-35E2-493C-8007-6E4E8CDE1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E3DC7-20F3-4FF3-8B63-3D20C3A76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920" y="6597360"/>
            <a:ext cx="61214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7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年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部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IBM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精品课程—版权所有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C)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大学计算机科学与技术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C3E4-DB12-4D62-BAC1-AA1A0790A957}" type="slidenum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页脚占位符 3"/>
          <p:cNvSpPr/>
          <p:nvPr/>
        </p:nvSpPr>
        <p:spPr>
          <a:xfrm>
            <a:off x="34920" y="6597720"/>
            <a:ext cx="6121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7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年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部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IBM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精品课程—版权所有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C)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大学计算机科学与技术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幻灯片编号占位符 4"/>
          <p:cNvSpPr/>
          <p:nvPr/>
        </p:nvSpPr>
        <p:spPr>
          <a:xfrm>
            <a:off x="7162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B0DB-A557-485C-9AA0-E6011584ED1E}" type="slidenum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者的属性有借书证号（具有唯一性，每个读者只能有一个借书证号）、姓名、身份证号、住址、电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版社的属性有出版社名称（具有唯一性）、地址、联系电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其中：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系统需要记录每本图书被借阅的借阅日期和归还日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请用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  <a:ea typeface="宋体"/>
              </a:rPr>
              <a:t>E-R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模型表示该数据库系统的概念模型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4"/>
          <p:cNvSpPr/>
          <p:nvPr/>
        </p:nvSpPr>
        <p:spPr>
          <a:xfrm>
            <a:off x="34920" y="6597720"/>
            <a:ext cx="6121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7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年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部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IBM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精品课程—版权所有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C)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大学计算机科学与技术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幻灯片编号占位符 5"/>
          <p:cNvSpPr/>
          <p:nvPr/>
        </p:nvSpPr>
        <p:spPr>
          <a:xfrm>
            <a:off x="7162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589D-1A20-4CBD-91CF-969B24B42CE8}" type="slidenum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，每个读者只能有一个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、姓名、身份证号、住址、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Freeform 4"/>
          <p:cNvSpPr/>
          <p:nvPr/>
        </p:nvSpPr>
        <p:spPr>
          <a:xfrm>
            <a:off x="900000" y="1844640"/>
            <a:ext cx="6408720" cy="7164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9"/>
          <p:cNvGraphicFramePr/>
          <p:nvPr/>
        </p:nvGraphicFramePr>
        <p:xfrm>
          <a:off x="2195640" y="2133720"/>
          <a:ext cx="475272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4752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4920" y="6597720"/>
            <a:ext cx="6121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7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年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部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IBM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精品课程—版权所有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C)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大学计算机科学与技术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幻灯片编号占位符 5"/>
          <p:cNvSpPr/>
          <p:nvPr/>
        </p:nvSpPr>
        <p:spPr>
          <a:xfrm>
            <a:off x="7162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3E10-F922-4188-8E31-5354BEB144B2}" type="slidenum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，每个读者只能有一个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、姓名、身份证号、住址、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Freeform 4"/>
          <p:cNvSpPr/>
          <p:nvPr/>
        </p:nvSpPr>
        <p:spPr>
          <a:xfrm>
            <a:off x="900000" y="2349360"/>
            <a:ext cx="7920000" cy="7164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826920" y="2795760"/>
            <a:ext cx="7993080" cy="712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11"/>
          <p:cNvGraphicFramePr/>
          <p:nvPr/>
        </p:nvGraphicFramePr>
        <p:xfrm>
          <a:off x="1619280" y="2997360"/>
          <a:ext cx="669780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97360"/>
                    <a:ext cx="669780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4920" y="6597720"/>
            <a:ext cx="6121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7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年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部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IBM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精品课程—版权所有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C)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大学计算机科学与技术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幻灯片编号占位符 5"/>
          <p:cNvSpPr/>
          <p:nvPr/>
        </p:nvSpPr>
        <p:spPr>
          <a:xfrm>
            <a:off x="7162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CA9B-A2EA-4706-97B8-EE32C4D15E19}" type="slidenum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，每个读者只能有一个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、姓名、身份证号、住址、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900000" y="3284640"/>
            <a:ext cx="7920000" cy="712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2195640" y="3933720"/>
          <a:ext cx="554328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933720"/>
                    <a:ext cx="55432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Freeform 6"/>
          <p:cNvSpPr/>
          <p:nvPr/>
        </p:nvSpPr>
        <p:spPr>
          <a:xfrm>
            <a:off x="826920" y="3716280"/>
            <a:ext cx="1513080" cy="7164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4"/>
          <p:cNvSpPr/>
          <p:nvPr/>
        </p:nvSpPr>
        <p:spPr>
          <a:xfrm>
            <a:off x="34920" y="6597720"/>
            <a:ext cx="6121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7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年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部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IBM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精品课程—版权所有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C)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大学计算机科学与技术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幻灯片编号占位符 5"/>
          <p:cNvSpPr/>
          <p:nvPr/>
        </p:nvSpPr>
        <p:spPr>
          <a:xfrm>
            <a:off x="7162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8F47-237C-44B9-A68A-426391227512}" type="slidenum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图书被借阅的借阅日期和归还日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Freeform 4"/>
          <p:cNvSpPr/>
          <p:nvPr/>
        </p:nvSpPr>
        <p:spPr>
          <a:xfrm>
            <a:off x="900000" y="1844640"/>
            <a:ext cx="5759640" cy="7164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8"/>
          <p:cNvGraphicFramePr/>
          <p:nvPr/>
        </p:nvGraphicFramePr>
        <p:xfrm>
          <a:off x="-111240" y="380376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240" y="380376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9"/>
          <p:cNvGraphicFramePr/>
          <p:nvPr/>
        </p:nvGraphicFramePr>
        <p:xfrm>
          <a:off x="4757760" y="3827520"/>
          <a:ext cx="4494240" cy="21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7760" y="3827520"/>
                    <a:ext cx="44942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0"/>
          <p:cNvGraphicFramePr/>
          <p:nvPr/>
        </p:nvGraphicFramePr>
        <p:xfrm>
          <a:off x="2627280" y="5013360"/>
          <a:ext cx="2743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5013360"/>
                    <a:ext cx="2743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Group 11"/>
          <p:cNvGrpSpPr/>
          <p:nvPr/>
        </p:nvGrpSpPr>
        <p:grpSpPr>
          <a:xfrm>
            <a:off x="2631960" y="5175360"/>
            <a:ext cx="2819160" cy="366120"/>
            <a:chOff x="2631960" y="5175360"/>
            <a:chExt cx="2819160" cy="366120"/>
          </a:xfrm>
        </p:grpSpPr>
        <p:sp>
          <p:nvSpPr>
            <p:cNvPr id="79" name="Text Box 12"/>
            <p:cNvSpPr/>
            <p:nvPr/>
          </p:nvSpPr>
          <p:spPr>
            <a:xfrm>
              <a:off x="2631960" y="51753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13"/>
            <p:cNvSpPr/>
            <p:nvPr/>
          </p:nvSpPr>
          <p:spPr>
            <a:xfrm>
              <a:off x="4536720" y="51753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34920" y="6597720"/>
            <a:ext cx="6121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7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年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部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IBM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精品课程—版权所有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C)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大学计算机科学与技术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幻灯片编号占位符 5"/>
          <p:cNvSpPr/>
          <p:nvPr/>
        </p:nvSpPr>
        <p:spPr>
          <a:xfrm>
            <a:off x="7162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0C3C-8449-43F2-9954-D088C1E54EEF}" type="slidenum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900000" y="1628640"/>
            <a:ext cx="7775640" cy="730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11"/>
          <p:cNvSpPr/>
          <p:nvPr/>
        </p:nvSpPr>
        <p:spPr>
          <a:xfrm>
            <a:off x="900000" y="2060640"/>
            <a:ext cx="2808360" cy="730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18"/>
          <p:cNvGraphicFramePr/>
          <p:nvPr/>
        </p:nvGraphicFramePr>
        <p:xfrm>
          <a:off x="-181080" y="285264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285264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20"/>
          <p:cNvGraphicFramePr/>
          <p:nvPr/>
        </p:nvGraphicFramePr>
        <p:xfrm>
          <a:off x="3152880" y="4005360"/>
          <a:ext cx="617220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2880" y="4005360"/>
                    <a:ext cx="61722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Group 49"/>
          <p:cNvGrpSpPr/>
          <p:nvPr/>
        </p:nvGrpSpPr>
        <p:grpSpPr>
          <a:xfrm>
            <a:off x="2627280" y="3429000"/>
            <a:ext cx="3730680" cy="1437840"/>
            <a:chOff x="2627280" y="3429000"/>
            <a:chExt cx="3730680" cy="1437840"/>
          </a:xfrm>
        </p:grpSpPr>
        <p:sp>
          <p:nvSpPr>
            <p:cNvPr id="91" name="AutoShape 26"/>
            <p:cNvSpPr/>
            <p:nvPr/>
          </p:nvSpPr>
          <p:spPr>
            <a:xfrm>
              <a:off x="4140000" y="3429000"/>
              <a:ext cx="1447920" cy="761760"/>
            </a:xfrm>
            <a:prstGeom prst="diamond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 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7"/>
            <p:cNvSpPr/>
            <p:nvPr/>
          </p:nvSpPr>
          <p:spPr>
            <a:xfrm flipV="1">
              <a:off x="2627280" y="3787200"/>
              <a:ext cx="1512720" cy="79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28"/>
            <p:cNvSpPr/>
            <p:nvPr/>
          </p:nvSpPr>
          <p:spPr>
            <a:xfrm>
              <a:off x="5565600" y="3787560"/>
              <a:ext cx="792360" cy="1079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50"/>
          <p:cNvGrpSpPr/>
          <p:nvPr/>
        </p:nvGrpSpPr>
        <p:grpSpPr>
          <a:xfrm>
            <a:off x="3336840" y="3998880"/>
            <a:ext cx="2747880" cy="439200"/>
            <a:chOff x="3336840" y="3998880"/>
            <a:chExt cx="2747880" cy="439200"/>
          </a:xfrm>
        </p:grpSpPr>
        <p:sp>
          <p:nvSpPr>
            <p:cNvPr id="95" name="Text Box 34"/>
            <p:cNvSpPr/>
            <p:nvPr/>
          </p:nvSpPr>
          <p:spPr>
            <a:xfrm>
              <a:off x="3336840" y="40719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5"/>
            <p:cNvSpPr/>
            <p:nvPr/>
          </p:nvSpPr>
          <p:spPr>
            <a:xfrm>
              <a:off x="5170320" y="399888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920" y="115920"/>
            <a:ext cx="90741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图书被借阅的借阅日期和归还日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4920" y="6597720"/>
            <a:ext cx="6121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7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年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部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IBM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精品课程—版权所有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C)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大学计算机科学与技术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幻灯片编号占位符 5"/>
          <p:cNvSpPr/>
          <p:nvPr/>
        </p:nvSpPr>
        <p:spPr>
          <a:xfrm>
            <a:off x="7162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66FD-414A-4277-9FA3-5729CA1B0E18}" type="slidenum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7"/>
          <p:cNvGraphicFramePr/>
          <p:nvPr/>
        </p:nvGraphicFramePr>
        <p:xfrm>
          <a:off x="3132000" y="4005360"/>
          <a:ext cx="61722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005360"/>
                    <a:ext cx="61722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900000" y="2563920"/>
            <a:ext cx="7775640" cy="730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-181080" y="2852640"/>
          <a:ext cx="388620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285264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Group 24"/>
          <p:cNvGrpSpPr/>
          <p:nvPr/>
        </p:nvGrpSpPr>
        <p:grpSpPr>
          <a:xfrm>
            <a:off x="2627280" y="4076640"/>
            <a:ext cx="2881440" cy="942480"/>
            <a:chOff x="2627280" y="4076640"/>
            <a:chExt cx="2881440" cy="942480"/>
          </a:xfrm>
        </p:grpSpPr>
        <p:sp>
          <p:nvSpPr>
            <p:cNvPr id="107" name="AutoShape 9"/>
            <p:cNvSpPr/>
            <p:nvPr/>
          </p:nvSpPr>
          <p:spPr>
            <a:xfrm>
              <a:off x="3419640" y="4076640"/>
              <a:ext cx="1447560" cy="762120"/>
            </a:xfrm>
            <a:prstGeom prst="diamond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 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 flipV="1">
              <a:off x="2627280" y="4436640"/>
              <a:ext cx="8650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4859280" y="4437000"/>
              <a:ext cx="64944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2700360" y="465300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4427640" y="465300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25"/>
          <p:cNvGrpSpPr/>
          <p:nvPr/>
        </p:nvGrpSpPr>
        <p:grpSpPr>
          <a:xfrm>
            <a:off x="3924360" y="2952000"/>
            <a:ext cx="3095640" cy="1340640"/>
            <a:chOff x="3924360" y="2952000"/>
            <a:chExt cx="3095640" cy="1340640"/>
          </a:xfrm>
        </p:grpSpPr>
        <p:sp>
          <p:nvSpPr>
            <p:cNvPr id="113" name="Oval 19"/>
            <p:cNvSpPr/>
            <p:nvPr/>
          </p:nvSpPr>
          <p:spPr>
            <a:xfrm>
              <a:off x="3924360" y="2952000"/>
              <a:ext cx="1830240" cy="61956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借阅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20"/>
            <p:cNvSpPr/>
            <p:nvPr/>
          </p:nvSpPr>
          <p:spPr>
            <a:xfrm>
              <a:off x="5183280" y="3599640"/>
              <a:ext cx="1836720" cy="61956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归还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1"/>
            <p:cNvSpPr/>
            <p:nvPr/>
          </p:nvSpPr>
          <p:spPr>
            <a:xfrm flipV="1">
              <a:off x="4572000" y="4005360"/>
              <a:ext cx="614520" cy="287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2"/>
            <p:cNvSpPr/>
            <p:nvPr/>
          </p:nvSpPr>
          <p:spPr>
            <a:xfrm flipV="1">
              <a:off x="4356000" y="3573000"/>
              <a:ext cx="432000" cy="576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920" y="115920"/>
            <a:ext cx="90741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图书被借阅的借阅日期和归还日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1"/>
          <p:cNvSpPr/>
          <p:nvPr/>
        </p:nvSpPr>
        <p:spPr>
          <a:xfrm>
            <a:off x="34920" y="6597720"/>
            <a:ext cx="6121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7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年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部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IBM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精品课程—版权所有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C)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大学计算机科学与技术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幻灯片编号占位符 2"/>
          <p:cNvSpPr/>
          <p:nvPr/>
        </p:nvSpPr>
        <p:spPr>
          <a:xfrm>
            <a:off x="7162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3361-3A60-408E-AF9D-2C6F24FEE3AE}" type="slidenum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-152280" y="38088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8088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3"/>
          <p:cNvGraphicFramePr/>
          <p:nvPr/>
        </p:nvGraphicFramePr>
        <p:xfrm>
          <a:off x="4716360" y="404640"/>
          <a:ext cx="4494240" cy="214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04640"/>
                    <a:ext cx="449424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4"/>
          <p:cNvGraphicFramePr/>
          <p:nvPr/>
        </p:nvGraphicFramePr>
        <p:xfrm>
          <a:off x="2819520" y="3809880"/>
          <a:ext cx="6172200" cy="289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809880"/>
                    <a:ext cx="6172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6"/>
          <p:cNvGraphicFramePr/>
          <p:nvPr/>
        </p:nvGraphicFramePr>
        <p:xfrm>
          <a:off x="2590920" y="1600200"/>
          <a:ext cx="2743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1600200"/>
                    <a:ext cx="2743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Group 21"/>
          <p:cNvGrpSpPr/>
          <p:nvPr/>
        </p:nvGrpSpPr>
        <p:grpSpPr>
          <a:xfrm>
            <a:off x="2590920" y="1752480"/>
            <a:ext cx="2819160" cy="366120"/>
            <a:chOff x="2590920" y="1752480"/>
            <a:chExt cx="2819160" cy="366120"/>
          </a:xfrm>
        </p:grpSpPr>
        <p:sp>
          <p:nvSpPr>
            <p:cNvPr id="129" name="Text Box 7"/>
            <p:cNvSpPr/>
            <p:nvPr/>
          </p:nvSpPr>
          <p:spPr>
            <a:xfrm>
              <a:off x="2590920" y="175248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4495680" y="175248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18"/>
          <p:cNvGrpSpPr/>
          <p:nvPr/>
        </p:nvGrpSpPr>
        <p:grpSpPr>
          <a:xfrm>
            <a:off x="179280" y="2492280"/>
            <a:ext cx="5025960" cy="2595960"/>
            <a:chOff x="179280" y="2492280"/>
            <a:chExt cx="5025960" cy="2595960"/>
          </a:xfrm>
        </p:grpSpPr>
        <p:sp>
          <p:nvSpPr>
            <p:cNvPr id="132" name="AutoShape 9"/>
            <p:cNvSpPr/>
            <p:nvPr/>
          </p:nvSpPr>
          <p:spPr>
            <a:xfrm>
              <a:off x="2614680" y="3559320"/>
              <a:ext cx="1447560" cy="761760"/>
            </a:xfrm>
            <a:prstGeom prst="diamond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 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1776240" y="2492280"/>
              <a:ext cx="12956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>
              <a:off x="3681360" y="4168800"/>
              <a:ext cx="152388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4"/>
            <p:cNvSpPr/>
            <p:nvPr/>
          </p:nvSpPr>
          <p:spPr>
            <a:xfrm>
              <a:off x="179280" y="3554280"/>
              <a:ext cx="183060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阅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557280" y="4468680"/>
              <a:ext cx="183672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归还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6"/>
            <p:cNvSpPr/>
            <p:nvPr/>
          </p:nvSpPr>
          <p:spPr>
            <a:xfrm>
              <a:off x="1928880" y="3940200"/>
              <a:ext cx="685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 flipV="1">
              <a:off x="2386080" y="4168440"/>
              <a:ext cx="685800" cy="609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2"/>
          <p:cNvGrpSpPr/>
          <p:nvPr/>
        </p:nvGrpSpPr>
        <p:grpSpPr>
          <a:xfrm>
            <a:off x="2556000" y="3157560"/>
            <a:ext cx="2209320" cy="1280520"/>
            <a:chOff x="2556000" y="3157560"/>
            <a:chExt cx="2209320" cy="1280520"/>
          </a:xfrm>
        </p:grpSpPr>
        <p:sp>
          <p:nvSpPr>
            <p:cNvPr id="140" name="Text Box 19"/>
            <p:cNvSpPr/>
            <p:nvPr/>
          </p:nvSpPr>
          <p:spPr>
            <a:xfrm>
              <a:off x="2556000" y="3157560"/>
              <a:ext cx="914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3851280" y="4071960"/>
              <a:ext cx="914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23"/>
          <p:cNvGrpSpPr/>
          <p:nvPr/>
        </p:nvGrpSpPr>
        <p:grpSpPr>
          <a:xfrm>
            <a:off x="468360" y="1052640"/>
            <a:ext cx="7238880" cy="4784760"/>
            <a:chOff x="468360" y="1052640"/>
            <a:chExt cx="7238880" cy="4784760"/>
          </a:xfrm>
        </p:grpSpPr>
        <p:sp>
          <p:nvSpPr>
            <p:cNvPr id="143" name="Text Box 24"/>
            <p:cNvSpPr/>
            <p:nvPr/>
          </p:nvSpPr>
          <p:spPr>
            <a:xfrm>
              <a:off x="468360" y="128124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25"/>
            <p:cNvSpPr/>
            <p:nvPr/>
          </p:nvSpPr>
          <p:spPr>
            <a:xfrm>
              <a:off x="1687680" y="128124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26"/>
            <p:cNvSpPr/>
            <p:nvPr/>
          </p:nvSpPr>
          <p:spPr>
            <a:xfrm>
              <a:off x="5421240" y="1205280"/>
              <a:ext cx="60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7"/>
            <p:cNvSpPr/>
            <p:nvPr/>
          </p:nvSpPr>
          <p:spPr>
            <a:xfrm>
              <a:off x="4202280" y="495468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28"/>
            <p:cNvSpPr/>
            <p:nvPr/>
          </p:nvSpPr>
          <p:spPr>
            <a:xfrm>
              <a:off x="5497560" y="5472360"/>
              <a:ext cx="6094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6564240" y="5472360"/>
              <a:ext cx="60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7021440" y="4786560"/>
              <a:ext cx="60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31"/>
            <p:cNvSpPr/>
            <p:nvPr/>
          </p:nvSpPr>
          <p:spPr>
            <a:xfrm>
              <a:off x="6792840" y="4177080"/>
              <a:ext cx="685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32"/>
            <p:cNvSpPr/>
            <p:nvPr/>
          </p:nvSpPr>
          <p:spPr>
            <a:xfrm>
              <a:off x="6869160" y="105264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33"/>
            <p:cNvSpPr/>
            <p:nvPr/>
          </p:nvSpPr>
          <p:spPr>
            <a:xfrm>
              <a:off x="7097760" y="2135520"/>
              <a:ext cx="6094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34"/>
            <p:cNvSpPr/>
            <p:nvPr/>
          </p:nvSpPr>
          <p:spPr>
            <a:xfrm>
              <a:off x="1992240" y="3430800"/>
              <a:ext cx="60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35"/>
            <p:cNvSpPr/>
            <p:nvPr/>
          </p:nvSpPr>
          <p:spPr>
            <a:xfrm>
              <a:off x="2525760" y="449748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胡伟</cp:lastModifiedBy>
  <dcterms:modified xsi:type="dcterms:W3CDTF">2013-09-02T06:01:09Z</dcterms:modified>
  <cp:revision>714</cp:revision>
  <dc:subject/>
  <dc:title>PowerPoint Presentation</dc:title>
</cp:coreProperties>
</file>