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B8B8-C8AE-4AC5-9F40-DF40D00C4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E016-0DDF-4B16-9573-52C647E70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B7F4-2D87-4C98-AD49-697DEE6EB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DEB7-0455-4DA6-8196-2A346DB09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F39D-6B82-4DA0-83EB-AD1E82B7A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8C33-7AFF-4B3F-9D3B-B5249703D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A3C2-D56F-4D41-A8F4-2686E5BF4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FDFD-4FE5-4F44-9CEB-8DF8B7A79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10EA-68E0-4147-B633-0560B10B6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BEE1-464A-4F5A-AB39-0610D6C2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9F23-E3E0-4290-9268-2B0AC75ED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663E-3761-43AB-878F-699C24C55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6820-CC20-41CD-A4D1-65CE1926BC9F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假设需要建立一个有关俱乐部篮球联赛的信息管理系统，需要保存的信息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俱乐部的名称（具有唯一性）及其所在城市名称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体育馆的名称（具有唯一性）及其地址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篮球运动员的姓名（具有唯一性），出生日期，身高，体重，位置（中锋，前锋或后卫）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8A02-04E5-45D0-B02F-FBE3063449AD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统需要记录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场比赛的主队、客队、比赛时间和最终比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一位球员在每一场比赛中的出场时间、得分、篮板数、助攻次数、抢断次数、失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次数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犯规次数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技术犯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次数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签约俱乐部的时间（开始日期和结束日期）及其球衣号码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F60-77E6-467A-9ED3-0E3E8A1C2B6E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的数据约束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支俱乐部有唯一的一个主体育馆，一个体育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可以用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支俱乐部的主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可以在不同的时间签约不同的俱乐部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请给出该数据库系统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-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模型图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6C72-A5A6-42B8-A4A9-A3B03C494F83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实体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员，俱乐部，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联系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签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员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主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客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员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参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70C-171B-4F5F-B770-7666440E4CF6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19F-040B-4949-A600-DF31CED1D106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7"/>
          <p:cNvGraphicFramePr/>
          <p:nvPr/>
        </p:nvGraphicFramePr>
        <p:xfrm>
          <a:off x="179280" y="200160"/>
          <a:ext cx="366732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0160"/>
                    <a:ext cx="366732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28"/>
          <p:cNvGraphicFramePr/>
          <p:nvPr/>
        </p:nvGraphicFramePr>
        <p:xfrm>
          <a:off x="4140360" y="76320"/>
          <a:ext cx="4932360" cy="22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76320"/>
                    <a:ext cx="493236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1"/>
          <p:cNvGraphicFramePr/>
          <p:nvPr/>
        </p:nvGraphicFramePr>
        <p:xfrm>
          <a:off x="79200" y="2682720"/>
          <a:ext cx="3988080" cy="352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" y="2682720"/>
                    <a:ext cx="398808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3"/>
          <p:cNvGraphicFramePr/>
          <p:nvPr/>
        </p:nvGraphicFramePr>
        <p:xfrm>
          <a:off x="4975200" y="3213000"/>
          <a:ext cx="3686040" cy="251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75200" y="3213000"/>
                    <a:ext cx="36860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DF9B-FAF0-4021-9890-E62D36696131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9"/>
          <p:cNvGraphicFramePr/>
          <p:nvPr/>
        </p:nvGraphicFramePr>
        <p:xfrm>
          <a:off x="1835280" y="476280"/>
          <a:ext cx="504036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5040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2"/>
          <p:cNvGraphicFramePr/>
          <p:nvPr/>
        </p:nvGraphicFramePr>
        <p:xfrm>
          <a:off x="1476360" y="1125360"/>
          <a:ext cx="6480360" cy="446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125360"/>
                    <a:ext cx="6480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Box 12"/>
          <p:cNvSpPr/>
          <p:nvPr/>
        </p:nvSpPr>
        <p:spPr>
          <a:xfrm>
            <a:off x="25092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育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875640" y="692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50920" y="340992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AE8-1A42-43A1-8128-09588732E343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4"/>
          <p:cNvGraphicFramePr/>
          <p:nvPr/>
        </p:nvGraphicFramePr>
        <p:xfrm>
          <a:off x="2411280" y="1125360"/>
          <a:ext cx="39610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25360"/>
                    <a:ext cx="3961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13"/>
          <p:cNvSpPr/>
          <p:nvPr/>
        </p:nvSpPr>
        <p:spPr>
          <a:xfrm>
            <a:off x="349236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492360" y="557064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C3E-6C11-451A-8CE7-04213B68F32B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5"/>
          <p:cNvGraphicFramePr/>
          <p:nvPr/>
        </p:nvGraphicFramePr>
        <p:xfrm>
          <a:off x="-3240" y="1266840"/>
          <a:ext cx="91519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1266840"/>
                    <a:ext cx="91519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13"/>
          <p:cNvSpPr/>
          <p:nvPr/>
        </p:nvSpPr>
        <p:spPr>
          <a:xfrm>
            <a:off x="6875640" y="2330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258920" y="76500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F00-19EE-4D95-8CA0-17B3D6BB2980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7"/>
          <p:cNvGraphicFramePr/>
          <p:nvPr/>
        </p:nvGraphicFramePr>
        <p:xfrm>
          <a:off x="604800" y="200160"/>
          <a:ext cx="23605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00160"/>
                    <a:ext cx="2360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9"/>
          <p:cNvGraphicFramePr/>
          <p:nvPr/>
        </p:nvGraphicFramePr>
        <p:xfrm>
          <a:off x="2444760" y="927000"/>
          <a:ext cx="4135320" cy="6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4760" y="927000"/>
                    <a:ext cx="41353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2"/>
          <p:cNvGraphicFramePr/>
          <p:nvPr/>
        </p:nvGraphicFramePr>
        <p:xfrm>
          <a:off x="2314440" y="1197000"/>
          <a:ext cx="4529160" cy="29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1444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4"/>
          <p:cNvGraphicFramePr/>
          <p:nvPr/>
        </p:nvGraphicFramePr>
        <p:xfrm>
          <a:off x="5869080" y="1322280"/>
          <a:ext cx="2754360" cy="290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9080" y="1322280"/>
                    <a:ext cx="2754360" cy="29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5"/>
          <p:cNvGraphicFramePr/>
          <p:nvPr/>
        </p:nvGraphicFramePr>
        <p:xfrm>
          <a:off x="998640" y="3065400"/>
          <a:ext cx="7102440" cy="371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8640" y="3065400"/>
                    <a:ext cx="710244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胡伟</cp:lastModifiedBy>
  <dcterms:modified xsi:type="dcterms:W3CDTF">2013-09-02T06:02:14Z</dcterms:modified>
  <cp:revision>759</cp:revision>
  <dc:subject/>
  <dc:title>PowerPoint Presentation</dc:title>
</cp:coreProperties>
</file>