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54D9-5B3D-4983-9D5F-75280EE1C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1CD1-292D-4BEF-BAD4-C11B446CC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7D6F-A690-43F0-B6D2-20B56588B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9AFF-6BC4-4749-AD4F-F3C5E3A57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567E-5060-4584-87C1-FCD90B256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448D-EB55-473C-942D-5F8DBCEBC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7727-352A-44B3-BF85-E06580413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4161-E5B6-4373-B87F-980C6CDA1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AB56-22A7-4638-AAE1-FE1AD44F0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D6F5-FB2D-4BC0-8FB4-2B08EA6E1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02F-6CA7-4D0D-9E83-7568A740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6344-7251-4F6F-A6D5-C1F3C29AC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654-A422-4ACD-94A9-7EC969723B5A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705360"/>
            <a:ext cx="5029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3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68BF-1388-4621-BBC9-BA0BB5D9BA5A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0" y="6705720"/>
            <a:ext cx="5029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-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寻找与函数依赖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的最小函数依赖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914400"/>
            <a:ext cx="89154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令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每一个形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依赖替换为如下一组依赖因素为单个属性的函数依赖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每一个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如下的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决定因素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每一个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作如下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属性集的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则用新的函数依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替换原来的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3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7FA-CF4C-4CF6-8719-79776DAC1041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0" y="6705720"/>
            <a:ext cx="5029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-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寻找与函数依赖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价的最小函数依赖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2280" y="990720"/>
            <a:ext cx="89154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每一个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如下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: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–  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属性集的闭包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从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删去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每一组形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定因素相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依赖合并为一个函数依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31T05:40:02Z</dcterms:modified>
  <cp:revision>874</cp:revision>
  <dc:subject/>
  <dc:title>PowerPoint Presentation</dc:title>
</cp:coreProperties>
</file>